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1CAE820-BFF2-4EC1-8985-841CB87E3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Tahoma"/>
              </a:rPr>
              <a:t>Point-To-Point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When one process needs to send a message to another process, Point-To-Point Messaging can be used. However, this may or may not be a one-way relationship. The client to a Messaging system may only send messages, only receive messages, or send and receive messages. At the same time, another client can also send and/or receive messages. In the simplest case, one client is the Sender of the message and the other client is the Receiver of the message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here are two basic types of Point-to-Point Messaging systems. The first one involves a client that directly sends a message to another client. The second and more common implementation is based on the concept of a Message Queue. Such a system is shown in Figure 2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he point to note in Point-to-Point messaging is that, even though there may be multiple Senders of messages, there is only a single Receiver for th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61B0-5FCA-4637-8551-EE24846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A6F0-F3E2-429D-9F53-42811F6C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552D-42E6-4E58-95BA-AD90D20C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1AD2-91EE-4599-976E-76BE857A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0BE-783A-40F4-BF04-402C953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D2F-333C-4D6D-8452-D25882A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408-EF7A-4C87-9E2A-5B4D031E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E051-7837-4100-BE21-E94EE966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CCF6-01F6-4485-AF42-7AF7EB4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9679-95BF-4BD1-9FDB-A0F0BBB1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2C91-A95B-46F7-BD67-C38C807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B5E8-7EA8-45CE-8D07-2135653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9D1-11FC-43A5-A8C3-B57CD9F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4391-0DCE-4E80-ADB7-2B2FCF4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456-C280-4FCF-A4AA-DC3E5C5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0863-FD6A-4A8B-8DEE-45D9DFAD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15C-81C3-4126-81B0-1917F82A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729C-B182-462F-B743-0E80C1C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C261-CA1F-4791-AE87-825F520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D005-B5B0-474E-9FB2-573EBD1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C727-409E-4C3E-919E-6994261A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568E-677A-44EA-A6F1-4628E18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FE13-0237-4F49-8A2C-204E831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D183-0FE4-4982-AB6C-A2D791B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8D9-6D58-4DE9-8205-7AA2AF596CF7}" type="slidenum">
              <a:rPr b="0" lang="en-GB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7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E7A9-8F9E-44D6-8057-5093085BC70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19120" y="1871280"/>
            <a:ext cx="6521400" cy="239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ICOM – M2GI SRR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COM – M2RICM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2760" y="4473360"/>
            <a:ext cx="6892920" cy="18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ara Bouchenak, Didier Donsez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ierre-Yves Gibello, Vania Marangozov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{Sara.Bouchenak, Didier.Donsez}@imag.fr 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{Pierre-Yves.Gibello, Vania.Marangozova}@imag.fr</a:t>
            </a:r>
            <a:br>
              <a:rPr sz="1800"/>
            </a:b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7d"/>
                </a:solidFill>
                <a:latin typeface="Arial"/>
              </a:rPr>
              <a:t>http://www-adele.imag.fr/~donsez/ujf/GICOM/GICOM_ENS</a:t>
            </a:r>
            <a:endParaRPr b="0" lang="en-US" sz="1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5 : Sécurisation des communication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bjectif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écuriser les communications entre eCOM et les brows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uthentification du serveur / Authentification du client administr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écuriser les communications entre les serveurs CORBA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ertificat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HTTP / SS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IIOP / SS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90D5-FADB-4B0C-8DEB-C209BF6268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6 : Sous-système fournisseur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Objectif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Prise de commandes auprès des fournisseurs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ous-système fournisseurs en mode MOM (Message-Oriented Middleware)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ous-système fournisseurs en mode Web Servic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D8F3-BF7A-4A55-B70F-4F7234F5D2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08840" y="2209680"/>
            <a:ext cx="3384360" cy="1752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nisseur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89360" y="2209680"/>
            <a:ext cx="2641320" cy="388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O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sag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440" y="3505320"/>
            <a:ext cx="2063880" cy="1676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Serveur 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1832040" y="4175280"/>
            <a:ext cx="380880" cy="412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4114800"/>
            <a:ext cx="990720" cy="533520"/>
          </a:xfrm>
          <a:prstGeom prst="hexagon">
            <a:avLst>
              <a:gd name="adj" fmla="val 19025"/>
              <a:gd name="vf" fmla="val 11547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B</a:t>
            </a:r>
            <a:br>
              <a:rPr sz="1600"/>
            </a:b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MsgProdu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3"/>
            <a:endCxn id="138" idx="0"/>
          </p:cNvCxnSpPr>
          <p:nvPr/>
        </p:nvCxnSpPr>
        <p:spPr>
          <a:xfrm>
            <a:off x="1218960" y="4381200"/>
            <a:ext cx="4561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1" name=""/>
          <p:cNvSpPr/>
          <p:nvPr/>
        </p:nvSpPr>
        <p:spPr>
          <a:xfrm>
            <a:off x="3219480" y="3276720"/>
            <a:ext cx="1898640" cy="533160"/>
          </a:xfrm>
          <a:prstGeom prst="hexagon">
            <a:avLst>
              <a:gd name="adj" fmla="val 36485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ssage Queue 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021040" y="3543120"/>
            <a:ext cx="1198440" cy="695160"/>
            <a:chOff x="2021040" y="3543120"/>
            <a:chExt cx="1198440" cy="695160"/>
          </a:xfrm>
        </p:grpSpPr>
        <p:sp>
          <p:nvSpPr>
            <p:cNvPr id="143" name=""/>
            <p:cNvSpPr/>
            <p:nvPr/>
          </p:nvSpPr>
          <p:spPr>
            <a:xfrm>
              <a:off x="2311560" y="3733920"/>
              <a:ext cx="65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38" idx="1"/>
              <a:endCxn id="141" idx="1"/>
            </p:cNvCxnSpPr>
            <p:nvPr/>
          </p:nvCxnSpPr>
          <p:spPr>
            <a:xfrm flipH="1" flipV="1" rot="5400000">
              <a:off x="2272320" y="3291480"/>
              <a:ext cx="695520" cy="1198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145" name=""/>
          <p:cNvSpPr/>
          <p:nvPr/>
        </p:nvSpPr>
        <p:spPr>
          <a:xfrm>
            <a:off x="3301920" y="4800600"/>
            <a:ext cx="1898640" cy="533520"/>
          </a:xfrm>
          <a:prstGeom prst="hexagon">
            <a:avLst>
              <a:gd name="adj" fmla="val 36460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ssage Queue 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19960" y="4419720"/>
            <a:ext cx="1280880" cy="647640"/>
            <a:chOff x="2019960" y="4419720"/>
            <a:chExt cx="1280880" cy="647640"/>
          </a:xfrm>
        </p:grpSpPr>
        <p:cxnSp>
          <p:nvCxnSpPr>
            <p:cNvPr id="147" name=""/>
            <p:cNvCxnSpPr>
              <a:stCxn id="138" idx="2"/>
              <a:endCxn id="145" idx="1"/>
            </p:cNvCxnSpPr>
            <p:nvPr/>
          </p:nvCxnSpPr>
          <p:spPr>
            <a:xfrm flipH="1" rot="16200000">
              <a:off x="2387880" y="4154400"/>
              <a:ext cx="545400" cy="1281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2311560" y="4419720"/>
              <a:ext cx="65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778360" y="3182760"/>
            <a:ext cx="1485720" cy="703080"/>
            <a:chOff x="5778360" y="3182760"/>
            <a:chExt cx="1485720" cy="703080"/>
          </a:xfrm>
        </p:grpSpPr>
        <p:sp>
          <p:nvSpPr>
            <p:cNvPr id="150" name=""/>
            <p:cNvSpPr/>
            <p:nvPr/>
          </p:nvSpPr>
          <p:spPr>
            <a:xfrm>
              <a:off x="6040440" y="3484080"/>
              <a:ext cx="349560" cy="100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78360" y="3383640"/>
              <a:ext cx="262080" cy="3013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5400" y="3182760"/>
              <a:ext cx="1048680" cy="703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Dr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117760" y="2971800"/>
            <a:ext cx="990720" cy="571320"/>
            <a:chOff x="5117760" y="2971800"/>
            <a:chExt cx="990720" cy="571320"/>
          </a:xfrm>
        </p:grpSpPr>
        <p:sp>
          <p:nvSpPr>
            <p:cNvPr id="154" name=""/>
            <p:cNvSpPr/>
            <p:nvPr/>
          </p:nvSpPr>
          <p:spPr>
            <a:xfrm>
              <a:off x="5448240" y="2971800"/>
              <a:ext cx="66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1" idx="3"/>
              <a:endCxn id="151" idx="2"/>
            </p:cNvCxnSpPr>
            <p:nvPr/>
          </p:nvCxnSpPr>
          <p:spPr>
            <a:xfrm flipV="1">
              <a:off x="5117760" y="3534480"/>
              <a:ext cx="661320" cy="9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156" name=""/>
          <p:cNvSpPr/>
          <p:nvPr/>
        </p:nvSpPr>
        <p:spPr>
          <a:xfrm>
            <a:off x="7429680" y="3276720"/>
            <a:ext cx="990360" cy="533160"/>
          </a:xfrm>
          <a:prstGeom prst="hexagon">
            <a:avLst>
              <a:gd name="adj" fmla="val 19031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67720" y="3048120"/>
            <a:ext cx="696960" cy="83808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4267080"/>
            <a:ext cx="3384360" cy="1752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nisseur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78360" y="5240160"/>
            <a:ext cx="1485720" cy="703080"/>
            <a:chOff x="5778360" y="5240160"/>
            <a:chExt cx="1485720" cy="703080"/>
          </a:xfrm>
        </p:grpSpPr>
        <p:sp>
          <p:nvSpPr>
            <p:cNvPr id="160" name=""/>
            <p:cNvSpPr/>
            <p:nvPr/>
          </p:nvSpPr>
          <p:spPr>
            <a:xfrm>
              <a:off x="6040440" y="5541480"/>
              <a:ext cx="349560" cy="100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78360" y="5441040"/>
              <a:ext cx="262080" cy="3013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15400" y="5240160"/>
              <a:ext cx="1048680" cy="703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Dr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429680" y="5334120"/>
            <a:ext cx="990360" cy="533160"/>
          </a:xfrm>
          <a:prstGeom prst="hexagon">
            <a:avLst>
              <a:gd name="adj" fmla="val 19031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67720" y="5105520"/>
            <a:ext cx="696960" cy="83808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00200" y="4724280"/>
            <a:ext cx="908280" cy="762480"/>
            <a:chOff x="5200200" y="4724280"/>
            <a:chExt cx="908280" cy="762480"/>
          </a:xfrm>
        </p:grpSpPr>
        <p:sp>
          <p:nvSpPr>
            <p:cNvPr id="166" name=""/>
            <p:cNvSpPr/>
            <p:nvPr/>
          </p:nvSpPr>
          <p:spPr>
            <a:xfrm>
              <a:off x="5448240" y="4724280"/>
              <a:ext cx="66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5" idx="3"/>
              <a:endCxn id="161" idx="1"/>
            </p:cNvCxnSpPr>
            <p:nvPr/>
          </p:nvCxnSpPr>
          <p:spPr>
            <a:xfrm>
              <a:off x="5200200" y="5067360"/>
              <a:ext cx="616680" cy="419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6a : Sous-système fournisseur</a:t>
            </a: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n mode MOM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44A8-D548-4F0C-9542-8BC6B818B7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870440" y="1523880"/>
            <a:ext cx="4788000" cy="388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b Service Fournisseu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133720"/>
            <a:ext cx="1238400" cy="304776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omcat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pache/SO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22760" y="4114800"/>
            <a:ext cx="1402560" cy="533160"/>
            <a:chOff x="4622760" y="4114800"/>
            <a:chExt cx="1402560" cy="533160"/>
          </a:xfrm>
        </p:grpSpPr>
        <p:sp>
          <p:nvSpPr>
            <p:cNvPr id="172" name=""/>
            <p:cNvSpPr/>
            <p:nvPr/>
          </p:nvSpPr>
          <p:spPr>
            <a:xfrm>
              <a:off x="4870080" y="4343400"/>
              <a:ext cx="330120" cy="75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22760" y="4267080"/>
              <a:ext cx="247320" cy="22860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35320" y="4114800"/>
              <a:ext cx="990000" cy="53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8585280" y="2666880"/>
            <a:ext cx="990360" cy="2057400"/>
          </a:xfrm>
          <a:prstGeom prst="can">
            <a:avLst>
              <a:gd name="adj" fmla="val 19444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2240" y="3809880"/>
            <a:ext cx="743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21400" y="2133720"/>
            <a:ext cx="1155600" cy="304776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J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46880" y="2895480"/>
            <a:ext cx="15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2971800"/>
            <a:ext cx="990720" cy="533520"/>
          </a:xfrm>
          <a:prstGeom prst="hexagon">
            <a:avLst>
              <a:gd name="adj" fmla="val 19025"/>
              <a:gd name="vf" fmla="val 1154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3840" y="3733920"/>
            <a:ext cx="990720" cy="533160"/>
          </a:xfrm>
          <a:prstGeom prst="hexagon">
            <a:avLst>
              <a:gd name="adj" fmla="val 19038"/>
              <a:gd name="vf" fmla="val 115470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3840" y="4495680"/>
            <a:ext cx="990720" cy="533520"/>
          </a:xfrm>
          <a:prstGeom prst="hexagon">
            <a:avLst>
              <a:gd name="adj" fmla="val 19025"/>
              <a:gd name="vf" fmla="val 115470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22760" y="3200400"/>
            <a:ext cx="1402560" cy="533160"/>
            <a:chOff x="4622760" y="3200400"/>
            <a:chExt cx="1402560" cy="533160"/>
          </a:xfrm>
        </p:grpSpPr>
        <p:sp>
          <p:nvSpPr>
            <p:cNvPr id="183" name=""/>
            <p:cNvSpPr/>
            <p:nvPr/>
          </p:nvSpPr>
          <p:spPr>
            <a:xfrm>
              <a:off x="4870080" y="3429000"/>
              <a:ext cx="330120" cy="7596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22760" y="3352680"/>
              <a:ext cx="247320" cy="22860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35320" y="3200400"/>
              <a:ext cx="990000" cy="533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6026040" y="3276360"/>
            <a:ext cx="57780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6040" y="4419720"/>
            <a:ext cx="57780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680" y="2438280"/>
            <a:ext cx="2394000" cy="388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Serveur G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161800" y="4250880"/>
            <a:ext cx="381240" cy="412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6080" y="3429000"/>
            <a:ext cx="990360" cy="533520"/>
          </a:xfrm>
          <a:prstGeom prst="flowChartDocumen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4191120"/>
            <a:ext cx="990720" cy="533160"/>
          </a:xfrm>
          <a:prstGeom prst="hexagon">
            <a:avLst>
              <a:gd name="adj" fmla="val 19038"/>
              <a:gd name="vf" fmla="val 11547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3"/>
            <a:endCxn id="189" idx="0"/>
          </p:cNvCxnSpPr>
          <p:nvPr/>
        </p:nvCxnSpPr>
        <p:spPr>
          <a:xfrm>
            <a:off x="1371240" y="4457520"/>
            <a:ext cx="6087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3" name=""/>
          <p:cNvSpPr/>
          <p:nvPr/>
        </p:nvSpPr>
        <p:spPr>
          <a:xfrm>
            <a:off x="2806560" y="38862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AP over 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86080" y="4876920"/>
            <a:ext cx="165096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9" idx="1"/>
            <a:endCxn id="173" idx="2"/>
          </p:cNvCxnSpPr>
          <p:nvPr/>
        </p:nvCxnSpPr>
        <p:spPr>
          <a:xfrm flipV="1">
            <a:off x="2073960" y="4381560"/>
            <a:ext cx="2192760" cy="76680"/>
          </a:xfrm>
          <a:prstGeom prst="curvedConnector5">
            <a:avLst>
              <a:gd name="adj1" fmla="val 47569"/>
              <a:gd name="adj2" fmla="val 5188"/>
              <a:gd name="adj3" fmla="val 47569"/>
            </a:avLst>
          </a:prstGeom>
          <a:ln w="38160">
            <a:solidFill>
              <a:srgbClr val="000000"/>
            </a:solidFill>
            <a:prstDash val="sysDot"/>
            <a:miter/>
            <a:tailEnd len="lg" type="stealth" w="med"/>
          </a:ln>
        </p:spPr>
      </p:cxnSp>
      <p:sp>
        <p:nvSpPr>
          <p:cNvPr id="196" name=""/>
          <p:cNvSpPr/>
          <p:nvPr/>
        </p:nvSpPr>
        <p:spPr>
          <a:xfrm rot="16200000">
            <a:off x="2162160" y="5470560"/>
            <a:ext cx="380880" cy="412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360" y="5410080"/>
            <a:ext cx="990720" cy="533520"/>
          </a:xfrm>
          <a:prstGeom prst="hexagon">
            <a:avLst>
              <a:gd name="adj" fmla="val 19025"/>
              <a:gd name="vf" fmla="val 11547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3"/>
            <a:endCxn id="196" idx="0"/>
          </p:cNvCxnSpPr>
          <p:nvPr/>
        </p:nvCxnSpPr>
        <p:spPr>
          <a:xfrm>
            <a:off x="1371240" y="5676480"/>
            <a:ext cx="6087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9" name=""/>
          <p:cNvCxnSpPr/>
          <p:nvPr/>
        </p:nvCxnSpPr>
        <p:spPr>
          <a:xfrm>
            <a:off x="2209680" y="5638680"/>
            <a:ext cx="2286720" cy="610560"/>
          </a:xfrm>
          <a:prstGeom prst="curvedConnector5">
            <a:avLst>
              <a:gd name="adj1" fmla="val 49992"/>
              <a:gd name="adj2" fmla="val 49970"/>
              <a:gd name="adj3" fmla="val 49992"/>
            </a:avLst>
          </a:prstGeom>
          <a:ln w="38160">
            <a:solidFill>
              <a:srgbClr val="000000"/>
            </a:solidFill>
            <a:prstDash val="sysDot"/>
            <a:miter/>
            <a:tailEnd len="lg" type="stealth" w="med"/>
          </a:ln>
        </p:spPr>
      </p:cxnSp>
      <p:sp>
        <p:nvSpPr>
          <p:cNvPr id="200" name=""/>
          <p:cNvSpPr/>
          <p:nvPr/>
        </p:nvSpPr>
        <p:spPr>
          <a:xfrm>
            <a:off x="4870440" y="5691240"/>
            <a:ext cx="4788000" cy="693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b Service Fournisseu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6b : Sous-système fournisseur</a:t>
            </a: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n mode Web Servic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E92A-562B-493F-A2D5-837578CD80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ning de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ara Bouchenak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ous-système bancai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ous-système bancaire persistan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ous-système bancaire persistant et fiabl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idier Donsez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COM étendu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t intégration du sous système bancai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écurisation des communication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ous-système fournisseu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EB76-B4EB-4D6E-9E9C-E9A2CC5B7A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Présentation de CORBA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Présentation du sous-système bancaire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Organisation et méthodologie de travai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CC06-C1AF-49D2-98D8-B54D6DC0FB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Qu’est-ce que CORBA 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ORBA (Common Object Request Broker Architecture)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Un middleware (une plate-forme) pour l’exécution d’applications réparti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825560" y="3591000"/>
            <a:ext cx="590868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9AE1-3CC7-48BB-B6FA-2FFFA790CE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tivations de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Arial"/>
              </a:rPr>
              <a:t>Répartition</a:t>
            </a: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. Abstractions nécessaires à une gestion transparente de la répartition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Arial"/>
              </a:rPr>
              <a:t>Hétérogénéité</a:t>
            </a: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. Cacher l’hétérogénéité des systèmes sous-jacents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Réseau : Ethernet, ATM, Token ring, etc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Architecture : x86, Sparc, etc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ystème d’exploitation : Unix, Windows, Solaris, etc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Langage de programmation des applications : C, COBOL, Ada, Smalltalk, C++, Java, C#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BF89-F738-46AD-AF87-62FDCB4268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erminologie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823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Objet CORBA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Une entité qui peut être localisée par un ORB et sur laquelle des requêtes peuvent être invoquées.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Requête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Une opération qui peut être invoquée sur un objet CORBA.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Clien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Une entité qui invoque une requête sur un objet CORBA, localisé ou non sur le même site que le client.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Serveur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Une application dans laquelle des objets CORBA existent.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Servan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Implantation / représentation concrète d’un objet CORBA dans un serveur. On dit qu’un servant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incarne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un objet CORBA.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7d"/>
                </a:solidFill>
                <a:latin typeface="Arial"/>
              </a:rPr>
              <a:t>Référence d’obje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. Information qui permet d’identifier, de localiser et d’accéder à un objet CORBA (IOR: Interoperable Object Reference)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ECDC-5C52-4427-A1CB-759B2EFD57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IDL (Interface Definition Language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ient invoque une requête sur un objet CORBA réparti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Wingdings"/>
                <a:ea typeface="Wingdings"/>
              </a:rPr>
              <a:t></a:t>
            </a: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 Connaître l’interface fournie par l’objet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IDL :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finition de l’interface d’objets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Indépendamment de tout langage de programm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pécification de l’IDL : http://www.omg.or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E229-4E09-4B43-AB1E-BDF10323AF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appel du projet e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77920" y="1795320"/>
            <a:ext cx="7381800" cy="45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2EBE-FDBF-4D81-9103-E5F372C860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Exemple d’IDL pour </a:t>
            </a:r>
            <a:r>
              <a:rPr b="0" i="1" lang="fr-FR" sz="4400" spc="-1" strike="noStrike">
                <a:solidFill>
                  <a:srgbClr val="00007d"/>
                </a:solidFill>
                <a:latin typeface="Arial"/>
              </a:rPr>
              <a:t>Hello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99400" y="2170440"/>
            <a:ext cx="5124240" cy="35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ule HelloApp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urier New"/>
              </a:rPr>
              <a:t>interfac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Hello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sayHello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urier New"/>
              </a:rPr>
              <a:t>i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ring name);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urier New"/>
              </a:rPr>
              <a:t>oneway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void </a:t>
            </a: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807160" y="3281400"/>
            <a:ext cx="4141800" cy="901440"/>
            <a:chOff x="5807160" y="3281400"/>
            <a:chExt cx="4141800" cy="901440"/>
          </a:xfrm>
        </p:grpSpPr>
        <p:sp>
          <p:nvSpPr>
            <p:cNvPr id="218" name=""/>
            <p:cNvSpPr/>
            <p:nvPr/>
          </p:nvSpPr>
          <p:spPr>
            <a:xfrm>
              <a:off x="5967360" y="3657600"/>
              <a:ext cx="928800" cy="378000"/>
            </a:xfrm>
            <a:prstGeom prst="rightArrow">
              <a:avLst>
                <a:gd name="adj1" fmla="val 50000"/>
                <a:gd name="adj2" fmla="val 614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66000" y="3490920"/>
              <a:ext cx="29829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Code du talon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Code du squelette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7160" y="328140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pilation ID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3224-6D5D-4DE2-B4B3-D58789CA05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9104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Talon (</a:t>
            </a:r>
            <a:r>
              <a:rPr b="0" i="1" lang="fr-FR" sz="4400" spc="-1" strike="noStrike">
                <a:solidFill>
                  <a:srgbClr val="00007d"/>
                </a:solidFill>
                <a:latin typeface="Arial"/>
              </a:rPr>
              <a:t>stub</a:t>
            </a: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) / Squelette (</a:t>
            </a:r>
            <a:r>
              <a:rPr b="0" i="1" lang="fr-FR" sz="4400" spc="-1" strike="noStrike">
                <a:solidFill>
                  <a:srgbClr val="00007d"/>
                </a:solidFill>
                <a:latin typeface="Arial"/>
              </a:rPr>
              <a:t>skeleton</a:t>
            </a: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) : 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Gestion de la réparti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8280" y="2084400"/>
            <a:ext cx="8540640" cy="3561840"/>
            <a:chOff x="638280" y="2084400"/>
            <a:chExt cx="8540640" cy="3561840"/>
          </a:xfrm>
        </p:grpSpPr>
        <p:sp>
          <p:nvSpPr>
            <p:cNvPr id="224" name=""/>
            <p:cNvSpPr/>
            <p:nvPr/>
          </p:nvSpPr>
          <p:spPr>
            <a:xfrm>
              <a:off x="709560" y="2511000"/>
              <a:ext cx="3673800" cy="313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5040" y="3916080"/>
              <a:ext cx="1439640" cy="143964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Object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1120" y="2838240"/>
              <a:ext cx="1440000" cy="1439280"/>
            </a:xfrm>
            <a:prstGeom prst="flowChartConnector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280" y="208872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05480" y="2506320"/>
              <a:ext cx="3673440" cy="313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543800" y="3911400"/>
              <a:ext cx="1440000" cy="143928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697000" y="2833560"/>
              <a:ext cx="1439640" cy="1439280"/>
            </a:xfrm>
            <a:prstGeom prst="flowChartConnector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34200" y="208440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 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217960" y="3901680"/>
              <a:ext cx="595080" cy="32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72560" y="3911400"/>
              <a:ext cx="595080" cy="32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480" y="3525480"/>
              <a:ext cx="29052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800" y="3466800"/>
              <a:ext cx="11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sayHello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4560" y="4214520"/>
              <a:ext cx="11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sayHello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45560" y="3662280"/>
              <a:ext cx="11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sayHello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2560" y="3306600"/>
              <a:ext cx="1509840" cy="509040"/>
            </a:xfrm>
            <a:custGeom>
              <a:avLst/>
              <a:gdLst/>
              <a:ahLst/>
              <a:rect l="l" t="t" r="r" b="b"/>
              <a:pathLst>
                <a:path w="951" h="321">
                  <a:moveTo>
                    <a:pt x="0" y="138"/>
                  </a:moveTo>
                  <a:cubicBezTo>
                    <a:pt x="41" y="229"/>
                    <a:pt x="82" y="321"/>
                    <a:pt x="192" y="303"/>
                  </a:cubicBezTo>
                  <a:cubicBezTo>
                    <a:pt x="302" y="285"/>
                    <a:pt x="532" y="58"/>
                    <a:pt x="658" y="29"/>
                  </a:cubicBezTo>
                  <a:cubicBezTo>
                    <a:pt x="784" y="0"/>
                    <a:pt x="867" y="64"/>
                    <a:pt x="951" y="12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81560" y="3072960"/>
              <a:ext cx="11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sayHello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ED7B-006C-416B-855D-C1AB1B5B56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’une application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366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terminer les objets répartis (objets CORBA) de l’application et définir leurs interfaces en ID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ompiler l’IDL vers un langage de programmation pour produire des talons clients / squelettes serveu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les classes des servants qui incarnent les objets CORBA défini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et compiler le programme principal du serv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et compiler le programme clie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B786-CFF7-4197-821F-D4265D8D29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e l’application Hello (1 / 5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terminer les objets répartis : objets CORBA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finir leurs interfaces en IDL : fichier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Hello.id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62200" y="3551400"/>
            <a:ext cx="6257880" cy="27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8BFA-5FDE-406D-819A-D1C5C5E644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e l’application Hello (2 / 5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mpiler l’IDL vers un langage de programm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tilisation du compilateur IDL/Java fourni par le Java CORBA du J2SDK 1.4 : commande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idlj Hello.idl</a:t>
            </a:r>
            <a:br>
              <a:rPr sz="2000"/>
            </a:b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lasses produites par le compilateur ID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interface Java correspondant à l'interface IDL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HelloOperations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interface d'un objet distribué CORBA ayant pour interface IDL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HelloPOA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classe abstraite définissant le squelette d'accès à un objet distribué CORBA d'interfac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HelloHelper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classe gérant la création de talons pour les objets distribués CORBA d'interfac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_HelloStub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classe définissant le talon associé à un objet distribué d'interfac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B0D7-351E-4D58-9177-D3B63721D5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e l’application Hello (3 / 5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307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crire la classe du servant qui incarne l’objet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9360" y="2652840"/>
            <a:ext cx="4678560" cy="360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HelloServant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extends HelloPOA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rivate ORB orb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private String langu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// constructo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public HelloServant(String language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ORB orb)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this.language = language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this.orb      = orb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hutdown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if (orb != null)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orb.shutdown(false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6720" y="2662200"/>
            <a:ext cx="4577040" cy="3610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ayHello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String name)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if (language.equals("fr"))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return "\nSalut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 else if (language.equals("it"))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turn "\nCiao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 else if (language.equals("es"))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turn "\nHola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}else if(language.equals("en-us"))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turn "\nHi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 else if (language.equals("de"))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turn "\nHallo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 else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turn "\nHello " + name + " !!\n"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D06F-2FFC-4DD2-ACF9-FD7BB60F53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e l’application Hello (4 / 5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crire et compiler le programme principal du serv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680" y="2508120"/>
            <a:ext cx="4737240" cy="3884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HelloServer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Create and initialize the ORB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ORB orb = ORB.init(args, nul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Reference to rootpoa,activate POAManage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ORBA.Object poa_ref = orb.resolve_   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itial_references("RootPOA");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POA rootpoa = POAHelper.narrow(poa_ref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ootpoa.the_POAManager().activa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Create servant and register it in ORB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Servant helloServant =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new HelloServant("en-us", orb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Get object reference from the serva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ORBA.Object ref = rootpoa.servant_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o_reference(helloServant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 href = HelloHelper.narrow(re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2517840"/>
            <a:ext cx="4648320" cy="388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bindingname = args[1]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Get the root naming contex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ORBA.Object nsRef = orb.resolve_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itial_references("NameService"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// Use NamingContextExt (INS spec.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NamingContextExt ncRef = 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NamingContextExtHelper.narrow(nsRe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Bind the Object Reference in Naming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NameComponent path[] = ncRef.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o_name(bindingname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ncRef.rebind(path, hre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Wait for invocations from client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System.out.println("HelloServer ready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and waiting ..."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orb.ru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2DC3-1409-42ED-8513-1D6F5545E9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e développement de l’application Hello (5 / 5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crire et compiler le programme principal du clie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680" y="2651040"/>
            <a:ext cx="4737240" cy="3348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HelloClient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Create and initialize the ORB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ORB orb = ORB.init(args, nul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Get the root naming contex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ORBA.Object ncoRef = orb.resolve_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itial_references("NameService"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Use NamingContextExt (INS spec.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NamingContextExt ncRef =  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NamingContextExtHelper.narrow(ncoRe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2660760"/>
            <a:ext cx="4648320" cy="3348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Resolve the Object Reference in Naming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String bindingname = args[1]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ORBA.Object objRef = ncRef.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solve_str(bindingname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 hello = HelloHelper.narrow(objRe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Request methods on the CORBA objec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System.out.println("Obtained a handle 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erver object: " + hello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System.out.println(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hello.sayHello("World")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.shutdow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6E1E-EBA8-4020-A99E-31E9B8DE69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POA (Portable Object Adapter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4000" y="1633680"/>
            <a:ext cx="6968880" cy="4654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375680" y="2538360"/>
            <a:ext cx="2408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ôle du PO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réer les références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d’ob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ctiver les ob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ransmettre les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requêtes aux 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ser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03B1-A083-4EA5-AEF8-7329064AAD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ycles de vie d’un objet CORBA et d’un serva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8120" y="3656160"/>
            <a:ext cx="1711440" cy="113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-ex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37640" y="3592440"/>
            <a:ext cx="1711080" cy="113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-ex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39960" y="3090960"/>
            <a:ext cx="2540160" cy="446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ant Incar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82760" y="2436840"/>
            <a:ext cx="3294360" cy="130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45640" y="4543560"/>
            <a:ext cx="2816280" cy="446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ant Ethere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309840" y="4232160"/>
            <a:ext cx="3221280" cy="130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De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84320" y="1674720"/>
            <a:ext cx="3962520" cy="456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08400" y="181440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62520" y="365760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9240" y="364968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81240" y="3852720"/>
            <a:ext cx="9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32360" y="3844800"/>
            <a:ext cx="10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16280" y="4035600"/>
            <a:ext cx="97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73840" y="3941640"/>
            <a:ext cx="107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8120" y="3660840"/>
            <a:ext cx="10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62680" y="3598920"/>
            <a:ext cx="113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399B-5151-4023-903A-43D3A022F0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rchitecture globale de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5800" y="1506600"/>
            <a:ext cx="66009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1035-0EB2-4894-8C06-D16D681F0D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s d’activation d’objets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Mode implicite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La création d’une référence d’objet CORBA auprès d’un POA entraîne automatiquement l’activation de l’objet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Mode explicite 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Le programmeur doit explicitement activer un objet CORBA auprès d’un PO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PortableServer.POA.activate_objec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PortableServer.POA.activate_object_with_id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B643-FA90-495A-B1E2-971512CB17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ication d’un objet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81600" y="2158920"/>
            <a:ext cx="2879640" cy="2698920"/>
            <a:chOff x="3981600" y="2158920"/>
            <a:chExt cx="2879640" cy="2698920"/>
          </a:xfrm>
        </p:grpSpPr>
        <p:grpSp>
          <p:nvGrpSpPr>
            <p:cNvPr id="285" name=""/>
            <p:cNvGrpSpPr/>
            <p:nvPr/>
          </p:nvGrpSpPr>
          <p:grpSpPr>
            <a:xfrm>
              <a:off x="3981600" y="2158920"/>
              <a:ext cx="1439640" cy="2698920"/>
              <a:chOff x="3981600" y="2158920"/>
              <a:chExt cx="1439640" cy="2698920"/>
            </a:xfrm>
          </p:grpSpPr>
          <p:sp>
            <p:nvSpPr>
              <p:cNvPr id="286" name=""/>
              <p:cNvSpPr/>
              <p:nvPr/>
            </p:nvSpPr>
            <p:spPr>
              <a:xfrm>
                <a:off x="3981600" y="3238560"/>
                <a:ext cx="1439640" cy="539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Object 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81600" y="2158920"/>
                <a:ext cx="1439640" cy="2698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81600" y="2698920"/>
                <a:ext cx="14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981600" y="3238560"/>
                <a:ext cx="14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81600" y="3778200"/>
                <a:ext cx="14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81600" y="4317840"/>
                <a:ext cx="14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421240" y="2158920"/>
              <a:ext cx="1440000" cy="2698920"/>
              <a:chOff x="5421240" y="2158920"/>
              <a:chExt cx="1440000" cy="2698920"/>
            </a:xfrm>
          </p:grpSpPr>
          <p:sp>
            <p:nvSpPr>
              <p:cNvPr id="293" name=""/>
              <p:cNvSpPr/>
              <p:nvPr/>
            </p:nvSpPr>
            <p:spPr>
              <a:xfrm>
                <a:off x="5421240" y="3238560"/>
                <a:ext cx="14400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ant Poin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21240" y="2158920"/>
                <a:ext cx="1440000" cy="2698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21240" y="269892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21240" y="323856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21240" y="377820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21240" y="431784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179280" y="3957480"/>
            <a:ext cx="3098880" cy="5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3957480"/>
            <a:ext cx="1079640" cy="54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480" y="4572000"/>
            <a:ext cx="19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36760" y="2297160"/>
            <a:ext cx="1407960" cy="539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247400" y="2800440"/>
            <a:ext cx="189000" cy="1162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322000" y="2844720"/>
            <a:ext cx="522360" cy="1117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4720" y="2830680"/>
            <a:ext cx="2583000" cy="40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22360" y="2830680"/>
            <a:ext cx="2554200" cy="40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6040" y="494172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A Active Object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77280" y="2178000"/>
            <a:ext cx="59508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21680" y="3316320"/>
            <a:ext cx="59544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88280" y="3876840"/>
            <a:ext cx="59508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48520" y="4405320"/>
            <a:ext cx="59544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5920" y="3541680"/>
            <a:ext cx="1363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94360" y="4064040"/>
            <a:ext cx="50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0320" y="4557600"/>
            <a:ext cx="117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80320" y="23652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91600" y="38307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671D-1333-49A9-9869-0B0624CFF2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èles d’implantation d’un objet distribué CORB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odèle par héritage 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’implantation de l’objet CORBA (le servant) hérite du squelette serveur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odèle par délégation 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’implantation de l’objet CORBA (le servant) est un délégué associé au squelette serv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FAC3-B9AE-4908-8609-DFFA711E81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pplication Hello selon le modèle par délég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mpiler l’IDL vers un langage de programm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tilisation du compilateur IDL/Java : commande </a:t>
            </a:r>
            <a:br>
              <a:rPr sz="2000"/>
            </a:b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idlj - tie Hello.idl</a:t>
            </a:r>
            <a:br>
              <a:rPr sz="2000"/>
            </a:b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lasses générées par le compilateur IDL : une classe supplémentaire par rapport au modèle par héritag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Arial"/>
              </a:rPr>
              <a:t>HelloPOATi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: classe implantant le squelette associé aux objets d’interfac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.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e squelette utilise un objet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elloServantTi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comme délégué.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9360" y="5164200"/>
            <a:ext cx="3646440" cy="11286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HelloServantTie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extends HelloOperations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97160" y="5148360"/>
            <a:ext cx="5405760" cy="1171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HelloServer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// Create serva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ServantTie hello = new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HelloServantTie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"en-us"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HelloPOATie helloServant = new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HelloPOATie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hell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9C3E-E6BD-48B3-A25E-A587739002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pplication Hello : 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héritage vs. délég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95520" y="2220840"/>
            <a:ext cx="2322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00280" y="4332240"/>
            <a:ext cx="232272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Servant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4880" y="2228760"/>
            <a:ext cx="2322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64240" y="3038400"/>
            <a:ext cx="232272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675240"/>
            <a:ext cx="232236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PO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59560" y="4262400"/>
            <a:ext cx="23223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74840" y="4789440"/>
            <a:ext cx="27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èle par dél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77040" y="4753080"/>
            <a:ext cx="27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èle par héri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17880" y="2409840"/>
            <a:ext cx="174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17800" y="2598480"/>
            <a:ext cx="0" cy="172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721640" y="3411000"/>
            <a:ext cx="0" cy="85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25760" y="40496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384880" y="3411360"/>
            <a:ext cx="1176120" cy="2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817880" y="2598840"/>
            <a:ext cx="174276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1880" y="332424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3760" y="338148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00480" y="401148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legate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24440" y="208116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9240" y="275112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56600" y="36561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15080" y="32655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00" y="5370480"/>
            <a:ext cx="8571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4680" y="5726160"/>
            <a:ext cx="857160" cy="260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4680" y="6087960"/>
            <a:ext cx="857160" cy="260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54200" y="5340240"/>
            <a:ext cx="22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Java gén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33680" y="572292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 Java gén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14600" y="60609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 Java écrite par le programm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5DDD-8BDD-4B0B-B5BD-C361F04322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ésentation de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otivations et terminologie CORB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L CORB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tapes de développement d’une application CORB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O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odèles d’implantation d’un objet CORB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66"/>
                </a:solidFill>
                <a:latin typeface="Arial"/>
              </a:rPr>
              <a:t>Présentation du sous-système bancair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rganisation et méthodologie de travai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2C03-34FD-4BCE-9D33-2A76806711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rchitecture proposé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95000" y="1980720"/>
            <a:ext cx="8915400" cy="3886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662120" y="1514520"/>
            <a:ext cx="6580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CA29-E832-4E9A-B097-F08810DA15A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terfaces IDL proposé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0680" y="1638360"/>
            <a:ext cx="4737240" cy="4754520"/>
          </a:xfrm>
          <a:custGeom>
            <a:avLst/>
            <a:gdLst>
              <a:gd name="textAreaLeft" fmla="*/ 231120 w 4737240"/>
              <a:gd name="textAreaRight" fmla="*/ 4506120 w 4737240"/>
              <a:gd name="textAreaTop" fmla="*/ 231120 h 4754520"/>
              <a:gd name="textAreaBottom" fmla="*/ 4523400 h 4754520"/>
            </a:gdLst>
            <a:ahLst/>
            <a:rect l="textAreaLeft" t="textAreaTop" r="textAreaRight" b="textAreaBottom"/>
            <a:pathLst>
              <a:path w="21600" h="21679">
                <a:moveTo>
                  <a:pt x="3600" y="0"/>
                </a:moveTo>
                <a:arcTo wR="3600" hR="3600" stAng="16200000" swAng="-5400000"/>
                <a:lnTo>
                  <a:pt x="0" y="18079"/>
                </a:lnTo>
                <a:arcTo wR="3600" hR="3600" stAng="10800000" swAng="-5400000"/>
                <a:lnTo>
                  <a:pt x="18000" y="21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module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ankServices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erface Bank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adonly attribute string number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string name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Address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registerBranch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in string number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in Branch b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void unregisterBranch(in string number);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Branch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findBranch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in string number);    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Branches findAllBranches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erface Branch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adonly attribute string number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string name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Address addr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Bank refBan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76720" y="1647720"/>
            <a:ext cx="4648320" cy="4754520"/>
          </a:xfrm>
          <a:custGeom>
            <a:avLst/>
            <a:gdLst>
              <a:gd name="textAreaLeft" fmla="*/ 226800 w 4648320"/>
              <a:gd name="textAreaRight" fmla="*/ 4421520 w 4648320"/>
              <a:gd name="textAreaTop" fmla="*/ 226800 h 4754520"/>
              <a:gd name="textAreaBottom" fmla="*/ 4527720 h 4754520"/>
            </a:gdLst>
            <a:ahLst/>
            <a:rect l="textAreaLeft" t="textAreaTop" r="textAreaRight" b="textAreaBottom"/>
            <a:pathLst>
              <a:path w="21600" h="22093">
                <a:moveTo>
                  <a:pt x="3600" y="0"/>
                </a:moveTo>
                <a:arcTo wR="3600" hR="3600" stAng="16200000" swAng="-5400000"/>
                <a:lnTo>
                  <a:pt x="0" y="18493"/>
                </a:lnTo>
                <a:arcTo wR="3600" hR="3600" stAng="10800000" swAng="-5400000"/>
                <a:lnTo>
                  <a:pt x="18000" y="2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ustomer createCustomer(in string number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in string name, in Gender gend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in Address addr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void removeCustomer(in string number);   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ustomer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findCustomer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in string number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Customers findAllCustomers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erface Customer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adonly attribute string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number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string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name 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Gender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gend 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attribute Addres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addr 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readonly attribute Branch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fBranch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Account createAccount(in Currency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balance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void removeAccount(in string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accountnumber); 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Account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urier New"/>
              </a:rPr>
              <a:t>findAccountByPrimaryKey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in string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accountnumber)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Accounts findAllAccounts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; 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67EC-0608-462B-AFE9-C07A485A27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uivre les étapes de développement proposé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366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terminer les objets répartis (objets CORBA) de l’application et définir leurs interfaces en ID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ompiler l’IDL vers un langage de programmation pour produire des talons clients / squelettes serveu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les classes des servants qui incarnent les objets CORBA défini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et compiler le programme principal du serv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crire et compiler le programme clie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240" y="2090880"/>
            <a:ext cx="53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FF75-5661-4809-B5E0-270FB1027D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ogramme principal du serveur : Serveur génériqu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947600"/>
            <a:ext cx="94107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e qui est fourni : 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fr-FR" sz="1800" spc="-1" strike="noStrike" u="sng">
                <a:solidFill>
                  <a:srgbClr val="00007d"/>
                </a:solidFill>
                <a:uFillTx/>
                <a:latin typeface="Arial"/>
              </a:rPr>
              <a:t>exemples/genericserver/src/GenericServer.java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Programme d’un serveur CORBA générique suivant le modèle par héritage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Avec un RootPO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ans paramètres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 faire : Etendre le serveur générique pour prendre en compte :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e modèle par délégation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jout d’autres PO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Des paramètres utilisés lors de l’instanciation des services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client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et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compte</a:t>
            </a:r>
            <a:br>
              <a:rPr sz="1800"/>
            </a:b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Importa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ntre un serveur de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banqu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et un serveur d’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agence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, la seule chose qui change est le fichier de configuration (config.properties) et pas l’implantation du serveur CORB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240" y="4862520"/>
            <a:ext cx="53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CEED-DAAB-40E5-A161-FAD893193F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3520" y="457200"/>
            <a:ext cx="95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tivations du projet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Après avoir </a:t>
            </a:r>
            <a:r>
              <a:rPr b="0" lang="fr-FR" sz="3200" spc="-1" strike="noStrike" u="sng">
                <a:solidFill>
                  <a:srgbClr val="00007d"/>
                </a:solidFill>
                <a:uFillTx/>
                <a:latin typeface="Arial"/>
              </a:rPr>
              <a:t>utilisé</a:t>
            </a: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 des fonctionnalités proposées par un middleware (persistance dans serveurs EJB, eCOM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7d"/>
                </a:solidFill>
                <a:uFillTx/>
                <a:latin typeface="Arial"/>
              </a:rPr>
              <a:t>Réaliser</a:t>
            </a: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 ces fonctionnalités dans le middleware (persistance dans CORBA, GICOM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7E11-27DA-4048-A393-5C399D0F8C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rogramme principal du client : User-Age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Opérations effectuées par un client User-Agent 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réation, consultation, modification, suppression de clients et de comptes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A faire : deux User-Agents à programmer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Langage de programm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n écrit en Java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utre écrit en C# 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xemple de client C# dans </a:t>
            </a:r>
            <a:r>
              <a:rPr b="0" lang="fr-FR" sz="1800" spc="-1" strike="noStrike" u="sng">
                <a:solidFill>
                  <a:srgbClr val="00007d"/>
                </a:solidFill>
                <a:uFillTx/>
                <a:latin typeface="Arial"/>
              </a:rPr>
              <a:t>exemples/hello/src/HelloClient.c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ode de command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n en mode ligne de commande (à récupérer de eCOM)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’autre en mode graphique (optionnel) 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ne pas passer trop de temps sur le mode graphique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E33B-FA21-4388-B0D6-544B76E2A7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e6"/>
                </a:solidFill>
                <a:latin typeface="Arial"/>
              </a:rPr>
              <a:t>Présentation de CORBA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Présentation du 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Architecture et interfaces IDL proposé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Serveur générique et User-Agents</a:t>
            </a: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66"/>
                </a:solidFill>
                <a:latin typeface="Arial"/>
              </a:rPr>
              <a:t>Organisation et méthodologie de travai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B0FA-C1E7-4979-83C9-23E2EE03267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 séances de cours (18 Heures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lication du contenu d’une étape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 séances encadrées en salle machine (30 Heures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ncadrement direct en salle machine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ccès aux salles machines sur créneau réservé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vail personnel en dehors des cours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E4A8-D369-4859-89F0-276AE21FC5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490760"/>
            <a:ext cx="9410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Se partager les tâch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ans un trinôme, spécialités identifiées pour chaque membr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pécialiste outils (Ant, Logger, …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hef de proje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rchitect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Paralléliser les tâch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es étapes de projets peuvent être conduites en parallè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épendances entre les étap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 1 : dépend de eCOM et de l’étape 2 ( pour l’intégration)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 2 : ne dépend de rien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 3 : dépend de l’étape 2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 4 : dépend de l’étape 3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 5 : dépend des étapes 1 et 2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Etapes 6a et 6b : dépendent de l’étape 1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51D8-2FA8-4FFB-8081-B9731134A78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alités d'évalu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Démonstration finale (sur 8 à 10 PCs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xpliquer les principaux choix de concep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ontrer l’aspect multi-utilisateurs du logiciel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ontrer les performances du logiciel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Montrer l’administration du logiciel (observation, déploiement multi-sites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erveur eCOM, serveurs CORBA et BD répartis …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reprise après arrêt, …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la partie eCOM a déjà été évaluée : inutile de la présente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B5AC-B1EE-4E8F-9B3A-25031F45B2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éveloppement (1 / 2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000" y="1733400"/>
            <a:ext cx="9410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Automatis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n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ariables à définir JAVA_HOME, ANT_HOME, PATH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Organisation logiciell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idl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fichiers ID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src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fichiers de programmes sourc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generated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fichiers des classes générées par la compilation IDL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classes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fichiers des classes générées par la compilation Jav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build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: fichiers jar et .exe pour exécuter les serveurs et UA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Nomres de programm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Java, C#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utils de vérification de respect des normes, ex. JavaSty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6729-0445-4172-8A5F-DDBBBE2D49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éveloppement (2 / 2)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000" y="1733400"/>
            <a:ext cx="9410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Documentation globale du proje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JavaDoc, JavaSrc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rac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as de traces avec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System.out.println(…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tiliser des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loggers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(java.util.logging.Logger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Métriques sur les sourc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Nombre de packag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Nombre de class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Nombre de lignes de cod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Nombre de commentair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isibilité des attributs, méthodes, class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BBA3-A641-4AAA-AE7A-646D37346B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Environnements/intergiciels suppor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J2SDK 1.4.2 de SU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erveur J2EE JOnAS 4.x (CMP2.0)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http://www.objectweb.org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intègre Jakarta Tomcat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GBD McKoi </a:t>
            </a:r>
            <a:r>
              <a:rPr b="0" i="1" lang="fr-FR" sz="1600" spc="-1" strike="noStrike">
                <a:solidFill>
                  <a:srgbClr val="00007d"/>
                </a:solidFill>
                <a:latin typeface="Arial"/>
              </a:rPr>
              <a:t>http://www.mckoi.com/database/</a:t>
            </a:r>
            <a:endParaRPr b="0" lang="en-US" sz="16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100% Jav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pache JAMES pour le serveur de mails (SMTP/POP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100% Java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pache AXIS pour les Web Services (SOAP &amp; WSDL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RB CORBA du J2SDK 1.4.2 de SU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Browser Web (MS IE ou Netscape Communicator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J2ME Wireless Toolkit (2.x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mulateur DoJa (DoCoMo iappli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DK .NET Framework (C#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B502-F81B-4F97-A37A-0E9ACD2571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éploieme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530360"/>
            <a:ext cx="941076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Automatis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Déploiement des serveurs sur une dizaine de machin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Soutenance : moins de 15 minutes, automatisation du déploiement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onfigurabilité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Pas de chemins absolus dans vos fichiers : portabilité Unix/Window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Ne pas fixer les adresses/noms de serveurs dans vos programm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écurité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Chaque serveur a son propre fichier </a:t>
            </a:r>
            <a:r>
              <a:rPr b="0" i="1" lang="fr-FR" sz="1800" spc="-1" strike="noStrike">
                <a:solidFill>
                  <a:srgbClr val="00007d"/>
                </a:solidFill>
                <a:latin typeface="Arial"/>
              </a:rPr>
              <a:t>java.policy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Limiter l’accès du serveur aux ressources de la machin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Organisation hiérarchiqu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Un répertoire par serveur à déployer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Fichier de propriétés, java.policy, répertoire lib pour les Jar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Performance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Mesurer les performances du serveur Web, Apache JMeter,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10 produits achetés dans 2 magasins, 3modifications, 5 visualisations du caddie, achat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BC05-7E84-4DC1-B72A-82BA1E0F3C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http://www.omg.org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dvanced CORBA Programming with C++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. J. Henning, S. Vinoski, Addison-Wesley 2002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Java Programming with CORBA</a:t>
            </a: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. G. Brose, A. Vogel, K. Duddy, John Wiley &amp; Sons, 2001.</a:t>
            </a:r>
            <a:br>
              <a:rPr sz="2400"/>
            </a:b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Java /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http://java.sun.com/j2se/1.4.1/docs/guide/idl/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API du J2SDK 1.4 : </a:t>
            </a:r>
            <a:r>
              <a:rPr b="0" i="1" lang="fr-FR" sz="2400" spc="-1" strike="noStrike">
                <a:solidFill>
                  <a:srgbClr val="00007d"/>
                </a:solidFill>
                <a:latin typeface="Arial"/>
              </a:rPr>
              <a:t>org.omg.*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2B47-0F7E-459A-B100-3AB367B3C8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s du projet GICO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Extension de eCOM et intégration du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bancaire persistan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bancaire persistant et fiabl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écurisation des communication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Sous-système fournisseur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0717-CE44-4D19-A7B6-17275DA54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our fini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e sujet et le cod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http://www-adele.imag.fr/~donsez/ujf/GICOM/GICOM_EN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ur serveurs Unix, sur ~sbouchen/ENS/GICOM_ENS/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Sur ou sur kernighan ~donsez/GICOM_ENS</a:t>
            </a:r>
            <a:br>
              <a:rPr sz="2000"/>
            </a:b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Distribution des banques entre les trinôm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rédit Agricole, Crédit Lyonnais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BNP-Paribas, Banque Directe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rédit du Nord, Société Général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La Poste, Banque Rothschild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Caixa, Caisse d’Epargn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F6C4-42E7-42B9-80DC-3EABA33788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résentation de CORBA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résentation du sous-système bancair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Organisation et méthodologie de travai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éploiemen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3DE0-1627-45F0-B629-E7C3235702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tape 2 : Sous-système bancair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41720" y="1981080"/>
            <a:ext cx="54226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95C6-746F-4227-8549-4826F723A1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3 : Sous-système bancaire persistant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Objectif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ndre les objets CORBA persistants (résistants) aux arrêts des serveurs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Approch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ise en œuvre de la persistance dans CORBA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9CB8-7AB9-41B2-BED1-50052ECC20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tape 4 : Sous-système bancaire persistant et fiabl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Objectif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Rendre des opérations bancaires transactionnell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Garantir l’atomicité d’une opération de transfert inter-bancaire (débit-crédit)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Approch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ntrôle de l’atomicité par validation à deux phas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Contrôle de la concurrence par ordonnancemen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1385-CC10-4CB5-8295-4FD28971DA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914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Etape 1 : Extension de eCOM et intégration du sous-système bancair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Extension de eCOM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Un nouveau bean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FundsTransfer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(remplaçant du bean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Account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Opération de transfert de fonds multi-comptes entre les serveurs bancair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uroConvertor change d’interface pour convertir tout type de devis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Initialisation des parités des devises utilisées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Via un WebService public, de façon périodique</a:t>
            </a:r>
            <a:br>
              <a:rPr sz="1800"/>
            </a:b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Intégration du sous-système bancair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eCOM et sous-système bancaire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Via le bean </a:t>
            </a:r>
            <a:r>
              <a:rPr b="0" i="1" lang="fr-FR" sz="2000" spc="-1" strike="noStrike">
                <a:solidFill>
                  <a:srgbClr val="00007d"/>
                </a:solidFill>
                <a:latin typeface="Arial"/>
              </a:rPr>
              <a:t>FundsTransfer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COM - R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D08E-EEEE-4D2F-AD26-A1419F6C97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ara Bouchena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5:12:03Z</dcterms:created>
  <dc:creator>Sara Bouchenak</dc:creator>
  <dc:description/>
  <dc:language>en-US</dc:language>
  <cp:lastModifiedBy>Sara Bouchenak</cp:lastModifiedBy>
  <cp:lastPrinted>1999-03-27T19:11:36Z</cp:lastPrinted>
  <dcterms:modified xsi:type="dcterms:W3CDTF">2005-01-10T12:00:51Z</dcterms:modified>
  <cp:revision>442</cp:revision>
  <dc:subject/>
  <dc:title>Mobilet</dc:title>
</cp:coreProperties>
</file>