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71D4B-38E6-4DBA-8055-96EEA0852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E7D04-2FA3-4B4D-A375-85D4E4AA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E759A-65EA-44B8-947F-64FFDEF1B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A250C-5B2D-4446-8D05-A77C97023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B858-1206-408E-BF59-0AF83E0CD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A2C0-C312-42F2-B17B-78984194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07D0-A363-417C-B0F0-0ED3F656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45A45-1831-43D1-9436-22BE72AD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6A6A-99E2-43D4-A9E1-D2E7183D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6D98F-E551-40D3-9595-AFD1EBD2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CCB0-DA51-43ED-A00F-B99AF589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2450B-36B7-40FF-B5B6-73E0E93B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0B6A-752B-44F5-9CA4-09733F82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B834-9FA8-4A86-8ED6-E7E6E8D1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A3B5-DEB2-495D-A1DE-CF71D9E4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344C-6F57-4923-A959-6E31B5464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8B77-3E36-480D-8F7D-AD2B35A35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374FE-5F1E-4F01-AF0C-C74CEE22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A4C87-51E8-4FC1-B058-426EADF5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9CEA0-A8E0-48DB-9191-B50E9C32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564B6-8305-43BD-B8C0-BF220AFD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02BC1-754A-4296-A9ED-BDCE65D2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80DD1-7035-4146-95DA-F97A2410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00820-867B-48E5-B5B9-2EB8DA79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7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7d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7d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BDA5-68B6-4DB2-A7CB-608A9DF250C9}" type="slidenum">
              <a:rPr b="0" lang="en-GB" sz="1200" spc="-1" strike="noStrike">
                <a:solidFill>
                  <a:srgbClr val="00007d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905760" cy="546120"/>
            <a:chOff x="0" y="0"/>
            <a:chExt cx="990576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30960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47120" y="135000"/>
              <a:ext cx="945864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43520" y="135000"/>
              <a:ext cx="14904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2920" y="0"/>
              <a:ext cx="1512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92920" y="135000"/>
              <a:ext cx="15120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97360" y="274680"/>
              <a:ext cx="1476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2560" y="136440"/>
              <a:ext cx="15264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3520" y="271440"/>
              <a:ext cx="14904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97360" y="409680"/>
              <a:ext cx="14760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7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7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7972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859040" y="1690560"/>
              <a:ext cx="804672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3105360" cy="3157560"/>
              <a:chOff x="0" y="1066680"/>
              <a:chExt cx="310536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620640" y="3583080"/>
                <a:ext cx="62424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858680" y="1690560"/>
                <a:ext cx="62208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71040" y="1066680"/>
                <a:ext cx="6343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236240" y="3583080"/>
                <a:ext cx="6325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471040" y="1690560"/>
                <a:ext cx="6343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236240" y="2324160"/>
                <a:ext cx="6325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63072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58680" y="2324160"/>
                <a:ext cx="62208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20640" y="2948040"/>
                <a:ext cx="62424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236240" y="2948040"/>
                <a:ext cx="6325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7A72-296F-4C82-A577-CEAD0547B7AD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3219120" y="1828800"/>
            <a:ext cx="6521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7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4520" y="1871280"/>
            <a:ext cx="6753240" cy="239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GICOM – M2GI SRR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ICOM – M2RICM</a:t>
            </a: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tape 3 : 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ous-système bancaire persistan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12760" y="4473360"/>
            <a:ext cx="6892920" cy="184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Sara Bouchenak, Didier Donsez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Pierre-Yves Gibello, Vania Marangozova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7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7d"/>
                </a:solidFill>
                <a:latin typeface="Arial"/>
              </a:rPr>
              <a:t>{Sara.Bouchenak, Didier.Donsez}@imag.fr </a:t>
            </a:r>
            <a:br>
              <a:rPr sz="1600"/>
            </a:br>
            <a:r>
              <a:rPr b="0" lang="fr-FR" sz="1600" spc="-1" strike="noStrike">
                <a:solidFill>
                  <a:srgbClr val="00007d"/>
                </a:solidFill>
                <a:latin typeface="Arial"/>
              </a:rPr>
              <a:t>{Pierre-Yves.Gibello, Vania.Marangozova}@imag.fr</a:t>
            </a:r>
            <a:br>
              <a:rPr sz="1600"/>
            </a:br>
            <a:endParaRPr b="0" lang="en-US" sz="1600" spc="-1" strike="noStrike">
              <a:solidFill>
                <a:srgbClr val="00007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7d"/>
                </a:solidFill>
                <a:latin typeface="Arial"/>
              </a:rPr>
              <a:t>http://www-adele.imag.fr/~donsez/ujf/GICOM/GICOM_ENS</a:t>
            </a:r>
            <a:endParaRPr b="0" lang="en-US" sz="17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Arial"/>
              </a:rPr>
              <a:t>POA (Portable Object Adapter)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24000" y="1633680"/>
            <a:ext cx="6968880" cy="46544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375680" y="2538360"/>
            <a:ext cx="24080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Rôle du POA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Créer les références </a:t>
            </a:r>
            <a:br>
              <a:rPr sz="1800"/>
            </a:b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  d’obj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Activer les obj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Transmettre les </a:t>
            </a:r>
            <a:br>
              <a:rPr sz="1800"/>
            </a:b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  requêtes aux </a:t>
            </a:r>
            <a:br>
              <a:rPr sz="1800"/>
            </a:b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  serv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. Persistance dans CORB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CF368-50F6-460A-97A4-29AA6C38319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Cycles de vie d’un objet CORBA et d’un servant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8120" y="3656160"/>
            <a:ext cx="1711440" cy="1134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bject 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n-exis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937640" y="3592440"/>
            <a:ext cx="1711080" cy="1134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bject 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n-exis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39960" y="3090960"/>
            <a:ext cx="2540160" cy="446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rvant Incarn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82760" y="2436840"/>
            <a:ext cx="3294360" cy="1303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bject Activ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3545640" y="4543560"/>
            <a:ext cx="2816280" cy="446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rvant Ethereal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309840" y="4232160"/>
            <a:ext cx="3221280" cy="1303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bject Deactiv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84320" y="1674720"/>
            <a:ext cx="3962520" cy="4568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208400" y="1814400"/>
            <a:ext cx="139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bject Ex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962520" y="3657600"/>
            <a:ext cx="0" cy="711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99240" y="3649680"/>
            <a:ext cx="0" cy="711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81240" y="3852720"/>
            <a:ext cx="94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Activ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832360" y="3844800"/>
            <a:ext cx="1003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Deactiv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16280" y="4035600"/>
            <a:ext cx="971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73840" y="3941640"/>
            <a:ext cx="1071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78120" y="3660840"/>
            <a:ext cx="1003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Cre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62680" y="3598920"/>
            <a:ext cx="113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str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. Persistance dans CORB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10BA4-445D-4B86-964C-0FF9FBEF738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Plusieurs POA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lusieurs instances de POA peuvent exister dans le même serveur CORBA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Un POA gère un ensemble d’objets CORBA partageant les mêmes caractéristiques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31880" y="4021200"/>
            <a:ext cx="2425680" cy="52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ootPO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56240" y="4030560"/>
            <a:ext cx="2425680" cy="520200"/>
          </a:xfrm>
          <a:prstGeom prst="ellipse">
            <a:avLst/>
          </a:prstGeom>
          <a:solidFill>
            <a:srgbClr val="cccc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rsistentPO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36760" y="5429160"/>
            <a:ext cx="28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Non-persistent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379520" y="4383000"/>
            <a:ext cx="2814480" cy="1081080"/>
            <a:chOff x="1379520" y="4383000"/>
            <a:chExt cx="2814480" cy="1081080"/>
          </a:xfrm>
        </p:grpSpPr>
        <p:sp>
          <p:nvSpPr>
            <p:cNvPr id="198" name=""/>
            <p:cNvSpPr/>
            <p:nvPr/>
          </p:nvSpPr>
          <p:spPr>
            <a:xfrm>
              <a:off x="1379520" y="5254560"/>
              <a:ext cx="187200" cy="203400"/>
            </a:xfrm>
            <a:prstGeom prst="flowChartConnector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881360" y="5159520"/>
              <a:ext cx="187200" cy="203040"/>
            </a:xfrm>
            <a:prstGeom prst="flowChartConnector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722680" y="5261040"/>
              <a:ext cx="187200" cy="203040"/>
            </a:xfrm>
            <a:prstGeom prst="flowChartConnector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338640" y="5151600"/>
              <a:ext cx="187200" cy="203040"/>
            </a:xfrm>
            <a:prstGeom prst="flowChartConnector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06800" y="5254560"/>
              <a:ext cx="187200" cy="203400"/>
            </a:xfrm>
            <a:prstGeom prst="flowChartConnector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1495080" y="4383000"/>
              <a:ext cx="274680" cy="87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2003400" y="4468680"/>
              <a:ext cx="115920" cy="68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816280" y="4513320"/>
              <a:ext cx="0" cy="75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352680" y="4498920"/>
              <a:ext cx="73080" cy="65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46600" y="4411800"/>
              <a:ext cx="217440" cy="84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739800" y="3889440"/>
            <a:ext cx="8142120" cy="1974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12880" y="5864400"/>
            <a:ext cx="20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BA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78400" y="5276880"/>
            <a:ext cx="187200" cy="203040"/>
          </a:xfrm>
          <a:prstGeom prst="flowChartConnector">
            <a:avLst/>
          </a:prstGeom>
          <a:solidFill>
            <a:srgbClr val="cccc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80240" y="5181480"/>
            <a:ext cx="187200" cy="203400"/>
          </a:xfrm>
          <a:prstGeom prst="flowChartConnector">
            <a:avLst/>
          </a:prstGeom>
          <a:solidFill>
            <a:srgbClr val="cccc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07160" y="5283360"/>
            <a:ext cx="187200" cy="203040"/>
          </a:xfrm>
          <a:prstGeom prst="flowChartConnector">
            <a:avLst/>
          </a:prstGeom>
          <a:solidFill>
            <a:srgbClr val="cccc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37520" y="5173560"/>
            <a:ext cx="187200" cy="203400"/>
          </a:xfrm>
          <a:prstGeom prst="flowChartConnector">
            <a:avLst/>
          </a:prstGeom>
          <a:solidFill>
            <a:srgbClr val="cccc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005680" y="5276880"/>
            <a:ext cx="187560" cy="203040"/>
          </a:xfrm>
          <a:prstGeom prst="flowChartConnector">
            <a:avLst/>
          </a:prstGeom>
          <a:solidFill>
            <a:srgbClr val="cccc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5493960" y="4419720"/>
            <a:ext cx="274680" cy="87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002280" y="4491000"/>
            <a:ext cx="115920" cy="684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00760" y="4535640"/>
            <a:ext cx="0" cy="75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51560" y="4521240"/>
            <a:ext cx="73080" cy="654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845480" y="4433760"/>
            <a:ext cx="217440" cy="84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35640" y="5283360"/>
            <a:ext cx="187560" cy="203040"/>
          </a:xfrm>
          <a:prstGeom prst="flowChartConnector">
            <a:avLst/>
          </a:prstGeom>
          <a:solidFill>
            <a:srgbClr val="cccc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6429240" y="4529160"/>
            <a:ext cx="30240" cy="768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46800" y="5424480"/>
            <a:ext cx="28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Persistent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. Persistance dans CORB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F9BD2-194E-4E35-B1D6-4D8481E0160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Spécialisation du POA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Caractéristiques contrôlées via des règles (politiques) associées au POA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Arial"/>
              </a:rPr>
              <a:t>LifespanPolicy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 : Persistance/non persistance des objets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Arial"/>
              </a:rPr>
              <a:t>IdAssignmentPolicy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 : Identification des objets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Arial"/>
              </a:rPr>
              <a:t>ServantRetentionPolicy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 : Association entre objectId et servants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Arial"/>
              </a:rPr>
              <a:t>RequestProcessingPolicy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 : Transfert des requêtes aux servants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99cc"/>
                </a:solidFill>
                <a:latin typeface="Arial"/>
              </a:rPr>
              <a:t>ThreadPolicy</a:t>
            </a:r>
            <a:r>
              <a:rPr b="0" lang="fr-FR" sz="2000" spc="-1" strike="noStrike">
                <a:solidFill>
                  <a:srgbClr val="9999cc"/>
                </a:solidFill>
                <a:latin typeface="Arial"/>
              </a:rPr>
              <a:t> : Mono- ou multi-threadding du POA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99cc"/>
                </a:solidFill>
                <a:latin typeface="Arial"/>
              </a:rPr>
              <a:t>ImplicitActivationPolicy</a:t>
            </a:r>
            <a:r>
              <a:rPr b="0" lang="fr-FR" sz="2000" spc="-1" strike="noStrike">
                <a:solidFill>
                  <a:srgbClr val="9999cc"/>
                </a:solidFill>
                <a:latin typeface="Arial"/>
              </a:rPr>
              <a:t> : Création/activation implicites ou explicites des objets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99cc"/>
                </a:solidFill>
                <a:latin typeface="Arial"/>
              </a:rPr>
              <a:t>IdUniquenessPolicy</a:t>
            </a:r>
            <a:r>
              <a:rPr b="0" lang="fr-FR" sz="2000" spc="-1" strike="noStrike">
                <a:solidFill>
                  <a:srgbClr val="9999cc"/>
                </a:solidFill>
                <a:latin typeface="Arial"/>
              </a:rPr>
              <a:t> : Un seul servant par objet ou même servant incarnant plusieurs objets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. Persistance dans CORB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71FA4-E220-4380-80BE-83422D6D85F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Arial"/>
              </a:rPr>
              <a:t>LifespanPolicy : Persistance / </a:t>
            </a:r>
            <a:br>
              <a:rPr sz="4400"/>
            </a:br>
            <a:r>
              <a:rPr b="0" lang="fr-FR" sz="4400" spc="-1" strike="noStrike">
                <a:solidFill>
                  <a:srgbClr val="00007d"/>
                </a:solidFill>
                <a:latin typeface="Arial"/>
              </a:rPr>
              <a:t>non persistance des objet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TRANSIENT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Après désactivation du POA, les objets TRANSIENT ne peuvent plus être réactivés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Une référence d’objet CORBA distribué est alors invalide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Les objets TRANSIENT représentent des informations non persistantes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PERSISTENT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Une référence d’objet CORBA distribué reste valide</a:t>
            </a:r>
            <a:br>
              <a:rPr sz="1800"/>
            </a:b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Valeur dans le RootPOA : TRANSIENT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Valeur par défaut dans un nouveau POA : TRANSIENT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. Persistance dans CORB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0E114-8E89-4E89-8F3C-9DCDDA55FE0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Arial"/>
              </a:rPr>
              <a:t>IdAssignmentPolicy : </a:t>
            </a:r>
            <a:br>
              <a:rPr sz="4400"/>
            </a:br>
            <a:r>
              <a:rPr b="0" lang="fr-FR" sz="4400" spc="-1" strike="noStrike">
                <a:solidFill>
                  <a:srgbClr val="00007d"/>
                </a:solidFill>
                <a:latin typeface="Arial"/>
              </a:rPr>
              <a:t>Identification des objet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SYSTEM_ID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Le POA crée les objectId et les affecte automatiquement aux objets CORBA distribués</a:t>
            </a:r>
            <a:br>
              <a:rPr sz="1800"/>
            </a:b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USER_ID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L’application gère elle-même les objectId</a:t>
            </a:r>
            <a:br>
              <a:rPr sz="1800"/>
            </a:b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Valeur dans le RootPOA : SYSTEM_ID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Valeur par défaut dans un nouveau POA : SYSTEM_ID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376280" y="3943440"/>
            <a:ext cx="6838920" cy="822600"/>
            <a:chOff x="1376280" y="3943440"/>
            <a:chExt cx="6838920" cy="822600"/>
          </a:xfrm>
        </p:grpSpPr>
        <p:sp>
          <p:nvSpPr>
            <p:cNvPr id="230" name=""/>
            <p:cNvSpPr/>
            <p:nvPr/>
          </p:nvSpPr>
          <p:spPr>
            <a:xfrm>
              <a:off x="1376280" y="3943440"/>
              <a:ext cx="1439640" cy="36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IP 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815920" y="3943440"/>
              <a:ext cx="1800360" cy="36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Port nu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614480" y="3943440"/>
              <a:ext cx="1800360" cy="36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POA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414840" y="3943440"/>
              <a:ext cx="1800360" cy="36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Object 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82760" y="4397760"/>
              <a:ext cx="30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000000"/>
                  </a:solidFill>
                  <a:latin typeface="Arial"/>
                </a:rPr>
                <a:t>IOR Object Refer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. Persistance dans CORB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0CAB2-56DE-46C3-ACC3-B14B8BCF5C5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5360" y="457200"/>
            <a:ext cx="919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Arial"/>
              </a:rPr>
              <a:t>ServantRetentionPolicy : </a:t>
            </a:r>
            <a:br>
              <a:rPr sz="4400"/>
            </a:br>
            <a:r>
              <a:rPr b="0" lang="fr-FR" sz="4400" spc="-1" strike="noStrike">
                <a:solidFill>
                  <a:srgbClr val="00007d"/>
                </a:solidFill>
                <a:latin typeface="Arial"/>
              </a:rPr>
              <a:t>Association entre objectId / servant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RETAIN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L’association entre un objectId et son </a:t>
            </a:r>
            <a:br>
              <a:rPr sz="1800"/>
            </a:b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servant est maintenue dans la table AOM du POA</a:t>
            </a:r>
            <a:br>
              <a:rPr sz="1800"/>
            </a:b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NO_RETAIN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L’association entre un objectId et son servant est gérée par l’application (utilisation d’un </a:t>
            </a:r>
            <a:r>
              <a:rPr b="0" i="1" lang="fr-FR" sz="1800" spc="-1" strike="noStrike">
                <a:solidFill>
                  <a:srgbClr val="00007d"/>
                </a:solidFill>
                <a:latin typeface="Arial"/>
              </a:rPr>
              <a:t>ServantManager</a:t>
            </a: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 ou d’un </a:t>
            </a:r>
            <a:r>
              <a:rPr b="0" i="1" lang="fr-FR" sz="1800" spc="-1" strike="noStrike">
                <a:solidFill>
                  <a:srgbClr val="00007d"/>
                </a:solidFill>
                <a:latin typeface="Arial"/>
              </a:rPr>
              <a:t>servant par défaut</a:t>
            </a: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)</a:t>
            </a:r>
            <a:br>
              <a:rPr sz="1800"/>
            </a:b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Valeur dans le RootPOA : RETAIN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Valeur par défaut dans un nouveau POA : RETAIN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708440" y="1860480"/>
            <a:ext cx="4786560" cy="158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. Persistance dans CORB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391D8-71AA-44CF-8FFE-845159B6EC1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5360" y="457200"/>
            <a:ext cx="9075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Arial"/>
              </a:rPr>
              <a:t>RequestProcessingPolicy: Transfert des requêtes aux servant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USE_ACTIVE_OBJECT_MAP_ONLY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Exception levée, si objectId </a:t>
            </a:r>
            <a:r>
              <a:rPr b="0" lang="fr-FR" sz="1800" spc="-1" strike="noStrike">
                <a:solidFill>
                  <a:srgbClr val="00007d"/>
                </a:solidFill>
                <a:latin typeface="Symbol"/>
                <a:ea typeface="Symbol"/>
              </a:rPr>
              <a:t></a:t>
            </a: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 AOM</a:t>
            </a:r>
            <a:br>
              <a:rPr sz="1800"/>
            </a:b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USE_DEFAULT_SERVANT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Requête transmise à un servant par défaut</a:t>
            </a:r>
            <a:br>
              <a:rPr sz="1800"/>
            </a:b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USE_SERVANT_MANAGER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Utilisation d’un </a:t>
            </a:r>
            <a:r>
              <a:rPr b="0" i="1" lang="fr-FR" sz="1800" spc="-1" strike="noStrike">
                <a:solidFill>
                  <a:srgbClr val="00007d"/>
                </a:solidFill>
                <a:latin typeface="Arial"/>
              </a:rPr>
              <a:t>ServantManager</a:t>
            </a: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 qui crée/trouve le servant approprié</a:t>
            </a:r>
            <a:br>
              <a:rPr sz="1800"/>
            </a:b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Valeur dans le RootPOA : USE_ACTIVE_OBJECT_MAP_ONLY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Valeur par défaut dans un nouveau POA : USE_ACTIVE_ OBJECT_ MAP_ONLY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. Persistance dans CORB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8E58A-239C-47BE-B1EA-6D93D79B30F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Arial"/>
              </a:rPr>
              <a:t>ServentRetentionPolicy vs. RequestProcessingPolicy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863640" y="2016000"/>
            <a:ext cx="7915320" cy="4318200"/>
            <a:chOff x="863640" y="2016000"/>
            <a:chExt cx="7915320" cy="4318200"/>
          </a:xfrm>
        </p:grpSpPr>
        <p:grpSp>
          <p:nvGrpSpPr>
            <p:cNvPr id="243" name=""/>
            <p:cNvGrpSpPr/>
            <p:nvPr/>
          </p:nvGrpSpPr>
          <p:grpSpPr>
            <a:xfrm>
              <a:off x="1581120" y="2374920"/>
              <a:ext cx="7197120" cy="360360"/>
              <a:chOff x="1581120" y="2374920"/>
              <a:chExt cx="7197120" cy="360360"/>
            </a:xfrm>
          </p:grpSpPr>
          <p:sp>
            <p:nvSpPr>
              <p:cNvPr id="244" name=""/>
              <p:cNvSpPr/>
              <p:nvPr/>
            </p:nvSpPr>
            <p:spPr>
              <a:xfrm>
                <a:off x="1581120" y="2374920"/>
                <a:ext cx="3599640" cy="360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RETAI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177880" y="2374920"/>
                <a:ext cx="3600360" cy="360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NO_RETAI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1581120" y="2016000"/>
              <a:ext cx="7197840" cy="36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000000"/>
                  </a:solidFill>
                  <a:latin typeface="Arial"/>
                </a:rPr>
                <a:t>ServentRetentionPoli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863640" y="2734920"/>
              <a:ext cx="718920" cy="3598920"/>
              <a:chOff x="863640" y="2734920"/>
              <a:chExt cx="718920" cy="3598920"/>
            </a:xfrm>
          </p:grpSpPr>
          <p:sp>
            <p:nvSpPr>
              <p:cNvPr id="248" name=""/>
              <p:cNvSpPr/>
              <p:nvPr/>
            </p:nvSpPr>
            <p:spPr>
              <a:xfrm rot="16200000">
                <a:off x="-755280" y="4354200"/>
                <a:ext cx="3598920" cy="360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1800" spc="-1" strike="noStrike">
                    <a:solidFill>
                      <a:srgbClr val="000000"/>
                    </a:solidFill>
                    <a:latin typeface="Arial"/>
                  </a:rPr>
                  <a:t>RequestProcessingPolic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16200000">
                <a:off x="-396720" y="4354200"/>
                <a:ext cx="3598920" cy="360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USE_SERVANT_MANAG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1581120" y="2735280"/>
              <a:ext cx="3598920" cy="3598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ServantActivat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938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Requête : POA consulte l’AOM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Si servant </a:t>
              </a:r>
              <a:r>
                <a:rPr b="0" lang="fr-FR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 AOM, POA appelle l’opération </a:t>
              </a:r>
              <a:r>
                <a:rPr b="0" i="1" lang="fr-FR" sz="1500" spc="-1" strike="noStrike">
                  <a:solidFill>
                    <a:srgbClr val="000000"/>
                  </a:solidFill>
                  <a:latin typeface="Arial"/>
                </a:rPr>
                <a:t>incarnate</a:t>
              </a: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 du </a:t>
              </a:r>
              <a:r>
                <a:rPr b="0" i="1" lang="fr-FR" sz="1500" spc="-1" strike="noStrike">
                  <a:solidFill>
                    <a:srgbClr val="000000"/>
                  </a:solidFill>
                  <a:latin typeface="Arial"/>
                </a:rPr>
                <a:t>ServantActivat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L’opération </a:t>
              </a:r>
              <a:r>
                <a:rPr b="0" i="1" lang="fr-FR" sz="1500" spc="-1" strike="noStrike">
                  <a:solidFill>
                    <a:srgbClr val="000000"/>
                  </a:solidFill>
                  <a:latin typeface="Arial"/>
                </a:rPr>
                <a:t>incarnate</a:t>
              </a: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 crée et retourne une instance de servant ou lève une excep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L’opération </a:t>
              </a:r>
              <a:r>
                <a:rPr b="0" i="1" lang="fr-FR" sz="1500" spc="-1" strike="noStrike">
                  <a:solidFill>
                    <a:srgbClr val="000000"/>
                  </a:solidFill>
                  <a:latin typeface="Arial"/>
                </a:rPr>
                <a:t>etherealize</a:t>
              </a: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 sert à se défaire d’un servant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Le POA appelle </a:t>
              </a:r>
              <a:r>
                <a:rPr b="0" i="1" lang="fr-FR" sz="1500" spc="-1" strike="noStrike">
                  <a:solidFill>
                    <a:srgbClr val="000000"/>
                  </a:solidFill>
                  <a:latin typeface="Arial"/>
                </a:rPr>
                <a:t>etherealize</a:t>
              </a: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 lors de la désactivation de l’objet ou du PO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180040" y="2735280"/>
              <a:ext cx="3598920" cy="3598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ServantLocat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938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A chaque requête : POA appelle </a:t>
              </a:r>
              <a:r>
                <a:rPr b="0" i="1" lang="fr-FR" sz="1500" spc="-1" strike="noStrike">
                  <a:solidFill>
                    <a:srgbClr val="000000"/>
                  </a:solidFill>
                  <a:latin typeface="Arial"/>
                </a:rPr>
                <a:t>ServantLocat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Le POA appelle l’opération </a:t>
              </a:r>
              <a:r>
                <a:rPr b="0" i="1" lang="fr-FR" sz="1500" spc="-1" strike="noStrike">
                  <a:solidFill>
                    <a:srgbClr val="000000"/>
                  </a:solidFill>
                  <a:latin typeface="Arial"/>
                </a:rPr>
                <a:t>preinvoke</a:t>
              </a: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 du </a:t>
              </a:r>
              <a:r>
                <a:rPr b="0" i="1" lang="fr-FR" sz="1500" spc="-1" strike="noStrike">
                  <a:solidFill>
                    <a:srgbClr val="000000"/>
                  </a:solidFill>
                  <a:latin typeface="Arial"/>
                </a:rPr>
                <a:t>ServantLocator</a:t>
              </a: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 pour obtenir un servan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A la fin de l’exécution de la requête, le POA appelle l’opération </a:t>
              </a:r>
              <a:r>
                <a:rPr b="0" i="1" lang="fr-FR" sz="1500" spc="-1" strike="noStrike">
                  <a:solidFill>
                    <a:srgbClr val="000000"/>
                  </a:solidFill>
                  <a:latin typeface="Arial"/>
                </a:rPr>
                <a:t>postinvoke</a:t>
              </a: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 du </a:t>
              </a:r>
              <a:r>
                <a:rPr b="0" i="1" lang="fr-FR" sz="1500" spc="-1" strike="noStrike">
                  <a:solidFill>
                    <a:srgbClr val="000000"/>
                  </a:solidFill>
                  <a:latin typeface="Arial"/>
                </a:rPr>
                <a:t>ServantLocator</a:t>
              </a: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 pour se défaire du servan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Un servant retourné par un </a:t>
              </a:r>
              <a:r>
                <a:rPr b="0" i="1" lang="fr-FR" sz="1500" spc="-1" strike="noStrike">
                  <a:solidFill>
                    <a:srgbClr val="000000"/>
                  </a:solidFill>
                  <a:latin typeface="Arial"/>
                </a:rPr>
                <a:t>preinvoke</a:t>
              </a: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 n’est utilisé que pour une seule requêt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. Persistance dans CORB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2EEA4-D5F9-43FB-B512-1096F9C773D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Pla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99cc"/>
                </a:solidFill>
                <a:latin typeface="Arial"/>
              </a:rPr>
              <a:t>Introduction à la persistance</a:t>
            </a:r>
            <a:br>
              <a:rPr sz="3200"/>
            </a:br>
            <a:r>
              <a:rPr b="0" lang="fr-FR" sz="3200" spc="-1" strike="noStrike">
                <a:solidFill>
                  <a:srgbClr val="9999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Arial"/>
              </a:rPr>
              <a:t>Persistance dans CORBA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Arial"/>
              </a:rPr>
              <a:t>Rôle du POA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Arial"/>
              </a:rPr>
              <a:t>Règles/politiques du POA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Arial"/>
              </a:rPr>
              <a:t>ServantManager</a:t>
            </a:r>
            <a:br>
              <a:rPr sz="2800"/>
            </a:br>
            <a:r>
              <a:rPr b="0" lang="fr-FR" sz="2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9966"/>
                </a:solidFill>
                <a:latin typeface="Arial"/>
              </a:rPr>
              <a:t>Persistance dans GICOM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/ R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EB965-CB15-4400-82DC-E2B96415B75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Architecture globale de GICOM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85800" y="1506600"/>
            <a:ext cx="6600960" cy="47005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rot="16200000">
            <a:off x="134640" y="5022720"/>
            <a:ext cx="1319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607"/>
                </a:solidFill>
                <a:latin typeface="Arial"/>
              </a:rPr>
              <a:t>Sous-système banca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-169920" y="2835360"/>
            <a:ext cx="1913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f016"/>
                </a:solidFill>
                <a:latin typeface="Arial"/>
              </a:rPr>
              <a:t>Serveur de </a:t>
            </a:r>
            <a:br>
              <a:rPr sz="1400"/>
            </a:br>
            <a:r>
              <a:rPr b="0" lang="en-US" sz="1400" spc="-1" strike="noStrike">
                <a:solidFill>
                  <a:srgbClr val="40f016"/>
                </a:solidFill>
                <a:latin typeface="Arial"/>
              </a:rPr>
              <a:t>commerce électron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7889400" y="2241360"/>
            <a:ext cx="1319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Serveurs de fourniss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282160" y="3722760"/>
            <a:ext cx="1319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erveur de parité monéta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057320" y="3509640"/>
            <a:ext cx="8109000" cy="948960"/>
            <a:chOff x="1057320" y="3509640"/>
            <a:chExt cx="8109000" cy="948960"/>
          </a:xfrm>
        </p:grpSpPr>
        <p:sp>
          <p:nvSpPr>
            <p:cNvPr id="115" name=""/>
            <p:cNvSpPr/>
            <p:nvPr/>
          </p:nvSpPr>
          <p:spPr>
            <a:xfrm rot="16200000">
              <a:off x="940320" y="3626640"/>
              <a:ext cx="44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t.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718480" y="4245120"/>
              <a:ext cx="447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t.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 rot="16200000">
            <a:off x="964080" y="5536440"/>
            <a:ext cx="44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.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959040" y="5003280"/>
            <a:ext cx="447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.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052640" y="2862000"/>
            <a:ext cx="241920" cy="3491280"/>
            <a:chOff x="1052640" y="2862000"/>
            <a:chExt cx="241920" cy="3491280"/>
          </a:xfrm>
        </p:grpSpPr>
        <p:sp>
          <p:nvSpPr>
            <p:cNvPr id="120" name=""/>
            <p:cNvSpPr/>
            <p:nvPr/>
          </p:nvSpPr>
          <p:spPr>
            <a:xfrm rot="16200000">
              <a:off x="963720" y="6022440"/>
              <a:ext cx="447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t.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6200000">
              <a:off x="935640" y="2979000"/>
              <a:ext cx="44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t.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047600" y="2199960"/>
            <a:ext cx="237600" cy="2628720"/>
            <a:chOff x="1047600" y="2199960"/>
            <a:chExt cx="237600" cy="2628720"/>
          </a:xfrm>
        </p:grpSpPr>
        <p:sp>
          <p:nvSpPr>
            <p:cNvPr id="123" name=""/>
            <p:cNvSpPr/>
            <p:nvPr/>
          </p:nvSpPr>
          <p:spPr>
            <a:xfrm rot="16200000">
              <a:off x="954720" y="4498200"/>
              <a:ext cx="44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t. 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6200000">
              <a:off x="930600" y="2316960"/>
              <a:ext cx="44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t. 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 rot="16200000">
            <a:off x="8687160" y="2382120"/>
            <a:ext cx="44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.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/ R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AEAB9-79DD-474E-BFCD-457418DB6C4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Mise en œuvre de la persistance dans GICOM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76480" y="3173400"/>
            <a:ext cx="900000" cy="900000"/>
          </a:xfrm>
          <a:prstGeom prst="flowChartConnector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28560" y="3295800"/>
            <a:ext cx="11318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ncoming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731960" y="2028960"/>
            <a:ext cx="7305840" cy="3873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71760" y="3578400"/>
            <a:ext cx="479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90880" y="3578400"/>
            <a:ext cx="392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62400" y="2992320"/>
            <a:ext cx="1258920" cy="125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rsistent PO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19840" y="3157560"/>
            <a:ext cx="1618920" cy="719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ervant 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332840" y="3925800"/>
            <a:ext cx="136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rvants incarnating 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Persistent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16280" y="3564000"/>
            <a:ext cx="420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85160" y="3978360"/>
            <a:ext cx="190440" cy="233280"/>
          </a:xfrm>
          <a:prstGeom prst="flowChartConnector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93080" y="4430880"/>
            <a:ext cx="190440" cy="233280"/>
          </a:xfrm>
          <a:prstGeom prst="flowChartConnector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093080" y="4930920"/>
            <a:ext cx="190440" cy="233280"/>
          </a:xfrm>
          <a:prstGeom prst="flowChartConnector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0120" y="5402160"/>
            <a:ext cx="190800" cy="233640"/>
          </a:xfrm>
          <a:prstGeom prst="flowChartConnector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6561000" y="4138200"/>
            <a:ext cx="509760" cy="392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6559560" y="4573440"/>
            <a:ext cx="549360" cy="14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575400" y="4805280"/>
            <a:ext cx="520560" cy="23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573960" y="4979880"/>
            <a:ext cx="509400" cy="49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141880" y="4425840"/>
            <a:ext cx="1414440" cy="981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Persistent Object 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791320" y="389736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568680" y="2328840"/>
            <a:ext cx="866520" cy="477720"/>
            <a:chOff x="3568680" y="2328840"/>
            <a:chExt cx="866520" cy="477720"/>
          </a:xfrm>
        </p:grpSpPr>
        <p:sp>
          <p:nvSpPr>
            <p:cNvPr id="276" name=""/>
            <p:cNvSpPr/>
            <p:nvPr/>
          </p:nvSpPr>
          <p:spPr>
            <a:xfrm>
              <a:off x="3568680" y="2328840"/>
              <a:ext cx="857160" cy="477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568680" y="2444760"/>
              <a:ext cx="8571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578040" y="2568240"/>
              <a:ext cx="8571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989160" y="2328840"/>
              <a:ext cx="0" cy="477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4411800" y="2414520"/>
            <a:ext cx="7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860640" y="2806200"/>
            <a:ext cx="0" cy="17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. Persistance dans G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294B7-8FC5-4DF7-8FDE-9F9C86A089E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Mise en œuvre du Persistent POA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84720" y="2170440"/>
            <a:ext cx="8535960" cy="35067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CORBA.Policy[] policies = new CORBA.Policy[4];</a:t>
            </a:r>
            <a:endParaRPr b="0" lang="en-US" sz="16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policies[0] = rootPOA.create_lifespan_policy(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PortableServer.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LifeSpanPolicyValue.PERSISTENT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policies[1] = rootPOA.create_id_issignment_policy(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PortableServer.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IdAssignmentPolicyValue.USER_ID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policies[2] = rootPOA.create_servant_retention_policy(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PortableServer.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ServantRetentionPolicyValue.RETAIN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policies[3] = rootPOA.create_request_processing_policy(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PortableServer.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RequestProcessingPolicyValue.USE_SERVANT_MANAGER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persistentPOA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= rootPOA.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create_POA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PersistentPOA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, rootPOA.the_POAManager(),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olicies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. Persistance dans G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070AB-404B-4514-A850-02C47FD324A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Servant Manager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4720" y="2170440"/>
            <a:ext cx="8535960" cy="35067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// Create a new servant manager object</a:t>
            </a:r>
            <a:endParaRPr b="0" lang="en-US" sz="16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PortableServer.ServantActivator myActivator = 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new PersistentActivator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()._this(orb);</a:t>
            </a:r>
            <a:endParaRPr b="0" lang="en-US" sz="16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// Set the servant manager for the persistent POA</a:t>
            </a:r>
            <a:endParaRPr b="0" lang="en-US" sz="16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persistentPOA.set_servant_manager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(myActivator);</a:t>
            </a:r>
            <a:endParaRPr b="0" lang="en-US" sz="16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. Persistance dans G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A46D8-2134-4694-B0FF-297546FFA82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Arial"/>
              </a:rPr>
              <a:t>Mise en œuvre du PersistentActivator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84720" y="2170440"/>
            <a:ext cx="8535960" cy="35067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public class PersistentActivator extends PortableServer.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rvantActivatorPOA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400" spc="-1" strike="noStrike">
              <a:solidFill>
                <a:srgbClr val="00007d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public PortableServer.Servant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carnate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(byte[] id, 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PortableServer.POA adapter)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throws PortableServer.ForwardRequest {</a:t>
            </a:r>
            <a:endParaRPr b="0" lang="en-US" sz="1400" spc="-1" strike="noStrike">
              <a:solidFill>
                <a:srgbClr val="00007d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7d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7d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etherealize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(byte[] id, PortableServer.POA adapter, 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boolean clean_up_in_progress, boolean remaining_activations)</a:t>
            </a:r>
            <a:endParaRPr b="0" lang="en-US" sz="1400" spc="-1" strike="noStrike">
              <a:solidFill>
                <a:srgbClr val="00007d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7d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7d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7d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. Persistance dans G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56D28-A490-4801-B19A-F6CE3B7A9FF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Arial"/>
              </a:rPr>
              <a:t>Mise en œuvre du PersistentObjectManager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4720" y="2170440"/>
            <a:ext cx="8535960" cy="35067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package Persistence;</a:t>
            </a:r>
            <a:endParaRPr b="0" lang="en-US" sz="16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PersistentObjectManager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// Store a persistent object in an atomic operation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store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(java.lang.Object obj, byte[] id);</a:t>
            </a:r>
            <a:endParaRPr b="0" lang="en-US" sz="16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// Load an object from its persistent store and initialize it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public PersistentObject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load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(byte[] id);</a:t>
            </a:r>
            <a:endParaRPr b="0" lang="en-US" sz="16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// Assign an objectId to the persistent object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public byte[]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register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(PersistentObj obj);</a:t>
            </a:r>
            <a:endParaRPr b="0" lang="en-US" sz="16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PersistentObjectManagerImpl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implements PersistentObjectManager;</a:t>
            </a:r>
            <a:endParaRPr b="0" lang="en-US" sz="1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. Persistance dans G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83F50-140C-4FDE-8942-C5ABCC9F460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Arial"/>
              </a:rPr>
              <a:t>Mise en œuvre de PersistentObject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703080" y="2188800"/>
            <a:ext cx="8499240" cy="3848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package Persistence;</a:t>
            </a:r>
            <a:endParaRPr b="0" lang="en-US" sz="1400" spc="-1" strike="noStrike">
              <a:solidFill>
                <a:srgbClr val="00007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PersistentObject extends java.io.Serializable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400" spc="-1" strike="noStrike">
              <a:solidFill>
                <a:srgbClr val="00007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// Call an atomic storage operation on the current object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ave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400" spc="-1" strike="noStrike">
              <a:solidFill>
                <a:srgbClr val="00007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// Create a servant that incarnates the current persistent object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public PortableServer.Servant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reateServant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400" spc="-1" strike="noStrike">
              <a:solidFill>
                <a:srgbClr val="00007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// Initialize the persistent object (transient attributes, etc.) 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// at load time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it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400" spc="-1" strike="noStrike">
              <a:solidFill>
                <a:srgbClr val="00007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// Activate this object and return its CORBA object reference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public CORBA.Object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getRef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400" spc="-1" strike="noStrike">
              <a:solidFill>
                <a:srgbClr val="00007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// Desactivate this obejt and remove it from the persistent store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estroy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400" spc="-1" strike="noStrike">
              <a:solidFill>
                <a:srgbClr val="00007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7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public abstract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PersistentObjectImpl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 implements PersistentObject;</a:t>
            </a:r>
            <a:endParaRPr b="0" lang="en-US" sz="1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. Persistance dans G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A6FEA-4E6C-4D55-9A73-D35502ACDF3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Modèle de programmatio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Arial"/>
              </a:rPr>
              <a:t>Les implantations de objets persistants dans GICOM doivent :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Étendre la classe </a:t>
            </a:r>
            <a:r>
              <a:rPr b="0" i="1" lang="fr-FR" sz="2400" spc="-1" strike="noStrike">
                <a:solidFill>
                  <a:srgbClr val="00007d"/>
                </a:solidFill>
                <a:latin typeface="Arial"/>
              </a:rPr>
              <a:t>PersistentObjectImpl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Surcharger si nécessaire la méthode </a:t>
            </a:r>
            <a:r>
              <a:rPr b="0" i="1" lang="fr-FR" sz="2400" spc="-1" strike="noStrike">
                <a:solidFill>
                  <a:srgbClr val="00007d"/>
                </a:solidFill>
                <a:latin typeface="Arial"/>
              </a:rPr>
              <a:t>init</a:t>
            </a:r>
            <a:br>
              <a:rPr sz="2400"/>
            </a:br>
            <a:r>
              <a:rPr b="0" i="1" lang="fr-FR" sz="24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Arial"/>
              </a:rPr>
              <a:t>Modèle de programmation par délégation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Objets CORBA persistants héritent de </a:t>
            </a:r>
            <a:r>
              <a:rPr b="0" i="1" lang="fr-FR" sz="2400" spc="-1" strike="noStrike">
                <a:solidFill>
                  <a:srgbClr val="00007d"/>
                </a:solidFill>
                <a:latin typeface="Arial"/>
              </a:rPr>
              <a:t>PersistentObjectImpl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Ne peuvent hériter de la classe du squelette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. Persistance dans G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49FFE-3C03-4F58-AC59-C5490E5AED5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Gestion des références persistantes distante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Arial"/>
              </a:rPr>
              <a:t>Référence distante : adresse d’un talon, locale, non sérialisable, donc non persistante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Arial"/>
              </a:rPr>
              <a:t>Définir une référence distante comme une donnée </a:t>
            </a:r>
            <a:r>
              <a:rPr b="0" i="1" lang="fr-FR" sz="2800" spc="-1" strike="noStrike">
                <a:solidFill>
                  <a:srgbClr val="00007d"/>
                </a:solidFill>
                <a:latin typeface="Arial"/>
              </a:rPr>
              <a:t>transient</a:t>
            </a:r>
            <a:r>
              <a:rPr b="0" lang="fr-FR" sz="2800" spc="-1" strike="noStrike">
                <a:solidFill>
                  <a:srgbClr val="00007d"/>
                </a:solidFill>
                <a:latin typeface="Arial"/>
              </a:rPr>
              <a:t>, non sauvegardée lors de la sérialisation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Arial"/>
              </a:rPr>
              <a:t>Transformer la référence distante en chaîne de caractères, la sauvegarder avec l’objet persistant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String </a:t>
            </a:r>
            <a:r>
              <a:rPr b="0" i="1" lang="fr-FR" sz="2400" spc="-1" strike="noStrike">
                <a:solidFill>
                  <a:srgbClr val="00007d"/>
                </a:solidFill>
                <a:latin typeface="Arial"/>
              </a:rPr>
              <a:t>object_to_string</a:t>
            </a: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(CORBA.Object);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CORBA.Object</a:t>
            </a:r>
            <a:r>
              <a:rPr b="0" i="1" lang="fr-FR" sz="2400" spc="-1" strike="noStrike">
                <a:solidFill>
                  <a:srgbClr val="00007d"/>
                </a:solidFill>
                <a:latin typeface="Arial"/>
              </a:rPr>
              <a:t> string_to_object</a:t>
            </a: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(String);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. Persistance dans G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DBDEA-D604-4FA5-BDF5-E02A295870D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Gestion des références persistantes locale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roblème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Référence locale : référence Java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Sauvegarde de O sur disque : sauvegarde d’une </a:t>
            </a:r>
            <a:r>
              <a:rPr b="0" i="1" lang="en-US" sz="2400" spc="-1" strike="noStrike">
                <a:solidFill>
                  <a:srgbClr val="00007d"/>
                </a:solidFill>
                <a:latin typeface="Arial"/>
              </a:rPr>
              <a:t>copie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de O’ sur disque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Référence Java non persistante : restauration de O’ du disque, adresse de O’ contenue dans O non valide</a:t>
            </a:r>
            <a:br>
              <a:rPr sz="2400"/>
            </a:b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Transformer les références persistantes locales en références persistantes distantes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. Persistance dans G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DF600-54EF-48AD-9619-8682DD3CF3A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Pla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cce6"/>
                </a:solidFill>
                <a:latin typeface="Arial"/>
              </a:rPr>
              <a:t>Introduction à la persistance</a:t>
            </a:r>
            <a:br>
              <a:rPr sz="2800"/>
            </a:br>
            <a:r>
              <a:rPr b="0" lang="fr-FR" sz="2800" spc="-1" strike="noStrike">
                <a:solidFill>
                  <a:srgbClr val="cccce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cce6"/>
                </a:solidFill>
                <a:latin typeface="Arial"/>
              </a:rPr>
              <a:t>Persistance dans CORBA</a:t>
            </a:r>
            <a:br>
              <a:rPr sz="2800"/>
            </a:br>
            <a:r>
              <a:rPr b="0" lang="fr-FR" sz="2800" spc="-1" strike="noStrike">
                <a:solidFill>
                  <a:srgbClr val="cccce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Arial"/>
              </a:rPr>
              <a:t>Persistance dans GICOM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Persistent POA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Servant Manager / Persistent Activator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PersistentObjectManager / PersistentObject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Modèle de programmation par délégation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Références CORBA persistantes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90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/ R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207CE-1C1B-439A-82E7-A21D76AEDD0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Etapes du projet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cce6"/>
                </a:solidFill>
                <a:latin typeface="Arial"/>
              </a:rPr>
              <a:t>Extension de eCOM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cce6"/>
                </a:solidFill>
                <a:latin typeface="Arial"/>
              </a:rPr>
              <a:t>Sous-système bancaire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9966"/>
                </a:solidFill>
                <a:latin typeface="Arial"/>
              </a:rPr>
              <a:t>Sous-système bancaire persistant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Arial"/>
              </a:rPr>
              <a:t>Sous-système bancaire persistant et fiable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Arial"/>
              </a:rPr>
              <a:t>Sécurisation des communications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Arial"/>
              </a:rPr>
              <a:t>Sous-système fournisseur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/ R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9DB58-B90E-4820-97A1-6704D875340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Implications sur l’application CORBA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9366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Déterminer les objets répartis (objets CORBA) de l’application et définir leurs interfaces en IDL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Compiler l’IDL, selon le modèle par délégation, pour produire des talons clients / squelettes serveurs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Ecrire les classes des servants qui incarnent les objets CORBA définis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Classes des objets persistants étendent </a:t>
            </a:r>
            <a:r>
              <a:rPr b="0" i="1" lang="fr-FR" sz="1800" spc="-1" strike="noStrike">
                <a:solidFill>
                  <a:srgbClr val="00007d"/>
                </a:solidFill>
                <a:latin typeface="Arial"/>
              </a:rPr>
              <a:t>PersistentObjectImpl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Classes des objets persistants surchargent </a:t>
            </a:r>
            <a:r>
              <a:rPr b="0" i="1" lang="fr-FR" sz="1800" spc="-1" strike="noStrike">
                <a:solidFill>
                  <a:srgbClr val="00007d"/>
                </a:solidFill>
                <a:latin typeface="Arial"/>
              </a:rPr>
              <a:t>init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Transformer les références locales vers des objets persistants en références distantes 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Ecrire et compiler le programme principal du serveur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Serveur générique étendu pour ajout de POA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Ecrire et compiler le programme client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7240" y="1962000"/>
            <a:ext cx="536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66"/>
                </a:solidFill>
                <a:latin typeface="Wingdings 2"/>
                <a:ea typeface="Wingdings 2"/>
              </a:rPr>
              <a:t>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560" y="4686480"/>
            <a:ext cx="536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66"/>
                </a:solidFill>
                <a:latin typeface="Wingdings 2"/>
                <a:ea typeface="Wingdings 2"/>
              </a:rPr>
              <a:t>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7520" y="5324400"/>
            <a:ext cx="536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66"/>
                </a:solidFill>
                <a:latin typeface="Wingdings 2"/>
                <a:ea typeface="Wingdings 2"/>
              </a:rPr>
              <a:t>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160" y="2571840"/>
            <a:ext cx="536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66"/>
                </a:solidFill>
                <a:latin typeface="Wingdings 2"/>
                <a:ea typeface="Wingdings 2"/>
              </a:rPr>
              <a:t>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/ R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76B64-0B24-42B1-AAFC-B654B24804A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9148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Modèle par héritage vs. </a:t>
            </a:r>
            <a:br>
              <a:rPr sz="4400"/>
            </a:b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modèle par délégatio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9410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95520" y="2106720"/>
            <a:ext cx="232272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ello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600280" y="4218120"/>
            <a:ext cx="2322720" cy="368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elloServantT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54880" y="2114640"/>
            <a:ext cx="23223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564240" y="2924280"/>
            <a:ext cx="2322720" cy="3682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elloPO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137120" y="3560760"/>
            <a:ext cx="2322360" cy="3682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elloPOAT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559560" y="4148280"/>
            <a:ext cx="2322360" cy="368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elloServ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74840" y="4675320"/>
            <a:ext cx="27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èle par délég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377040" y="4638600"/>
            <a:ext cx="274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èle par héri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4817880" y="2295360"/>
            <a:ext cx="1742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2917800" y="2484360"/>
            <a:ext cx="0" cy="172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7721640" y="3296880"/>
            <a:ext cx="0" cy="855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25760" y="3935520"/>
            <a:ext cx="0" cy="290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384880" y="3296880"/>
            <a:ext cx="1176120" cy="260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 flipV="1">
            <a:off x="4817880" y="2484360"/>
            <a:ext cx="1742760" cy="43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01880" y="3209760"/>
            <a:ext cx="59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463760" y="3267000"/>
            <a:ext cx="15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imp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200480" y="3897360"/>
            <a:ext cx="15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delegates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924440" y="1967040"/>
            <a:ext cx="15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exte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359240" y="2637000"/>
            <a:ext cx="15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imp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356600" y="3541680"/>
            <a:ext cx="159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exte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915080" y="3151080"/>
            <a:ext cx="159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exte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0800" y="5256360"/>
            <a:ext cx="857160" cy="26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44680" y="5611680"/>
            <a:ext cx="857160" cy="2606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4680" y="5973840"/>
            <a:ext cx="857160" cy="260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654200" y="5226120"/>
            <a:ext cx="227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Java génér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633680" y="5608800"/>
            <a:ext cx="219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e Java génér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614600" y="5946840"/>
            <a:ext cx="38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e Java écrite par le programm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/ R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87477-222F-4B33-92CB-49B31DDBE26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Questions ?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Etape 2 : Sous-système bancaire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Mise en œuvre des classes des servants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Extension/configuration du serveur générique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User-Agents</a:t>
            </a:r>
            <a:br>
              <a:rPr sz="2000"/>
            </a:b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Etape 3 : Sous-système bancaire persistant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Mise en œuvre de la classe </a:t>
            </a:r>
            <a:r>
              <a:rPr b="0" i="1" lang="fr-FR" sz="2000" spc="-1" strike="noStrike">
                <a:solidFill>
                  <a:srgbClr val="00007d"/>
                </a:solidFill>
                <a:latin typeface="Arial"/>
              </a:rPr>
              <a:t>PersistentActivator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Mise en œuvre des classes </a:t>
            </a:r>
            <a:r>
              <a:rPr b="0" i="1" lang="fr-FR" sz="2000" spc="-1" strike="noStrike">
                <a:solidFill>
                  <a:srgbClr val="00007d"/>
                </a:solidFill>
                <a:latin typeface="Arial"/>
              </a:rPr>
              <a:t>PersistentObjectImpl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 et </a:t>
            </a:r>
            <a:r>
              <a:rPr b="0" i="1" lang="fr-FR" sz="2000" spc="-1" strike="noStrike">
                <a:solidFill>
                  <a:srgbClr val="00007d"/>
                </a:solidFill>
                <a:latin typeface="Arial"/>
              </a:rPr>
              <a:t>PersistentObjectManagerImpl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Mise en œuvre des classes servants selon le modèle par délégation, héritage de </a:t>
            </a:r>
            <a:r>
              <a:rPr b="0" i="1" lang="fr-FR" sz="2000" spc="-1" strike="noStrike">
                <a:solidFill>
                  <a:srgbClr val="00007d"/>
                </a:solidFill>
                <a:latin typeface="Arial"/>
              </a:rPr>
              <a:t>PersistentObjectImpl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, surcharge de la méthode </a:t>
            </a:r>
            <a:r>
              <a:rPr b="0" i="1" lang="fr-FR" sz="2000" spc="-1" strike="noStrike">
                <a:solidFill>
                  <a:srgbClr val="00007d"/>
                </a:solidFill>
                <a:latin typeface="Arial"/>
              </a:rPr>
              <a:t>init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, transformation des références locales vers des objets persistants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/ R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09088-7B48-4A47-AF84-00C0CDA0DF9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Pla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Introduction à la persistance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Persistance dans CORBA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Persistance dans GICOM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/ R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31249-E81B-44F7-86FE-5AF1815143C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Qu’est-ce que la persistance ?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Par défaut : Objets CORBA non persistants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Objet CORBA valide durant la vie de son serveur CORBA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Objet perdu après l’arrêt ou la panne du serveur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Référence d’objet CORBA distribué non valide après panne/arrêt du serveur</a:t>
            </a:r>
            <a:br>
              <a:rPr sz="2000"/>
            </a:b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Objets CORBA rendus persistants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Objet persistant : survit à la panne/arrêt de son serveur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Objet valide après le redémarrage du serveur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Référence d’objet CORBA valide après redémarrage du serveur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Facilite l’écriture des programmes clients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. Introduction à la persis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B3B02-3367-499F-9F93-4A569C379AF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Principe de la persistance : </a:t>
            </a:r>
            <a:br>
              <a:rPr sz="4400"/>
            </a:b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Sauvegarde avant panne/arrêt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30480" y="2511360"/>
            <a:ext cx="2252520" cy="2148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51120" y="2838600"/>
            <a:ext cx="1440000" cy="1439640"/>
          </a:xfrm>
          <a:prstGeom prst="flowChartConnector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éférence d’objet CORB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95640" y="208908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COR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5697360" y="2833560"/>
            <a:ext cx="1440000" cy="1440000"/>
          </a:xfrm>
          <a:prstGeom prst="flowChartConnector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t CORB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62720" y="208440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ur COR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67160" y="2597040"/>
            <a:ext cx="290520" cy="56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08120" y="2538360"/>
            <a:ext cx="11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sayHell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92560" y="3306600"/>
            <a:ext cx="1509840" cy="509760"/>
          </a:xfrm>
          <a:custGeom>
            <a:avLst/>
            <a:gdLst/>
            <a:ahLst/>
            <a:rect l="l" t="t" r="r" b="b"/>
            <a:pathLst>
              <a:path w="951" h="321">
                <a:moveTo>
                  <a:pt x="0" y="138"/>
                </a:moveTo>
                <a:cubicBezTo>
                  <a:pt x="41" y="229"/>
                  <a:pt x="82" y="321"/>
                  <a:pt x="192" y="303"/>
                </a:cubicBezTo>
                <a:cubicBezTo>
                  <a:pt x="302" y="285"/>
                  <a:pt x="532" y="58"/>
                  <a:pt x="658" y="29"/>
                </a:cubicBezTo>
                <a:cubicBezTo>
                  <a:pt x="784" y="0"/>
                  <a:pt x="867" y="64"/>
                  <a:pt x="951" y="129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81560" y="3073320"/>
            <a:ext cx="11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sayHell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40400" y="2506680"/>
            <a:ext cx="2252520" cy="2147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11800" y="4905360"/>
            <a:ext cx="1103040" cy="987480"/>
          </a:xfrm>
          <a:prstGeom prst="can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6046200" y="4759200"/>
            <a:ext cx="623880" cy="857520"/>
          </a:xfrm>
          <a:custGeom>
            <a:avLst/>
            <a:gdLst>
              <a:gd name="textAreaLeft" fmla="*/ -360 w 623880"/>
              <a:gd name="textAreaRight" fmla="*/ 623880 w 623880"/>
              <a:gd name="textAreaTop" fmla="*/ 360 h 857520"/>
              <a:gd name="textAreaBottom" fmla="*/ 858240 h 857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81960" y="500868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auvegar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62520" y="5384880"/>
            <a:ext cx="231840" cy="231840"/>
          </a:xfrm>
          <a:prstGeom prst="flowChartConnector">
            <a:avLst/>
          </a:prstGeom>
          <a:solidFill>
            <a:srgbClr val="cccc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. Introduction à la persis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E480D-6857-4A80-86C8-FCD6BD8721E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Principe de la persistance : </a:t>
            </a:r>
            <a:br>
              <a:rPr sz="4400"/>
            </a:b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Reprise après redémarrage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30480" y="2511360"/>
            <a:ext cx="2252520" cy="2148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51120" y="2838600"/>
            <a:ext cx="1440000" cy="1439640"/>
          </a:xfrm>
          <a:prstGeom prst="flowChartConnector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éférence d’objet CORB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95640" y="208908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COR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5697360" y="2833560"/>
            <a:ext cx="1440000" cy="1440000"/>
          </a:xfrm>
          <a:prstGeom prst="flowChartConnector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208440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ur COR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67160" y="2597040"/>
            <a:ext cx="290520" cy="56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08120" y="2538360"/>
            <a:ext cx="11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sayHell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92560" y="3306600"/>
            <a:ext cx="1509840" cy="509760"/>
          </a:xfrm>
          <a:custGeom>
            <a:avLst/>
            <a:gdLst/>
            <a:ahLst/>
            <a:rect l="l" t="t" r="r" b="b"/>
            <a:pathLst>
              <a:path w="951" h="321">
                <a:moveTo>
                  <a:pt x="0" y="138"/>
                </a:moveTo>
                <a:cubicBezTo>
                  <a:pt x="41" y="229"/>
                  <a:pt x="82" y="321"/>
                  <a:pt x="192" y="303"/>
                </a:cubicBezTo>
                <a:cubicBezTo>
                  <a:pt x="302" y="285"/>
                  <a:pt x="532" y="58"/>
                  <a:pt x="658" y="29"/>
                </a:cubicBezTo>
                <a:cubicBezTo>
                  <a:pt x="784" y="0"/>
                  <a:pt x="867" y="64"/>
                  <a:pt x="951" y="129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81560" y="3073320"/>
            <a:ext cx="11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sayHell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40400" y="2506680"/>
            <a:ext cx="2252520" cy="2147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11800" y="4905360"/>
            <a:ext cx="1103040" cy="987480"/>
          </a:xfrm>
          <a:prstGeom prst="can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62520" y="5384880"/>
            <a:ext cx="231840" cy="231840"/>
          </a:xfrm>
          <a:prstGeom prst="flowChartConnector">
            <a:avLst/>
          </a:prstGeom>
          <a:solidFill>
            <a:srgbClr val="cccc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56080" y="2975040"/>
            <a:ext cx="347760" cy="406440"/>
          </a:xfrm>
          <a:prstGeom prst="lightningBolt">
            <a:avLst/>
          </a:prstGeom>
          <a:solidFill>
            <a:srgbClr val="e82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695920" y="2832120"/>
            <a:ext cx="2320920" cy="2666520"/>
            <a:chOff x="5695920" y="2832120"/>
            <a:chExt cx="2320920" cy="2666520"/>
          </a:xfrm>
        </p:grpSpPr>
        <p:sp>
          <p:nvSpPr>
            <p:cNvPr id="164" name=""/>
            <p:cNvSpPr/>
            <p:nvPr/>
          </p:nvSpPr>
          <p:spPr>
            <a:xfrm flipV="1" rot="16200000">
              <a:off x="6047280" y="4757760"/>
              <a:ext cx="623880" cy="85716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-360 h 857160"/>
                <a:gd name="textAreaBottom" fmla="*/ 857160 h 85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81960" y="5008680"/>
              <a:ext cx="133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Repri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5695920" y="2832120"/>
              <a:ext cx="1440000" cy="1440000"/>
            </a:xfrm>
            <a:prstGeom prst="flowChartConnector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bjet CORB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. Introduction à la persis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889CC-4CBF-4A15-8303-9D8F108F38E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Principes de mise en œuvre de la persistance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Etat stable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Tout objet persistant possède un </a:t>
            </a:r>
            <a:r>
              <a:rPr b="0" lang="en-US" sz="2000" spc="-1" strike="noStrike" u="sng">
                <a:solidFill>
                  <a:srgbClr val="00007d"/>
                </a:solidFill>
                <a:uFillTx/>
                <a:latin typeface="Arial"/>
              </a:rPr>
              <a:t>état stable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sauvegardé sur disque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Sauvegarde atomique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Si un problème survient lors d’une sauvegarde, possibilité de retrouver un état sauvegardé précédemment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Opérations de sauvegarde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Opérations de sauvegarde des objets persistants effectuées régulièrement par l’application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Reprise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Après le redémarrage d’un serveur CORBA (suite à panne/arrêt), l’accès à un objet persistant provoque sa réinitialisation à partir de son dernier état stable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Reprise effectuée par le service de persistance du serveur CORBA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. Introduction à la persis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4A757-D2C9-4183-B10C-7F43590F279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Pla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Introduction à la persistance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u’est-ce que la persistance ?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Sauvegarde/reprise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rincipes de mise en œuvre de la persistance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66"/>
                </a:solidFill>
                <a:latin typeface="Arial"/>
              </a:rPr>
              <a:t>Persistance dans CORBA</a:t>
            </a:r>
            <a:br>
              <a:rPr sz="3200"/>
            </a:br>
            <a:r>
              <a:rPr b="0" i="1" lang="en-US" sz="3200" spc="-1" strike="noStrike">
                <a:solidFill>
                  <a:srgbClr val="ff99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Persistance dans GICOM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/ R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109F2-72FC-481A-8078-DD95B626823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9T15:12:03Z</dcterms:created>
  <dc:creator>Sara Bouchenak</dc:creator>
  <dc:description/>
  <dc:language>en-US</dc:language>
  <cp:lastModifiedBy>Sara Bouchenak</cp:lastModifiedBy>
  <cp:lastPrinted>1999-03-27T19:11:36Z</cp:lastPrinted>
  <dcterms:modified xsi:type="dcterms:W3CDTF">2005-01-10T12:00:48Z</dcterms:modified>
  <cp:revision>629</cp:revision>
  <dc:subject/>
  <dc:title>Mobilet</dc:title>
</cp:coreProperties>
</file>