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3.xml.rels" ContentType="application/vnd.openxmlformats-package.relationships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camera.wav" ContentType="audio/x-wav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Univers"/>
              </a:rPr>
              <a:t>Click to move the slide</a:t>
            </a:r>
            <a:endParaRPr b="0" lang="en-US" sz="3600" spc="-1" strike="noStrike">
              <a:solidFill>
                <a:srgbClr val="333399"/>
              </a:solidFill>
              <a:latin typeface="Univer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54B685-B562-4140-9819-032B56E52D2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1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6840" rIns="96840" tIns="48240" bIns="48240"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00000"/>
                </a:solidFill>
                <a:latin typeface="Tahoma"/>
              </a:rPr>
              <a:t>Point-To-Point Messag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ahoma"/>
              </a:rPr>
              <a:t>When one process needs to send a message to another process, Point-To-Point Messaging can be used. However, this may or may not be a one-way relationship. The client to a Messaging system may only send messages, only receive messages, or send and receive messages. At the same time, another client can also send and/or receive messages. In the simplest case, one client is the Sender of the message and the other client is the Receiver of the message.</a:t>
            </a:r>
            <a:br>
              <a:rPr sz="1200"/>
            </a:b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Tahoma"/>
              </a:rPr>
              <a:t>There are two basic types of Point-to-Point Messaging systems. The first one involves a client that directly sends a message to another client. The second and more common implementation is based on the concept of a Message Queue. Such a system is shown in Figure 2.</a:t>
            </a:r>
            <a:br>
              <a:rPr sz="1200"/>
            </a:b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Tahoma"/>
              </a:rPr>
              <a:t>The point to note in Point-to-Point messaging is that, even though there may be multiple Senders of messages, there is only a single Receiver for the messag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3A8E2-B337-4CF1-8107-E9A3A5F85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Univer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520" y="1218960"/>
            <a:ext cx="8574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520" y="3925440"/>
            <a:ext cx="8574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7CFCE-B951-4E0E-AC6D-65701747D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Univer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18960"/>
            <a:ext cx="41839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73960" y="1218960"/>
            <a:ext cx="41839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520" y="3925440"/>
            <a:ext cx="41839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73960" y="3925440"/>
            <a:ext cx="41839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989EF-A058-4E94-B0A1-2BB47EC0A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Univer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520" y="1218960"/>
            <a:ext cx="27604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79240" y="1218960"/>
            <a:ext cx="27604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78320" y="1218960"/>
            <a:ext cx="27604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520" y="3925440"/>
            <a:ext cx="27604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79240" y="3925440"/>
            <a:ext cx="27604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78320" y="3925440"/>
            <a:ext cx="27604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E865F-CAAA-4018-A0C1-363E53434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B1A58-1E93-46A8-9920-09AFCF5E2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Univer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80520" y="1218960"/>
            <a:ext cx="857412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81ED6-7830-47DA-B28F-B536B0E7B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Univer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520" y="1218960"/>
            <a:ext cx="85741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E1137-5DE9-4FD3-A384-64F17B4DC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Univer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520" y="1218960"/>
            <a:ext cx="4183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73960" y="1218960"/>
            <a:ext cx="4183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C966A-EBF5-4079-B8B0-28F755403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Univer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30A17-4208-4982-91A7-BD62E63FC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150560" y="-36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224E9-0739-46C9-A7D5-E3733924D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Univer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18960"/>
            <a:ext cx="41839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73960" y="1218960"/>
            <a:ext cx="4183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80520" y="3925440"/>
            <a:ext cx="41839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EBBBF-90EE-40CB-BB20-C999FF08A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Univer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520" y="1218960"/>
            <a:ext cx="857412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D7B92-8FB6-40C1-83CC-37AC09D24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Univer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18960"/>
            <a:ext cx="4183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73960" y="1218960"/>
            <a:ext cx="41839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73960" y="3925440"/>
            <a:ext cx="41839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6E42F-F6EE-42B6-99CB-03AE362A3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Univer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18960"/>
            <a:ext cx="41839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73960" y="1218960"/>
            <a:ext cx="41839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80520" y="3925440"/>
            <a:ext cx="8574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D9634-A32D-4BFE-9B87-D10C21576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Univer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520" y="1218960"/>
            <a:ext cx="8574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80520" y="3925440"/>
            <a:ext cx="8574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A49CF-2737-4EA0-B36D-111919F1F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Univer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80520" y="1218960"/>
            <a:ext cx="41839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73960" y="1218960"/>
            <a:ext cx="41839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80520" y="3925440"/>
            <a:ext cx="41839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73960" y="3925440"/>
            <a:ext cx="41839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E449E-9DA8-4D8E-BBAE-47102FDC0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Univer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520" y="1218960"/>
            <a:ext cx="27604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9240" y="1218960"/>
            <a:ext cx="27604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78320" y="1218960"/>
            <a:ext cx="27604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380520" y="3925440"/>
            <a:ext cx="27604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9240" y="3925440"/>
            <a:ext cx="27604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78320" y="3925440"/>
            <a:ext cx="27604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FCD2C-F0FA-4723-9135-C70FA8CD8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Univer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520" y="1218960"/>
            <a:ext cx="85741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A2012-8FD3-493D-B4C6-08F783455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Univer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18960"/>
            <a:ext cx="4183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73960" y="1218960"/>
            <a:ext cx="4183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62771-AA64-4CD9-BF8E-35F2D6515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Univer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FC742-8C0D-4AD5-BCE2-7A20176A6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50560" y="-36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81439-B185-4C03-8C3B-B208252E0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Univer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520" y="1218960"/>
            <a:ext cx="41839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73960" y="1218960"/>
            <a:ext cx="4183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520" y="3925440"/>
            <a:ext cx="41839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35D73-CD89-4799-B608-B7C6CB94E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Univer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520" y="1218960"/>
            <a:ext cx="4183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73960" y="1218960"/>
            <a:ext cx="41839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73960" y="3925440"/>
            <a:ext cx="41839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A8042-A9FD-410C-A70F-027789A36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Univer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520" y="1218960"/>
            <a:ext cx="41839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73960" y="1218960"/>
            <a:ext cx="41839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520" y="3925440"/>
            <a:ext cx="8574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62411-76C1-4CA5-BAA6-46C8FC1F5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42800" y="101124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Univers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Univer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520" y="1218960"/>
            <a:ext cx="85741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Univer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Univers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Univer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Univers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Univer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Univers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Univer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Univers"/>
            </a:endParaRPr>
          </a:p>
          <a:p>
            <a:pPr lvl="4" marL="2057400" indent="-228600">
              <a:spcBef>
                <a:spcPts val="7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Univer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Univers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Univer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Univers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Univer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-360" y="-36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9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16200000">
            <a:off x="-2171880" y="4000320"/>
            <a:ext cx="45720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86600" y="655272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56C60-38EF-4C10-8E99-BFFC773D05B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 flipV="1">
            <a:off x="316080" y="3260520"/>
            <a:ext cx="8692920" cy="55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Univers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Univer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467E1-6272-4F72-8A09-8C1F7EB5D42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Univer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Univers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Univer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Univers"/>
            </a:endParaRPr>
          </a:p>
          <a:p>
            <a:pPr lvl="2" marL="914400" algn="ctr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Univers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Univers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Univer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Univer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Univer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www.jacorb.org/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fr-FR" sz="4800" spc="-1" strike="noStrike">
                <a:solidFill>
                  <a:srgbClr val="333399"/>
                </a:solidFill>
                <a:latin typeface="Univers"/>
              </a:rPr>
              <a:t> </a:t>
            </a:r>
            <a:r>
              <a:rPr b="0" lang="fr-FR" sz="4000" spc="-1" strike="noStrike">
                <a:solidFill>
                  <a:srgbClr val="333399"/>
                </a:solidFill>
                <a:latin typeface="Univers"/>
              </a:rPr>
              <a:t>2007-2008</a:t>
            </a:r>
            <a:r>
              <a:rPr b="0" lang="fr-FR" sz="3600" spc="-1" strike="noStrike">
                <a:solidFill>
                  <a:srgbClr val="333399"/>
                </a:solidFill>
                <a:latin typeface="Univers"/>
              </a:rPr>
              <a:t> </a:t>
            </a:r>
            <a:br>
              <a:rPr sz="3600"/>
            </a:br>
            <a:r>
              <a:rPr b="0" lang="fr-FR" sz="3600" spc="-1" strike="noStrike">
                <a:solidFill>
                  <a:srgbClr val="333399"/>
                </a:solidFill>
                <a:latin typeface="Univers"/>
              </a:rPr>
              <a:t>M2PGI SRR -  GICOM 1 &amp; 2</a:t>
            </a:r>
            <a:br>
              <a:rPr sz="3600"/>
            </a:br>
            <a:r>
              <a:rPr b="0" lang="fr-FR" sz="3600" spc="-1" strike="noStrike">
                <a:solidFill>
                  <a:srgbClr val="333399"/>
                </a:solidFill>
                <a:latin typeface="Univers"/>
              </a:rPr>
              <a:t>MP2GI SLE – PM2M</a:t>
            </a:r>
            <a:br>
              <a:rPr sz="3600"/>
            </a:br>
            <a:endParaRPr b="0" lang="en-US" sz="3600" spc="-1" strike="noStrike">
              <a:solidFill>
                <a:srgbClr val="333399"/>
              </a:solidFill>
              <a:latin typeface="Univer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899640" y="3886200"/>
            <a:ext cx="7704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Univers"/>
              </a:rPr>
              <a:t>Sara Bouchenak (GICOM 1)</a:t>
            </a:r>
            <a:endParaRPr b="0" lang="en-US" sz="2400" spc="-1" strike="noStrike">
              <a:solidFill>
                <a:srgbClr val="000000"/>
              </a:solidFill>
              <a:latin typeface="Univers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Univers"/>
              </a:rPr>
              <a:t>Didier Donsez &amp; Johann Bourcier (GICOM 2 – PM2M)</a:t>
            </a:r>
            <a:endParaRPr b="0" lang="en-US" sz="2400" spc="-1" strike="noStrike">
              <a:solidFill>
                <a:srgbClr val="000000"/>
              </a:solidFill>
              <a:latin typeface="Univers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Univers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Univers"/>
              </a:rPr>
              <a:t>Université Joseph Fourier (Grenoble 1)</a:t>
            </a:r>
            <a:br>
              <a:rPr sz="2000"/>
            </a:br>
            <a:r>
              <a:rPr b="1" lang="fr-FR" sz="1800" spc="-1" strike="noStrike">
                <a:solidFill>
                  <a:srgbClr val="000000"/>
                </a:solidFill>
                <a:latin typeface="Courier New"/>
              </a:rPr>
              <a:t>Prenom.Nom@imag.fr</a:t>
            </a:r>
            <a:endParaRPr b="0" lang="en-US" sz="1800" spc="-1" strike="noStrike">
              <a:solidFill>
                <a:srgbClr val="000000"/>
              </a:solidFill>
              <a:latin typeface="Univer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3399"/>
                </a:solidFill>
                <a:latin typeface="Univers"/>
              </a:rPr>
              <a:t>Etape 1 : eCOM étendu</a:t>
            </a:r>
            <a:br>
              <a:rPr sz="3200"/>
            </a:br>
            <a:r>
              <a:rPr b="0" lang="fr-FR" sz="3200" spc="-1" strike="noStrike">
                <a:solidFill>
                  <a:srgbClr val="333399"/>
                </a:solidFill>
                <a:latin typeface="Univers"/>
              </a:rPr>
              <a:t>	</a:t>
            </a:r>
            <a:r>
              <a:rPr b="0" lang="fr-FR" sz="3200" spc="-1" strike="noStrike">
                <a:solidFill>
                  <a:srgbClr val="333399"/>
                </a:solidFill>
                <a:latin typeface="Univers"/>
              </a:rPr>
              <a:t>(non traité en 07-08)</a:t>
            </a:r>
            <a:endParaRPr b="0" lang="en-US" sz="3200" spc="-1" strike="noStrike">
              <a:solidFill>
                <a:srgbClr val="333399"/>
              </a:solidFill>
              <a:latin typeface="Univers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380520" y="1218960"/>
            <a:ext cx="85741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Univers"/>
              </a:rPr>
              <a:t>But: voir des technologies liées à l’informatique mobile</a:t>
            </a:r>
            <a:endParaRPr b="0" lang="en-US" sz="2800" spc="-1" strike="noStrike">
              <a:solidFill>
                <a:srgbClr val="000000"/>
              </a:solidFill>
              <a:latin typeface="Univers"/>
            </a:endParaRPr>
          </a:p>
          <a:p>
            <a:pPr lvl="1" marL="914400" indent="-457200">
              <a:spcBef>
                <a:spcPts val="601"/>
              </a:spcBef>
              <a:buClr>
                <a:srgbClr val="ff0000"/>
              </a:buClr>
              <a:buSzPct val="5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Univers"/>
              </a:rPr>
              <a:t>WAP, iMODE, J2ME</a:t>
            </a:r>
            <a:endParaRPr b="0" lang="en-US" sz="2400" spc="-1" strike="noStrike">
              <a:solidFill>
                <a:srgbClr val="000000"/>
              </a:solidFill>
              <a:latin typeface="Univers"/>
            </a:endParaRPr>
          </a:p>
          <a:p>
            <a:pPr marL="533520" indent="-533520">
              <a:spcBef>
                <a:spcPts val="700"/>
              </a:spcBef>
              <a:buClr>
                <a:srgbClr val="3333cc"/>
              </a:buClr>
              <a:buSzPct val="60000"/>
              <a:buFont typeface="Univers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Univers"/>
              </a:rPr>
              <a:t>Prise en compte des terminaux mobiles</a:t>
            </a:r>
            <a:endParaRPr b="0" lang="en-US" sz="2800" spc="-1" strike="noStrike">
              <a:solidFill>
                <a:srgbClr val="000000"/>
              </a:solidFill>
              <a:latin typeface="Univers"/>
            </a:endParaRPr>
          </a:p>
          <a:p>
            <a:pPr lvl="1" marL="914400" indent="-457200">
              <a:spcBef>
                <a:spcPts val="601"/>
              </a:spcBef>
              <a:buClr>
                <a:srgbClr val="ff0000"/>
              </a:buClr>
              <a:buSzPct val="5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Univers"/>
              </a:rPr>
              <a:t>Par les servlets et les JSP</a:t>
            </a:r>
            <a:endParaRPr b="0" lang="en-US" sz="2400" spc="-1" strike="noStrike">
              <a:solidFill>
                <a:srgbClr val="000000"/>
              </a:solidFill>
              <a:latin typeface="Univers"/>
            </a:endParaRPr>
          </a:p>
          <a:p>
            <a:pPr lvl="1" marL="914400" indent="-457200">
              <a:spcBef>
                <a:spcPts val="601"/>
              </a:spcBef>
              <a:buClr>
                <a:srgbClr val="ff0000"/>
              </a:buClr>
              <a:buSzPct val="5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Univers"/>
              </a:rPr>
              <a:t>MIDLet consultant le catalogue</a:t>
            </a:r>
            <a:endParaRPr b="0" lang="en-US" sz="2400" spc="-1" strike="noStrike">
              <a:solidFill>
                <a:srgbClr val="000000"/>
              </a:solidFill>
              <a:latin typeface="Univers"/>
            </a:endParaRPr>
          </a:p>
        </p:txBody>
      </p:sp>
      <p:grpSp>
        <p:nvGrpSpPr>
          <p:cNvPr id="340" name=""/>
          <p:cNvGrpSpPr/>
          <p:nvPr/>
        </p:nvGrpSpPr>
        <p:grpSpPr>
          <a:xfrm>
            <a:off x="7696080" y="3886200"/>
            <a:ext cx="958680" cy="2513880"/>
            <a:chOff x="7696080" y="3886200"/>
            <a:chExt cx="958680" cy="2513880"/>
          </a:xfrm>
        </p:grpSpPr>
        <p:sp>
          <p:nvSpPr>
            <p:cNvPr id="341" name=""/>
            <p:cNvSpPr/>
            <p:nvPr/>
          </p:nvSpPr>
          <p:spPr>
            <a:xfrm>
              <a:off x="7696080" y="3886200"/>
              <a:ext cx="136800" cy="661320"/>
            </a:xfrm>
            <a:custGeom>
              <a:avLst/>
              <a:gdLst>
                <a:gd name="textAreaLeft" fmla="*/ 6480 w 136800"/>
                <a:gd name="textAreaRight" fmla="*/ 130320 w 136800"/>
                <a:gd name="textAreaTop" fmla="*/ 6480 h 661320"/>
                <a:gd name="textAreaBottom" fmla="*/ 654840 h 661320"/>
              </a:gdLst>
              <a:ahLst/>
              <a:rect l="textAreaLeft" t="textAreaTop" r="textAreaRight" b="textAreaBottom"/>
              <a:pathLst>
                <a:path w="21600" h="104202">
                  <a:moveTo>
                    <a:pt x="3600" y="0"/>
                  </a:moveTo>
                  <a:arcTo wR="3600" hR="3600" stAng="16200000" swAng="-5400000"/>
                  <a:lnTo>
                    <a:pt x="0" y="100602"/>
                  </a:lnTo>
                  <a:arcTo wR="3600" hR="3600" stAng="10800000" swAng="-5400000"/>
                  <a:lnTo>
                    <a:pt x="18000" y="10420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696080" y="4282920"/>
              <a:ext cx="958680" cy="2117160"/>
            </a:xfrm>
            <a:custGeom>
              <a:avLst/>
              <a:gdLst>
                <a:gd name="textAreaLeft" fmla="*/ 46800 w 958680"/>
                <a:gd name="textAreaRight" fmla="*/ 911880 w 958680"/>
                <a:gd name="textAreaTop" fmla="*/ 46800 h 2117160"/>
                <a:gd name="textAreaBottom" fmla="*/ 2070360 h 2117160"/>
              </a:gdLst>
              <a:ahLst/>
              <a:rect l="textAreaLeft" t="textAreaTop" r="textAreaRight" b="textAreaBottom"/>
              <a:pathLst>
                <a:path w="21600" h="47692">
                  <a:moveTo>
                    <a:pt x="3600" y="0"/>
                  </a:moveTo>
                  <a:arcTo wR="3600" hR="3600" stAng="16200000" swAng="-5400000"/>
                  <a:lnTo>
                    <a:pt x="0" y="44092"/>
                  </a:lnTo>
                  <a:arcTo wR="3600" hR="3600" stAng="10800000" swAng="-5400000"/>
                  <a:lnTo>
                    <a:pt x="18000" y="4769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832880" y="4415400"/>
              <a:ext cx="684360" cy="793800"/>
            </a:xfrm>
            <a:prstGeom prst="rect">
              <a:avLst/>
            </a:prstGeom>
            <a:solidFill>
              <a:srgbClr val="1c1c1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800" spc="-1" strike="noStrike">
                  <a:solidFill>
                    <a:srgbClr val="000000"/>
                  </a:solidFill>
                  <a:latin typeface="Arial Narrow"/>
                </a:rPr>
                <a:t>Mobile</a:t>
              </a:r>
              <a:br>
                <a:rPr sz="800"/>
              </a:br>
              <a:r>
                <a:rPr b="1" lang="fr-FR" sz="800" spc="-1" strike="noStrike">
                  <a:solidFill>
                    <a:srgbClr val="000000"/>
                  </a:solidFill>
                  <a:latin typeface="Arial Narrow"/>
                </a:rPr>
                <a:t>Phon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969680" y="5341320"/>
              <a:ext cx="136800" cy="132480"/>
            </a:xfrm>
            <a:prstGeom prst="rect">
              <a:avLst/>
            </a:prstGeom>
            <a:solidFill>
              <a:srgbClr val="1c1c1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244000" y="5341320"/>
              <a:ext cx="136440" cy="132480"/>
            </a:xfrm>
            <a:prstGeom prst="rect">
              <a:avLst/>
            </a:prstGeom>
            <a:solidFill>
              <a:srgbClr val="1c1c1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380440" y="5606280"/>
              <a:ext cx="136800" cy="131760"/>
            </a:xfrm>
            <a:prstGeom prst="rect">
              <a:avLst/>
            </a:prstGeom>
            <a:solidFill>
              <a:srgbClr val="1c1c1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8106840" y="5606280"/>
              <a:ext cx="136800" cy="131760"/>
            </a:xfrm>
            <a:prstGeom prst="rect">
              <a:avLst/>
            </a:prstGeom>
            <a:solidFill>
              <a:srgbClr val="1c1c1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832880" y="5606280"/>
              <a:ext cx="136440" cy="131760"/>
            </a:xfrm>
            <a:prstGeom prst="rect">
              <a:avLst/>
            </a:prstGeom>
            <a:solidFill>
              <a:srgbClr val="1c1c1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8380440" y="5870880"/>
              <a:ext cx="136800" cy="132480"/>
            </a:xfrm>
            <a:prstGeom prst="rect">
              <a:avLst/>
            </a:prstGeom>
            <a:solidFill>
              <a:srgbClr val="1c1c1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8106840" y="5870880"/>
              <a:ext cx="136800" cy="132480"/>
            </a:xfrm>
            <a:prstGeom prst="rect">
              <a:avLst/>
            </a:prstGeom>
            <a:solidFill>
              <a:srgbClr val="1c1c1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832880" y="5870880"/>
              <a:ext cx="136440" cy="132480"/>
            </a:xfrm>
            <a:prstGeom prst="rect">
              <a:avLst/>
            </a:prstGeom>
            <a:solidFill>
              <a:srgbClr val="1c1c1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8380440" y="6135120"/>
              <a:ext cx="136800" cy="132480"/>
            </a:xfrm>
            <a:prstGeom prst="rect">
              <a:avLst/>
            </a:prstGeom>
            <a:solidFill>
              <a:srgbClr val="1c1c1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8106840" y="6135120"/>
              <a:ext cx="136800" cy="132480"/>
            </a:xfrm>
            <a:prstGeom prst="rect">
              <a:avLst/>
            </a:prstGeom>
            <a:solidFill>
              <a:srgbClr val="1c1c1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832880" y="6135120"/>
              <a:ext cx="136440" cy="132480"/>
            </a:xfrm>
            <a:prstGeom prst="rect">
              <a:avLst/>
            </a:prstGeom>
            <a:solidFill>
              <a:srgbClr val="1c1c1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333399"/>
                </a:solidFill>
                <a:latin typeface="Univers"/>
              </a:rPr>
              <a:t>Etape 2 : Sous système bancaire</a:t>
            </a:r>
            <a:endParaRPr b="0" lang="en-US" sz="3600" spc="-1" strike="noStrike">
              <a:solidFill>
                <a:srgbClr val="333399"/>
              </a:solidFill>
              <a:latin typeface="Univers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380520" y="1218960"/>
            <a:ext cx="85741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Univers"/>
              </a:rPr>
              <a:t>Techniques CORBA</a:t>
            </a:r>
            <a:endParaRPr b="0" lang="en-US" sz="2400" spc="-1" strike="noStrike">
              <a:solidFill>
                <a:srgbClr val="000000"/>
              </a:solidFill>
              <a:latin typeface="Univers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Univers"/>
              </a:rPr>
              <a:t>Modèle de programmation des servants</a:t>
            </a:r>
            <a:endParaRPr b="0" lang="en-US" sz="2000" spc="-1" strike="noStrike">
              <a:solidFill>
                <a:srgbClr val="000000"/>
              </a:solidFill>
              <a:latin typeface="Univers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Univers"/>
              </a:rPr>
              <a:t>par héritage (non traité)</a:t>
            </a:r>
            <a:endParaRPr b="0" lang="en-US" sz="1800" spc="-1" strike="noStrike">
              <a:solidFill>
                <a:srgbClr val="000000"/>
              </a:solidFill>
              <a:latin typeface="Univers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Univers"/>
              </a:rPr>
              <a:t>par délégation (implémentation fournie)</a:t>
            </a:r>
            <a:endParaRPr b="0" lang="en-US" sz="1800" spc="-1" strike="noStrike">
              <a:solidFill>
                <a:srgbClr val="000000"/>
              </a:solidFill>
              <a:latin typeface="Univers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Univers"/>
              </a:rPr>
              <a:t>Serveur Générique (celui du TP SAR)</a:t>
            </a:r>
            <a:endParaRPr b="0" lang="en-US" sz="2000" spc="-1" strike="noStrike">
              <a:solidFill>
                <a:srgbClr val="000000"/>
              </a:solidFill>
              <a:latin typeface="Univers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Univers"/>
              </a:rPr>
              <a:t>À compléter (configurations .properties, .xml, .json au choix)</a:t>
            </a:r>
            <a:endParaRPr b="0" lang="en-US" sz="1800" spc="-1" strike="noStrike">
              <a:solidFill>
                <a:srgbClr val="000000"/>
              </a:solidFill>
              <a:latin typeface="Univer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Univers"/>
              </a:rPr>
              <a:t>Fonctionnalités du sous système bancaire</a:t>
            </a:r>
            <a:endParaRPr b="0" lang="en-US" sz="2400" spc="-1" strike="noStrike">
              <a:solidFill>
                <a:srgbClr val="000000"/>
              </a:solidFill>
              <a:latin typeface="Univers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Univers"/>
              </a:rPr>
              <a:t>gestion des comptes bancaires distribuées sur plusieurs serveurs</a:t>
            </a:r>
            <a:endParaRPr b="0" lang="en-US" sz="2000" spc="-1" strike="noStrike">
              <a:solidFill>
                <a:srgbClr val="000000"/>
              </a:solidFill>
              <a:latin typeface="Univers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Univers"/>
              </a:rPr>
              <a:t>1 IDL commun : Interopérabilité entre trinome</a:t>
            </a:r>
            <a:endParaRPr b="0" lang="en-US" sz="1800" spc="-1" strike="noStrike">
              <a:solidFill>
                <a:srgbClr val="000000"/>
              </a:solidFill>
              <a:latin typeface="Univers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Univers"/>
              </a:rPr>
              <a:t>Plusieurs banques (implémentations différentes : 1 par trinome)</a:t>
            </a:r>
            <a:endParaRPr b="0" lang="en-US" sz="1800" spc="-1" strike="noStrike">
              <a:solidFill>
                <a:srgbClr val="000000"/>
              </a:solidFill>
              <a:latin typeface="Univers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Univers"/>
              </a:rPr>
              <a:t>2 types de User-Agent:</a:t>
            </a:r>
            <a:endParaRPr b="0" lang="en-US" sz="2000" spc="-1" strike="noStrike">
              <a:solidFill>
                <a:srgbClr val="000000"/>
              </a:solidFill>
              <a:latin typeface="Univers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Univers"/>
              </a:rPr>
              <a:t>C# versus Java</a:t>
            </a:r>
            <a:endParaRPr b="0" lang="en-US" sz="1800" spc="-1" strike="noStrike">
              <a:solidFill>
                <a:srgbClr val="000000"/>
              </a:solidFill>
              <a:latin typeface="Univers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Univers"/>
              </a:rPr>
              <a:t>TUI versus GUI</a:t>
            </a:r>
            <a:endParaRPr b="0" lang="en-US" sz="1800" spc="-1" strike="noStrike">
              <a:solidFill>
                <a:srgbClr val="000000"/>
              </a:solidFill>
              <a:latin typeface="Univer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1847880" y="1571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8" name=""/>
          <p:cNvGrpSpPr/>
          <p:nvPr/>
        </p:nvGrpSpPr>
        <p:grpSpPr>
          <a:xfrm>
            <a:off x="990720" y="1523880"/>
            <a:ext cx="7924680" cy="5257800"/>
            <a:chOff x="990720" y="1523880"/>
            <a:chExt cx="7924680" cy="5257800"/>
          </a:xfrm>
        </p:grpSpPr>
        <p:sp>
          <p:nvSpPr>
            <p:cNvPr id="359" name=""/>
            <p:cNvSpPr/>
            <p:nvPr/>
          </p:nvSpPr>
          <p:spPr>
            <a:xfrm>
              <a:off x="990720" y="2971800"/>
              <a:ext cx="2209680" cy="16765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Site cli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5257800" y="1523880"/>
              <a:ext cx="2819520" cy="16765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Site Service de Nomma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5257800" y="4267080"/>
              <a:ext cx="2819520" cy="251460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Serveur applicati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172200" y="1981080"/>
              <a:ext cx="1066680" cy="914400"/>
            </a:xfrm>
            <a:prstGeom prst="ellipse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Arial Narrow"/>
                </a:rPr>
                <a:t>Objet </a:t>
              </a:r>
              <a:br>
                <a:rPr sz="1400"/>
              </a:br>
              <a:r>
                <a:rPr b="1" lang="fr-FR" sz="1400" spc="-1" strike="noStrike">
                  <a:solidFill>
                    <a:srgbClr val="000000"/>
                  </a:solidFill>
                  <a:latin typeface="Arial Narrow"/>
                </a:rPr>
                <a:t> NamingContex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5715000" y="4800600"/>
              <a:ext cx="1066680" cy="914400"/>
            </a:xfrm>
            <a:prstGeom prst="ellipse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Arial Narrow"/>
                </a:rPr>
                <a:t>Objet</a:t>
              </a:r>
              <a:br>
                <a:rPr sz="1400"/>
              </a:br>
              <a:r>
                <a:rPr b="1" lang="fr-FR" sz="1400" spc="-1" strike="noStrike">
                  <a:solidFill>
                    <a:srgbClr val="000000"/>
                  </a:solidFill>
                  <a:latin typeface="Arial Narrow"/>
                </a:rPr>
                <a:t>o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2514600" y="4114800"/>
              <a:ext cx="3200400" cy="1066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V="1">
              <a:off x="2438280" y="2514600"/>
              <a:ext cx="3733920" cy="1371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1447920" y="3581280"/>
              <a:ext cx="1066680" cy="914400"/>
            </a:xfrm>
            <a:prstGeom prst="ellipse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Arial Narrow"/>
                </a:rPr>
                <a:t>Applet</a:t>
              </a:r>
              <a:br>
                <a:rPr sz="1400"/>
              </a:br>
              <a:r>
                <a:rPr b="1" lang="fr-FR" sz="1400" spc="-1" strike="noStrike">
                  <a:solidFill>
                    <a:srgbClr val="000000"/>
                  </a:solidFill>
                  <a:latin typeface="Arial Narrow"/>
                </a:rPr>
                <a:t>Applic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Arial Narrow"/>
                </a:rPr>
                <a:t>Servlet/S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 flipV="1">
              <a:off x="6705720" y="2895480"/>
              <a:ext cx="0" cy="1371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6705720" y="3581280"/>
              <a:ext cx="2209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 Narrow"/>
                </a:rPr>
                <a:t>1 : bind("nomSymbolique",o1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3200400" y="2666880"/>
              <a:ext cx="2362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 Narrow"/>
                </a:rPr>
                <a:t>2 : resolve("nomSymbolique"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352680" y="4114800"/>
              <a:ext cx="213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 Narrow"/>
                </a:rPr>
                <a:t>2 : o2=o1.m1(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6553080" y="5791320"/>
              <a:ext cx="1067040" cy="914400"/>
            </a:xfrm>
            <a:prstGeom prst="ellipse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Arial Narrow"/>
                </a:rPr>
                <a:t>Objet</a:t>
              </a:r>
              <a:br>
                <a:rPr sz="1400"/>
              </a:br>
              <a:r>
                <a:rPr b="1" lang="fr-FR" sz="1400" spc="-1" strike="noStrike">
                  <a:solidFill>
                    <a:srgbClr val="000000"/>
                  </a:solidFill>
                  <a:latin typeface="Arial Narrow"/>
                </a:rPr>
                <a:t>o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2362320" y="4343400"/>
              <a:ext cx="4190760" cy="1828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352680" y="5410080"/>
              <a:ext cx="213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 Narrow"/>
                </a:rPr>
                <a:t>3 : res=o2.m2(o1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333399"/>
                </a:solidFill>
                <a:latin typeface="Univers"/>
              </a:rPr>
              <a:t>Etape 2 (i) : Rappel CORBA</a:t>
            </a:r>
            <a:endParaRPr b="0" lang="en-US" sz="3600" spc="-1" strike="noStrike">
              <a:solidFill>
                <a:srgbClr val="333399"/>
              </a:solidFill>
              <a:latin typeface="Univer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1847880" y="1571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6" name=""/>
          <p:cNvGrpSpPr/>
          <p:nvPr/>
        </p:nvGrpSpPr>
        <p:grpSpPr>
          <a:xfrm>
            <a:off x="914400" y="1459080"/>
            <a:ext cx="7696080" cy="5322240"/>
            <a:chOff x="914400" y="1459080"/>
            <a:chExt cx="7696080" cy="5322240"/>
          </a:xfrm>
        </p:grpSpPr>
        <p:sp>
          <p:nvSpPr>
            <p:cNvPr id="377" name=""/>
            <p:cNvSpPr/>
            <p:nvPr/>
          </p:nvSpPr>
          <p:spPr>
            <a:xfrm>
              <a:off x="4954680" y="5370840"/>
              <a:ext cx="3206520" cy="1410480"/>
            </a:xfrm>
            <a:prstGeom prst="foldedCorner">
              <a:avLst>
                <a:gd name="adj" fmla="val 12500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106640" y="1459080"/>
              <a:ext cx="1859760" cy="141084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 Narrow"/>
                </a:rPr>
                <a:t>User-Agent (Java,C#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788440" y="1459080"/>
              <a:ext cx="2372760" cy="141084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 Narrow"/>
                </a:rPr>
                <a:t>Site Service de Nomma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5788440" y="3767400"/>
              <a:ext cx="2372760" cy="141084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 Narrow"/>
                </a:rPr>
                <a:t>Site d’un Banq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1170720" y="4344840"/>
              <a:ext cx="3142080" cy="237276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 Narrow"/>
                </a:rPr>
                <a:t>Site d’une Agen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6558120" y="1843560"/>
              <a:ext cx="897480" cy="769320"/>
            </a:xfrm>
            <a:prstGeom prst="ellipse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 Narrow"/>
                </a:rPr>
                <a:t>Objet</a:t>
              </a:r>
              <a:br>
                <a:rPr sz="1200"/>
              </a:br>
              <a:r>
                <a:rPr b="1" lang="fr-FR" sz="1200" spc="-1" strike="noStrike">
                  <a:solidFill>
                    <a:srgbClr val="000000"/>
                  </a:solidFill>
                  <a:latin typeface="Arial Narrow"/>
                </a:rPr>
                <a:t>NamingContex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223080" y="4857840"/>
              <a:ext cx="897480" cy="769320"/>
            </a:xfrm>
            <a:prstGeom prst="ellipse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 Narrow"/>
                </a:rPr>
                <a:t>Objet</a:t>
              </a:r>
              <a:br>
                <a:rPr sz="1200"/>
              </a:br>
              <a:r>
                <a:rPr b="1" lang="fr-FR" sz="1200" spc="-1" strike="noStrike">
                  <a:solidFill>
                    <a:srgbClr val="000000"/>
                  </a:solidFill>
                  <a:latin typeface="Arial Narrow"/>
                </a:rPr>
                <a:t>Bran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453400" y="5819760"/>
              <a:ext cx="897480" cy="769320"/>
            </a:xfrm>
            <a:prstGeom prst="ellipse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 Narrow"/>
                </a:rPr>
                <a:t>Objet</a:t>
              </a:r>
              <a:br>
                <a:rPr sz="1200"/>
              </a:br>
              <a:r>
                <a:rPr b="1" lang="fr-FR" sz="1200" spc="-1" strike="noStrike">
                  <a:solidFill>
                    <a:srgbClr val="000000"/>
                  </a:solidFill>
                  <a:latin typeface="Arial Narrow"/>
                </a:rPr>
                <a:t>Bran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325240" y="5883840"/>
              <a:ext cx="897480" cy="769320"/>
            </a:xfrm>
            <a:prstGeom prst="ellipse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 Narrow"/>
                </a:rPr>
                <a:t>Objets</a:t>
              </a:r>
              <a:br>
                <a:rPr sz="1200"/>
              </a:br>
              <a:r>
                <a:rPr b="1" lang="fr-FR" sz="1200" spc="-1" strike="noStrike">
                  <a:solidFill>
                    <a:srgbClr val="000000"/>
                  </a:solidFill>
                  <a:latin typeface="Arial Narrow"/>
                </a:rPr>
                <a:t>Accou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491480" y="5114160"/>
              <a:ext cx="897480" cy="769320"/>
            </a:xfrm>
            <a:prstGeom prst="ellipse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 Narrow"/>
                </a:rPr>
                <a:t>Objet</a:t>
              </a:r>
              <a:br>
                <a:rPr sz="1200"/>
              </a:br>
              <a:r>
                <a:rPr b="1" lang="fr-FR" sz="1200" spc="-1" strike="noStrike">
                  <a:solidFill>
                    <a:srgbClr val="000000"/>
                  </a:solidFill>
                  <a:latin typeface="Arial Narrow"/>
                </a:rPr>
                <a:t>Bran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63320" y="5178600"/>
              <a:ext cx="897480" cy="769320"/>
            </a:xfrm>
            <a:prstGeom prst="ellipse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 Narrow"/>
                </a:rPr>
                <a:t>Objets</a:t>
              </a:r>
              <a:br>
                <a:rPr sz="1200"/>
              </a:br>
              <a:r>
                <a:rPr b="1" lang="fr-FR" sz="1200" spc="-1" strike="noStrike">
                  <a:solidFill>
                    <a:srgbClr val="000000"/>
                  </a:solidFill>
                  <a:latin typeface="Arial Narrow"/>
                </a:rPr>
                <a:t>Custom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558120" y="4216680"/>
              <a:ext cx="897480" cy="769320"/>
            </a:xfrm>
            <a:prstGeom prst="ellipse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 Narrow"/>
                </a:rPr>
                <a:t>Objet</a:t>
              </a:r>
              <a:br>
                <a:rPr sz="1200"/>
              </a:br>
              <a:r>
                <a:rPr b="1" lang="fr-FR" sz="1200" spc="-1" strike="noStrike">
                  <a:solidFill>
                    <a:srgbClr val="000000"/>
                  </a:solidFill>
                  <a:latin typeface="Arial Narrow"/>
                </a:rPr>
                <a:t>Ban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2325240" y="2549160"/>
              <a:ext cx="4232520" cy="1859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389320" y="2292840"/>
              <a:ext cx="4168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940400" y="2741400"/>
              <a:ext cx="0" cy="2436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491480" y="1971720"/>
              <a:ext cx="897480" cy="769320"/>
            </a:xfrm>
            <a:prstGeom prst="ellipse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 Narrow"/>
                </a:rPr>
                <a:t>Applic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 Narrow"/>
                </a:rPr>
                <a:t>Apple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 Narrow"/>
                </a:rPr>
                <a:t>Servlet/S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>
              <a:off x="2261160" y="5306760"/>
              <a:ext cx="1026000" cy="192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2133000" y="5883840"/>
              <a:ext cx="320400" cy="127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 flipV="1">
              <a:off x="7007040" y="2613240"/>
              <a:ext cx="0" cy="115416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7007040" y="3190320"/>
              <a:ext cx="1603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Arial Narrow"/>
                </a:rPr>
                <a:t>1 : bind(bankName,bank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3672000" y="1971720"/>
              <a:ext cx="1603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Arial Narrow"/>
                </a:rPr>
                <a:t>3 : resolve(bankName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185000" y="3126240"/>
              <a:ext cx="1795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Arial Narrow"/>
                </a:rPr>
                <a:t>4 : getBranch(brn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2068560" y="3511080"/>
              <a:ext cx="1795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Arial Narrow"/>
                </a:rPr>
                <a:t>5 : getCustomer(custName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2133000" y="2677320"/>
              <a:ext cx="1474920" cy="2180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914400" y="3961080"/>
              <a:ext cx="198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Arial Narrow"/>
                </a:rPr>
                <a:t>6 : getAccount(acn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 flipV="1">
              <a:off x="4120920" y="4729320"/>
              <a:ext cx="2437200" cy="4489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4313160" y="4599720"/>
              <a:ext cx="1795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Arial Narrow"/>
                </a:rPr>
                <a:t>2 : registerBranch(brn,b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146920" y="5883840"/>
              <a:ext cx="70524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4954680" y="5434920"/>
              <a:ext cx="897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600" spc="-1" strike="noStrike">
                  <a:solidFill>
                    <a:srgbClr val="000000"/>
                  </a:solidFill>
                  <a:latin typeface="Arial Narrow"/>
                </a:rPr>
                <a:t>Not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981040" y="5651640"/>
              <a:ext cx="20520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400" spc="-1" strike="noStrike">
                  <a:solidFill>
                    <a:srgbClr val="000000"/>
                  </a:solidFill>
                  <a:latin typeface="Arial Narrow"/>
                </a:rPr>
                <a:t>opérations effectuées au redémarrage des serveur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146920" y="6372720"/>
              <a:ext cx="705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5981040" y="6140520"/>
              <a:ext cx="20520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400" spc="-1" strike="noStrike">
                  <a:solidFill>
                    <a:srgbClr val="000000"/>
                  </a:solidFill>
                  <a:latin typeface="Arial Narrow"/>
                </a:rPr>
                <a:t>opérations effectuées pour le compte de l’U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333399"/>
                </a:solidFill>
                <a:latin typeface="Univers"/>
              </a:rPr>
              <a:t>Etape 2 (ii) : Sous système bancaire</a:t>
            </a:r>
            <a:endParaRPr b="0" lang="en-US" sz="3600" spc="-1" strike="noStrike">
              <a:solidFill>
                <a:srgbClr val="333399"/>
              </a:solidFill>
              <a:latin typeface="Univer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3399"/>
                </a:solidFill>
                <a:latin typeface="Univers"/>
              </a:rPr>
              <a:t>Etape 3 : Sous système bancaire persistant</a:t>
            </a:r>
            <a:endParaRPr b="0" lang="en-US" sz="3200" spc="-1" strike="noStrike">
              <a:solidFill>
                <a:srgbClr val="333399"/>
              </a:solidFill>
              <a:latin typeface="Univers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380520" y="1218960"/>
            <a:ext cx="85741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Univers"/>
              </a:rPr>
              <a:t>Objectif</a:t>
            </a:r>
            <a:endParaRPr b="0" lang="en-US" sz="2800" spc="-1" strike="noStrike">
              <a:solidFill>
                <a:srgbClr val="000000"/>
              </a:solidFill>
              <a:latin typeface="Univer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Univers"/>
              </a:rPr>
              <a:t>Rendre les objets persistants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Univers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Univers"/>
              </a:rPr>
              <a:t>aux arrêts (shutdown,crash) des serveurs</a:t>
            </a:r>
            <a:endParaRPr b="0" lang="en-US" sz="2400" spc="-1" strike="noStrike">
              <a:solidFill>
                <a:srgbClr val="000000"/>
              </a:solidFill>
              <a:latin typeface="Univer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Univers"/>
              </a:rPr>
              <a:t>Techniques CORBA</a:t>
            </a:r>
            <a:endParaRPr b="0" lang="en-US" sz="2800" spc="-1" strike="noStrike">
              <a:solidFill>
                <a:srgbClr val="000000"/>
              </a:solidFill>
              <a:latin typeface="Univer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Univers"/>
              </a:rPr>
              <a:t>Objets persistants</a:t>
            </a:r>
            <a:endParaRPr b="0" lang="en-US" sz="2400" spc="-1" strike="noStrike">
              <a:solidFill>
                <a:srgbClr val="000000"/>
              </a:solidFill>
              <a:latin typeface="Univer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Univers"/>
              </a:rPr>
              <a:t>2 méthodes load(), save()</a:t>
            </a:r>
            <a:endParaRPr b="0" lang="en-US" sz="2000" spc="-1" strike="noStrike">
              <a:solidFill>
                <a:srgbClr val="000000"/>
              </a:solidFill>
              <a:latin typeface="Univer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Univers"/>
              </a:rPr>
              <a:t>PPOA (PersistentPOA)</a:t>
            </a:r>
            <a:endParaRPr b="0" lang="en-US" sz="2400" spc="-1" strike="noStrike">
              <a:solidFill>
                <a:srgbClr val="000000"/>
              </a:solidFill>
              <a:latin typeface="Univer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Univers"/>
              </a:rPr>
              <a:t>POM (Persistent Object Manager)</a:t>
            </a:r>
            <a:endParaRPr b="0" lang="en-US" sz="2400" spc="-1" strike="noStrike">
              <a:solidFill>
                <a:srgbClr val="000000"/>
              </a:solidFill>
              <a:latin typeface="Univer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Univers"/>
              </a:rPr>
              <a:t>Affectation des ID</a:t>
            </a:r>
            <a:endParaRPr b="0" lang="en-US" sz="2000" spc="-1" strike="noStrike">
              <a:solidFill>
                <a:srgbClr val="000000"/>
              </a:solidFill>
              <a:latin typeface="Univer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Univers"/>
              </a:rPr>
              <a:t>Activation/Passivation des objets</a:t>
            </a:r>
            <a:endParaRPr b="0" lang="en-US" sz="2000" spc="-1" strike="noStrike">
              <a:solidFill>
                <a:srgbClr val="000000"/>
              </a:solidFill>
              <a:latin typeface="Univers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Univers"/>
              </a:rPr>
              <a:t>Externalisation des objets (1 par fichier)</a:t>
            </a:r>
            <a:endParaRPr b="0" lang="en-US" sz="2000" spc="-1" strike="noStrike">
              <a:solidFill>
                <a:srgbClr val="000000"/>
              </a:solidFill>
              <a:latin typeface="Univers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Univers"/>
              </a:rPr>
              <a:t>Ecriture atomique (par fichier ombre)</a:t>
            </a:r>
            <a:endParaRPr b="0" lang="en-US" sz="2000" spc="-1" strike="noStrike">
              <a:solidFill>
                <a:srgbClr val="000000"/>
              </a:solidFill>
              <a:latin typeface="Univer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Univers"/>
              </a:rPr>
              <a:t>A intégrer au serveur générique</a:t>
            </a:r>
            <a:endParaRPr b="0" lang="en-US" sz="2800" spc="-1" strike="noStrike">
              <a:solidFill>
                <a:srgbClr val="000000"/>
              </a:solidFill>
              <a:latin typeface="Univer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333399"/>
                </a:solidFill>
                <a:latin typeface="Univers"/>
              </a:rPr>
              <a:t>Etape 3 : Sous système bancaire persistant</a:t>
            </a:r>
            <a:br>
              <a:rPr sz="2800"/>
            </a:br>
            <a:r>
              <a:rPr b="0" lang="fr-FR" sz="2400" spc="-1" strike="noStrike">
                <a:solidFill>
                  <a:srgbClr val="333399"/>
                </a:solidFill>
                <a:latin typeface="Univers"/>
              </a:rPr>
              <a:t>Activation d’un objet avec le PPOA et le POM</a:t>
            </a:r>
            <a:endParaRPr b="0" lang="en-US" sz="2400" spc="-1" strike="noStrike">
              <a:solidFill>
                <a:srgbClr val="333399"/>
              </a:solidFill>
              <a:latin typeface="Univers"/>
            </a:endParaRPr>
          </a:p>
        </p:txBody>
      </p:sp>
      <p:sp>
        <p:nvSpPr>
          <p:cNvPr id="413" name=""/>
          <p:cNvSpPr/>
          <p:nvPr/>
        </p:nvSpPr>
        <p:spPr>
          <a:xfrm>
            <a:off x="304920" y="5486400"/>
            <a:ext cx="7696080" cy="68580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or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04920" y="4572000"/>
            <a:ext cx="3124080" cy="7621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RootP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581280" y="4572000"/>
            <a:ext cx="44197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PersistentP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038480" y="2590920"/>
            <a:ext cx="1067040" cy="457200"/>
          </a:xfrm>
          <a:prstGeom prst="ellipse">
            <a:avLst/>
          </a:prstGeom>
          <a:solidFill>
            <a:srgbClr val="b7ffb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 Narrow"/>
              </a:rPr>
              <a:t>POATi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029200" y="1828800"/>
            <a:ext cx="1066680" cy="685800"/>
          </a:xfrm>
          <a:prstGeom prst="ellipse">
            <a:avLst/>
          </a:prstGeom>
          <a:solidFill>
            <a:srgbClr val="b7ffb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 Narrow"/>
              </a:rPr>
              <a:t>Persistent</a:t>
            </a:r>
            <a:br>
              <a:rPr sz="1600"/>
            </a:br>
            <a:r>
              <a:rPr b="1" lang="fr-FR" sz="1600" spc="-1" strike="noStrike">
                <a:solidFill>
                  <a:srgbClr val="000000"/>
                </a:solidFill>
                <a:latin typeface="Arial Narrow"/>
              </a:rPr>
              <a:t>Ob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105520" y="3429000"/>
            <a:ext cx="1295280" cy="990720"/>
          </a:xfrm>
          <a:prstGeom prst="rect">
            <a:avLst/>
          </a:prstGeom>
          <a:solidFill>
            <a:srgbClr val="b7ffb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Activ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553080" y="1523880"/>
            <a:ext cx="914400" cy="2895840"/>
          </a:xfrm>
          <a:prstGeom prst="rect">
            <a:avLst/>
          </a:prstGeom>
          <a:solidFill>
            <a:srgbClr val="b7ffb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P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7924680" y="1828800"/>
            <a:ext cx="1067040" cy="685800"/>
          </a:xfrm>
          <a:prstGeom prst="can">
            <a:avLst>
              <a:gd name="adj" fmla="val 25000"/>
            </a:avLst>
          </a:prstGeom>
          <a:solidFill>
            <a:srgbClr val="b7ffb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 Narrow"/>
              </a:rPr>
              <a:t>Persistent</a:t>
            </a:r>
            <a:br>
              <a:rPr sz="1600"/>
            </a:br>
            <a:r>
              <a:rPr b="1" lang="fr-FR" sz="1600" spc="-1" strike="noStrike">
                <a:solidFill>
                  <a:srgbClr val="000000"/>
                </a:solidFill>
                <a:latin typeface="Arial Narrow"/>
              </a:rPr>
              <a:t>St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6172200" y="2057400"/>
            <a:ext cx="167652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 flipH="1">
            <a:off x="6171840" y="2362320"/>
            <a:ext cx="167652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 flipV="1">
            <a:off x="3886200" y="3047760"/>
            <a:ext cx="457200" cy="1600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733920" y="4648320"/>
            <a:ext cx="914400" cy="609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Arial Narrow"/>
              </a:rPr>
              <a:t>A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 Narrow"/>
              </a:rPr>
              <a:t>id</a:t>
            </a:r>
            <a:r>
              <a:rPr b="0" lang="fr-FR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1400" spc="-1" strike="noStrike">
                <a:solidFill>
                  <a:srgbClr val="000000"/>
                </a:solidFill>
                <a:latin typeface="Arial Narrow"/>
              </a:rPr>
              <a:t>re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 flipV="1">
            <a:off x="4724280" y="2438280"/>
            <a:ext cx="45720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flipV="1">
            <a:off x="5638680" y="44193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6400800" y="396252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657600" y="6324480"/>
            <a:ext cx="1066680" cy="304920"/>
          </a:xfrm>
          <a:prstGeom prst="parallelogram">
            <a:avLst>
              <a:gd name="adj" fmla="val 19823"/>
            </a:avLst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 Narrow"/>
              </a:rPr>
              <a:t>requ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 flipV="1">
            <a:off x="4191120" y="53337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flipV="1">
            <a:off x="4191120" y="61718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8077320" y="6019920"/>
            <a:ext cx="106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 Narrow"/>
              </a:rPr>
              <a:t>&lt;host,port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8077320" y="5257800"/>
            <a:ext cx="106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 Narrow"/>
              </a:rPr>
              <a:t>&lt;poa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077320" y="4343400"/>
            <a:ext cx="106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 Narrow"/>
              </a:rPr>
              <a:t>&lt;i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457200" y="4648320"/>
            <a:ext cx="914400" cy="609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Arial Narrow"/>
              </a:rPr>
              <a:t>A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 Narrow"/>
              </a:rPr>
              <a:t>id</a:t>
            </a:r>
            <a:r>
              <a:rPr b="0" lang="fr-FR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1400" spc="-1" strike="noStrike">
                <a:solidFill>
                  <a:srgbClr val="000000"/>
                </a:solidFill>
                <a:latin typeface="Arial Narrow"/>
              </a:rPr>
              <a:t>re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1447920" y="2590920"/>
            <a:ext cx="1066680" cy="45720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 Narrow"/>
              </a:rPr>
              <a:t>XXPOATi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2438280" y="1828800"/>
            <a:ext cx="1067040" cy="68580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 Narrow"/>
              </a:rPr>
              <a:t>Ob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 Narrow"/>
              </a:rPr>
              <a:t>X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 flipV="1">
            <a:off x="1295280" y="3047760"/>
            <a:ext cx="457200" cy="1600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 flipV="1">
            <a:off x="2133720" y="2438280"/>
            <a:ext cx="45720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924680" y="1447920"/>
            <a:ext cx="106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000000"/>
                </a:solidFill>
                <a:latin typeface="Arial Narrow"/>
              </a:rPr>
              <a:t>id</a:t>
            </a:r>
            <a:r>
              <a:rPr b="0" lang="fr-FR" sz="1600" spc="-1" strike="noStrike">
                <a:solidFill>
                  <a:srgbClr val="000000"/>
                </a:solidFill>
                <a:latin typeface="Arial Narrow"/>
              </a:rPr>
              <a:t>.s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flipV="1">
            <a:off x="685800" y="2819520"/>
            <a:ext cx="152280" cy="1828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04920" y="1752480"/>
            <a:ext cx="1066680" cy="10670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 Narrow"/>
              </a:rPr>
              <a:t>Object YY</a:t>
            </a:r>
            <a:br>
              <a:rPr sz="1400"/>
            </a:br>
            <a:r>
              <a:rPr b="1" lang="fr-FR" sz="1400" spc="-1" strike="noStrike">
                <a:solidFill>
                  <a:srgbClr val="000000"/>
                </a:solidFill>
                <a:latin typeface="Arial Narrow"/>
              </a:rPr>
              <a:t>héritant</a:t>
            </a:r>
            <a:br>
              <a:rPr sz="1400"/>
            </a:br>
            <a:r>
              <a:rPr b="1" lang="fr-FR" sz="1400" spc="-1" strike="noStrike">
                <a:solidFill>
                  <a:srgbClr val="000000"/>
                </a:solidFill>
                <a:latin typeface="Arial Narrow"/>
              </a:rPr>
              <a:t>d’un</a:t>
            </a:r>
            <a:br>
              <a:rPr sz="1400"/>
            </a:br>
            <a:r>
              <a:rPr b="1" lang="fr-FR" sz="1400" spc="-1" strike="noStrike">
                <a:solidFill>
                  <a:srgbClr val="000000"/>
                </a:solidFill>
                <a:latin typeface="Arial Narrow"/>
              </a:rPr>
              <a:t>YYPO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4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89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94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99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04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09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3399"/>
                </a:solidFill>
                <a:latin typeface="Univers"/>
              </a:rPr>
              <a:t>Etape 4 : Sous système bancaire persistant et fiabilisé</a:t>
            </a:r>
            <a:endParaRPr b="0" lang="en-US" sz="3200" spc="-1" strike="noStrike">
              <a:solidFill>
                <a:srgbClr val="333399"/>
              </a:solidFill>
              <a:latin typeface="Univer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80520" y="1218960"/>
            <a:ext cx="85741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Univers"/>
              </a:rPr>
              <a:t>Objectif</a:t>
            </a:r>
            <a:endParaRPr b="0" lang="en-US" sz="2800" spc="-1" strike="noStrike">
              <a:solidFill>
                <a:srgbClr val="000000"/>
              </a:solidFill>
              <a:latin typeface="Univers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Univers"/>
              </a:rPr>
              <a:t>Rendre ACID plusieurs opérations sur les objets Account</a:t>
            </a:r>
            <a:endParaRPr b="0" lang="en-US" sz="2400" spc="-1" strike="noStrike">
              <a:solidFill>
                <a:srgbClr val="000000"/>
              </a:solidFill>
              <a:latin typeface="Univers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Univers"/>
              </a:rPr>
              <a:t>Techniques</a:t>
            </a:r>
            <a:endParaRPr b="0" lang="en-US" sz="2800" spc="-1" strike="noStrike">
              <a:solidFill>
                <a:srgbClr val="000000"/>
              </a:solidFill>
              <a:latin typeface="Univers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Univers"/>
              </a:rPr>
              <a:t>Objets </a:t>
            </a:r>
            <a:r>
              <a:rPr b="0" i="1" lang="fr-FR" sz="2400" spc="-1" strike="noStrike">
                <a:solidFill>
                  <a:srgbClr val="000000"/>
                </a:solidFill>
                <a:latin typeface="Univers"/>
              </a:rPr>
              <a:t>recoverables</a:t>
            </a:r>
            <a:endParaRPr b="0" lang="en-US" sz="2400" spc="-1" strike="noStrike">
              <a:solidFill>
                <a:srgbClr val="000000"/>
              </a:solidFill>
              <a:latin typeface="Univers"/>
            </a:endParaRPr>
          </a:p>
          <a:p>
            <a:pPr lvl="2" marL="1074240" indent="-21456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Univers"/>
              </a:rPr>
              <a:t>Retour à la valeur précédente en cas d’abandon</a:t>
            </a:r>
            <a:endParaRPr b="0" lang="en-US" sz="2000" spc="-1" strike="noStrike">
              <a:solidFill>
                <a:srgbClr val="000000"/>
              </a:solidFill>
              <a:latin typeface="Univers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Univers"/>
              </a:rPr>
              <a:t>Moniteur transactionnel</a:t>
            </a:r>
            <a:endParaRPr b="0" lang="en-US" sz="2400" spc="-1" strike="noStrike">
              <a:solidFill>
                <a:srgbClr val="000000"/>
              </a:solidFill>
              <a:latin typeface="Univers"/>
            </a:endParaRPr>
          </a:p>
          <a:p>
            <a:pPr lvl="2" marL="1074240" indent="-21456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Univers"/>
              </a:rPr>
              <a:t>pilotant la validation à 2 phases</a:t>
            </a:r>
            <a:endParaRPr b="0" lang="en-US" sz="2000" spc="-1" strike="noStrike">
              <a:solidFill>
                <a:srgbClr val="000000"/>
              </a:solidFill>
              <a:latin typeface="Univers"/>
            </a:endParaRPr>
          </a:p>
          <a:p>
            <a:pPr lvl="2" marL="1074240" indent="-21456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Univers"/>
              </a:rPr>
              <a:t>1 GTM global et 1 LTM pour chaque serveur</a:t>
            </a:r>
            <a:endParaRPr b="0" lang="en-US" sz="2000" spc="-1" strike="noStrike">
              <a:solidFill>
                <a:srgbClr val="000000"/>
              </a:solidFill>
              <a:latin typeface="Univers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Univers"/>
              </a:rPr>
              <a:t>Contrôle de concurrence par estampillage</a:t>
            </a:r>
            <a:endParaRPr b="0" lang="en-US" sz="2400" spc="-1" strike="noStrike">
              <a:solidFill>
                <a:srgbClr val="000000"/>
              </a:solidFill>
              <a:latin typeface="Univers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Univers"/>
              </a:rPr>
              <a:t>Intégration à eCOM</a:t>
            </a:r>
            <a:endParaRPr b="0" lang="en-US" sz="2800" spc="-1" strike="noStrike">
              <a:solidFill>
                <a:srgbClr val="000000"/>
              </a:solidFill>
              <a:latin typeface="Univers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Univers"/>
                <a:ea typeface="Times New Roman"/>
              </a:rPr>
              <a:t>Par FundTransfer</a:t>
            </a:r>
            <a:endParaRPr b="0" lang="en-US" sz="2400" spc="-1" strike="noStrike">
              <a:solidFill>
                <a:srgbClr val="000000"/>
              </a:solidFill>
              <a:latin typeface="Univers"/>
            </a:endParaRPr>
          </a:p>
          <a:p>
            <a:pPr lvl="2" marL="1074240" indent="-21456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Univers"/>
                <a:ea typeface="Times New Roman"/>
              </a:rPr>
              <a:t>javax.ejb.SessionSynchronization Stateful Session</a:t>
            </a:r>
            <a:endParaRPr b="0" lang="en-US" sz="2000" spc="-1" strike="noStrike">
              <a:solidFill>
                <a:srgbClr val="000000"/>
              </a:solidFill>
              <a:latin typeface="Univer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3399"/>
                </a:solidFill>
                <a:latin typeface="Univers"/>
              </a:rPr>
              <a:t>Etape 4 : Sous système bancaire persistant et fiabilisé</a:t>
            </a:r>
            <a:br>
              <a:rPr sz="2400"/>
            </a:br>
            <a:r>
              <a:rPr b="0" lang="fr-FR" sz="3600" spc="-1" strike="noStrike">
                <a:solidFill>
                  <a:srgbClr val="333399"/>
                </a:solidFill>
                <a:latin typeface="Univers"/>
              </a:rPr>
              <a:t>Architecture</a:t>
            </a:r>
            <a:endParaRPr b="0" lang="en-US" sz="3600" spc="-1" strike="noStrike">
              <a:solidFill>
                <a:srgbClr val="333399"/>
              </a:solidFill>
              <a:latin typeface="Univers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380520" y="1218960"/>
            <a:ext cx="85741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800" spc="-1" strike="noStrike">
              <a:solidFill>
                <a:srgbClr val="000000"/>
              </a:solidFill>
              <a:latin typeface="Univers"/>
              <a:ea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191120" y="1479600"/>
            <a:ext cx="1371600" cy="1905120"/>
          </a:xfrm>
          <a:custGeom>
            <a:avLst/>
            <a:gdLst>
              <a:gd name="textAreaLeft" fmla="*/ 66960 w 1371600"/>
              <a:gd name="textAreaRight" fmla="*/ 1304640 w 1371600"/>
              <a:gd name="textAreaTop" fmla="*/ 66960 h 1905120"/>
              <a:gd name="textAreaBottom" fmla="*/ 1838160 h 1905120"/>
            </a:gdLst>
            <a:ahLst/>
            <a:rect l="textAreaLeft" t="textAreaTop" r="textAreaRight" b="textAreaBottom"/>
            <a:pathLst>
              <a:path w="21600" h="30000">
                <a:moveTo>
                  <a:pt x="3600" y="0"/>
                </a:moveTo>
                <a:arcTo wR="3600" hR="3600" stAng="16200000" swAng="-5400000"/>
                <a:lnTo>
                  <a:pt x="0" y="26400"/>
                </a:lnTo>
                <a:arcTo wR="3600" hR="3600" stAng="10800000" swAng="-5400000"/>
                <a:lnTo>
                  <a:pt x="18000" y="300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962520" y="144792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 Narrow"/>
              </a:rPr>
              <a:t>Site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Arial Narrow"/>
              </a:rPr>
              <a:t>TM globa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276720" y="3917880"/>
            <a:ext cx="1371600" cy="2667240"/>
          </a:xfrm>
          <a:custGeom>
            <a:avLst/>
            <a:gdLst>
              <a:gd name="textAreaLeft" fmla="*/ 66960 w 1371600"/>
              <a:gd name="textAreaRight" fmla="*/ 1304640 w 1371600"/>
              <a:gd name="textAreaTop" fmla="*/ 66960 h 2667240"/>
              <a:gd name="textAreaBottom" fmla="*/ 2600280 h 2667240"/>
            </a:gdLst>
            <a:ahLst/>
            <a:rect l="textAreaLeft" t="textAreaTop" r="textAreaRight" b="textAreaBottom"/>
            <a:pathLst>
              <a:path w="21600" h="41998">
                <a:moveTo>
                  <a:pt x="3600" y="0"/>
                </a:moveTo>
                <a:arcTo wR="3600" hR="3600" stAng="16200000" swAng="-5400000"/>
                <a:lnTo>
                  <a:pt x="0" y="38398"/>
                </a:lnTo>
                <a:arcTo wR="3600" hR="3600" stAng="10800000" swAng="-5400000"/>
                <a:lnTo>
                  <a:pt x="18000" y="419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048120" y="38862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 Narrow"/>
              </a:rPr>
              <a:t>Site Ag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352680" y="4299120"/>
            <a:ext cx="762120" cy="76176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 Narrow"/>
              </a:rPr>
              <a:t>T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 Narrow"/>
              </a:rPr>
              <a:t>Loc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4038480" y="5594400"/>
            <a:ext cx="457200" cy="45720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886200" y="5746680"/>
            <a:ext cx="457200" cy="45720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3733920" y="5899320"/>
            <a:ext cx="457200" cy="45720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3581280" y="6051600"/>
            <a:ext cx="457200" cy="45720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 Narrow"/>
              </a:rPr>
              <a:t>Obj</a:t>
            </a:r>
            <a:br>
              <a:rPr sz="1400"/>
            </a:br>
            <a:r>
              <a:rPr b="0" lang="fr-FR" sz="1400" spc="-1" strike="noStrike">
                <a:solidFill>
                  <a:srgbClr val="000000"/>
                </a:solidFill>
                <a:latin typeface="Arial Narrow"/>
              </a:rPr>
              <a:t>Rec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876920" y="3917880"/>
            <a:ext cx="1371600" cy="2667240"/>
          </a:xfrm>
          <a:custGeom>
            <a:avLst/>
            <a:gdLst>
              <a:gd name="textAreaLeft" fmla="*/ 66960 w 1371600"/>
              <a:gd name="textAreaRight" fmla="*/ 1304640 w 1371600"/>
              <a:gd name="textAreaTop" fmla="*/ 66960 h 2667240"/>
              <a:gd name="textAreaBottom" fmla="*/ 2600280 h 2667240"/>
            </a:gdLst>
            <a:ahLst/>
            <a:rect l="textAreaLeft" t="textAreaTop" r="textAreaRight" b="textAreaBottom"/>
            <a:pathLst>
              <a:path w="21600" h="41998">
                <a:moveTo>
                  <a:pt x="3600" y="0"/>
                </a:moveTo>
                <a:arcTo wR="3600" hR="3600" stAng="16200000" swAng="-5400000"/>
                <a:lnTo>
                  <a:pt x="0" y="38398"/>
                </a:lnTo>
                <a:arcTo wR="3600" hR="3600" stAng="10800000" swAng="-5400000"/>
                <a:lnTo>
                  <a:pt x="18000" y="419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4648320" y="38862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 Narrow"/>
              </a:rPr>
              <a:t>Site Ag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5638680" y="5594400"/>
            <a:ext cx="457200" cy="45720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486400" y="5746680"/>
            <a:ext cx="457200" cy="45720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5334120" y="5899320"/>
            <a:ext cx="457200" cy="45720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5181480" y="6051600"/>
            <a:ext cx="457200" cy="45720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 Narrow"/>
              </a:rPr>
              <a:t>Obj</a:t>
            </a:r>
            <a:br>
              <a:rPr sz="1400"/>
            </a:br>
            <a:r>
              <a:rPr b="0" lang="fr-FR" sz="1400" spc="-1" strike="noStrike">
                <a:solidFill>
                  <a:srgbClr val="000000"/>
                </a:solidFill>
                <a:latin typeface="Arial Narrow"/>
              </a:rPr>
              <a:t>Rec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477120" y="3917880"/>
            <a:ext cx="1371600" cy="2667240"/>
          </a:xfrm>
          <a:custGeom>
            <a:avLst/>
            <a:gdLst>
              <a:gd name="textAreaLeft" fmla="*/ 66960 w 1371600"/>
              <a:gd name="textAreaRight" fmla="*/ 1304640 w 1371600"/>
              <a:gd name="textAreaTop" fmla="*/ 66960 h 2667240"/>
              <a:gd name="textAreaBottom" fmla="*/ 2600280 h 2667240"/>
            </a:gdLst>
            <a:ahLst/>
            <a:rect l="textAreaLeft" t="textAreaTop" r="textAreaRight" b="textAreaBottom"/>
            <a:pathLst>
              <a:path w="21600" h="41998">
                <a:moveTo>
                  <a:pt x="3600" y="0"/>
                </a:moveTo>
                <a:arcTo wR="3600" hR="3600" stAng="16200000" swAng="-5400000"/>
                <a:lnTo>
                  <a:pt x="0" y="38398"/>
                </a:lnTo>
                <a:arcTo wR="3600" hR="3600" stAng="10800000" swAng="-5400000"/>
                <a:lnTo>
                  <a:pt x="18000" y="419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248520" y="38862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 Narrow"/>
              </a:rPr>
              <a:t>Site Ag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238880" y="5594400"/>
            <a:ext cx="457200" cy="45720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7086600" y="5746680"/>
            <a:ext cx="457200" cy="45720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6934320" y="5899320"/>
            <a:ext cx="457200" cy="45720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781680" y="6051600"/>
            <a:ext cx="457200" cy="45720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 Narrow"/>
              </a:rPr>
              <a:t>Obj</a:t>
            </a:r>
            <a:br>
              <a:rPr sz="1400"/>
            </a:br>
            <a:r>
              <a:rPr b="0" lang="fr-FR" sz="1400" spc="-1" strike="noStrike">
                <a:solidFill>
                  <a:srgbClr val="000000"/>
                </a:solidFill>
                <a:latin typeface="Arial Narrow"/>
              </a:rPr>
              <a:t>Rec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4038480" y="4908600"/>
            <a:ext cx="533520" cy="533520"/>
          </a:xfrm>
          <a:prstGeom prst="can">
            <a:avLst>
              <a:gd name="adj" fmla="val 2500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 Narrow"/>
              </a:rPr>
              <a:t>Jour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952880" y="4299120"/>
            <a:ext cx="762120" cy="76176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 Narrow"/>
              </a:rPr>
              <a:t>T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 Narrow"/>
              </a:rPr>
              <a:t>Loc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638680" y="4908600"/>
            <a:ext cx="533520" cy="533520"/>
          </a:xfrm>
          <a:prstGeom prst="can">
            <a:avLst>
              <a:gd name="adj" fmla="val 2500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 Narrow"/>
              </a:rPr>
              <a:t>Jour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553080" y="4299120"/>
            <a:ext cx="762120" cy="76176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 Narrow"/>
              </a:rPr>
              <a:t>T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 Narrow"/>
              </a:rPr>
              <a:t>Loc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238880" y="4908600"/>
            <a:ext cx="533520" cy="533520"/>
          </a:xfrm>
          <a:prstGeom prst="can">
            <a:avLst>
              <a:gd name="adj" fmla="val 2500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 Narrow"/>
              </a:rPr>
              <a:t>Jour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4267080" y="2165400"/>
            <a:ext cx="762120" cy="7621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 Narrow"/>
              </a:rPr>
              <a:t>T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 Narrow"/>
              </a:rPr>
              <a:t>Glob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4952880" y="2774880"/>
            <a:ext cx="533520" cy="533520"/>
          </a:xfrm>
          <a:prstGeom prst="can">
            <a:avLst>
              <a:gd name="adj" fmla="val 2500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 Narrow"/>
              </a:rPr>
              <a:t>Jour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676520" y="3917880"/>
            <a:ext cx="1371600" cy="2667240"/>
          </a:xfrm>
          <a:custGeom>
            <a:avLst/>
            <a:gdLst>
              <a:gd name="textAreaLeft" fmla="*/ 66960 w 1371600"/>
              <a:gd name="textAreaRight" fmla="*/ 1304640 w 1371600"/>
              <a:gd name="textAreaTop" fmla="*/ 66960 h 2667240"/>
              <a:gd name="textAreaBottom" fmla="*/ 2600280 h 2667240"/>
            </a:gdLst>
            <a:ahLst/>
            <a:rect l="textAreaLeft" t="textAreaTop" r="textAreaRight" b="textAreaBottom"/>
            <a:pathLst>
              <a:path w="21600" h="41998">
                <a:moveTo>
                  <a:pt x="3600" y="0"/>
                </a:moveTo>
                <a:arcTo wR="3600" hR="3600" stAng="16200000" swAng="-5400000"/>
                <a:lnTo>
                  <a:pt x="0" y="38398"/>
                </a:lnTo>
                <a:arcTo wR="3600" hR="3600" stAng="10800000" swAng="-5400000"/>
                <a:lnTo>
                  <a:pt x="18000" y="419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1447920" y="3855960"/>
            <a:ext cx="1828800" cy="69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 Narrow"/>
              </a:rPr>
              <a:t>Site Initiateu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 Narrow"/>
              </a:rPr>
              <a:t>(bean FundTransfer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6" name=""/>
          <p:cNvGrpSpPr/>
          <p:nvPr/>
        </p:nvGrpSpPr>
        <p:grpSpPr>
          <a:xfrm>
            <a:off x="1066680" y="1447920"/>
            <a:ext cx="6553080" cy="5410080"/>
            <a:chOff x="1066680" y="1447920"/>
            <a:chExt cx="6553080" cy="5410080"/>
          </a:xfrm>
        </p:grpSpPr>
        <p:grpSp>
          <p:nvGrpSpPr>
            <p:cNvPr id="477" name=""/>
            <p:cNvGrpSpPr/>
            <p:nvPr/>
          </p:nvGrpSpPr>
          <p:grpSpPr>
            <a:xfrm>
              <a:off x="1981080" y="2057400"/>
              <a:ext cx="4724280" cy="4800600"/>
              <a:chOff x="1981080" y="2057400"/>
              <a:chExt cx="4724280" cy="4800600"/>
            </a:xfrm>
          </p:grpSpPr>
          <p:sp>
            <p:nvSpPr>
              <p:cNvPr id="478" name=""/>
              <p:cNvSpPr/>
              <p:nvPr/>
            </p:nvSpPr>
            <p:spPr>
              <a:xfrm>
                <a:off x="1981080" y="2057400"/>
                <a:ext cx="0" cy="4800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3504960" y="2057400"/>
                <a:ext cx="0" cy="4800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5105160" y="2057400"/>
                <a:ext cx="0" cy="4800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6705360" y="2057400"/>
                <a:ext cx="0" cy="4800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2" name=""/>
            <p:cNvSpPr/>
            <p:nvPr/>
          </p:nvSpPr>
          <p:spPr>
            <a:xfrm>
              <a:off x="1066680" y="1447920"/>
              <a:ext cx="1828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 Narrow"/>
                </a:rPr>
                <a:t>serveur</a:t>
              </a:r>
              <a:br>
                <a:rPr sz="1800"/>
              </a:br>
              <a:r>
                <a:rPr b="0" lang="fr-FR" sz="1800" spc="-1" strike="noStrike">
                  <a:solidFill>
                    <a:srgbClr val="000000"/>
                  </a:solidFill>
                  <a:latin typeface="Arial Narrow"/>
                </a:rPr>
                <a:t>commer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2590560" y="1447920"/>
              <a:ext cx="1828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 Narrow"/>
                </a:rPr>
                <a:t>serveur</a:t>
              </a:r>
              <a:br>
                <a:rPr sz="1800"/>
              </a:br>
              <a:r>
                <a:rPr b="0" lang="fr-FR" sz="1800" spc="-1" strike="noStrike">
                  <a:solidFill>
                    <a:srgbClr val="000000"/>
                  </a:solidFill>
                  <a:latin typeface="Arial Narrow"/>
                </a:rPr>
                <a:t>transac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4190760" y="1447920"/>
              <a:ext cx="1828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 Narrow"/>
                </a:rPr>
                <a:t>agence</a:t>
              </a:r>
              <a:br>
                <a:rPr sz="1800"/>
              </a:br>
              <a:r>
                <a:rPr b="0" lang="fr-FR" sz="1800" spc="-1" strike="noStrike">
                  <a:solidFill>
                    <a:srgbClr val="000000"/>
                  </a:solidFill>
                  <a:latin typeface="Arial Narrow"/>
                </a:rPr>
                <a:t>cli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5790960" y="1447920"/>
              <a:ext cx="1828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 Narrow"/>
                </a:rPr>
                <a:t>agence</a:t>
              </a:r>
              <a:br>
                <a:rPr sz="1800"/>
              </a:br>
              <a:r>
                <a:rPr b="0" lang="fr-FR" sz="1800" spc="-1" strike="noStrike">
                  <a:solidFill>
                    <a:srgbClr val="000000"/>
                  </a:solidFill>
                  <a:latin typeface="Arial Narrow"/>
                </a:rPr>
                <a:t>fournisseu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1904760" y="2133720"/>
              <a:ext cx="152280" cy="53352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057040" y="236232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 Narrow"/>
                </a:rPr>
                <a:t>begin(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1904760" y="3048120"/>
              <a:ext cx="152280" cy="3808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3428640" y="2667240"/>
              <a:ext cx="152640" cy="3808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1981080" y="266724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 flipH="1">
              <a:off x="2057040" y="3048120"/>
              <a:ext cx="1447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5028840" y="3429000"/>
              <a:ext cx="152640" cy="3812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1981080" y="3429000"/>
              <a:ext cx="3047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 flipH="1">
              <a:off x="2056680" y="4572000"/>
              <a:ext cx="3048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 flipH="1">
              <a:off x="3580920" y="381024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3428640" y="3810240"/>
              <a:ext cx="152640" cy="3808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3657240" y="350532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 Narrow"/>
                </a:rPr>
                <a:t>enroll(trs,…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3581280" y="419112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5028840" y="4191120"/>
              <a:ext cx="152640" cy="3808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1904760" y="4572000"/>
              <a:ext cx="152280" cy="3812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6629040" y="4953240"/>
              <a:ext cx="152640" cy="3808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1981080" y="4953240"/>
              <a:ext cx="4647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 flipH="1">
              <a:off x="2057040" y="6096240"/>
              <a:ext cx="4648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 flipH="1">
              <a:off x="3581280" y="5334120"/>
              <a:ext cx="3047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3428640" y="5334120"/>
              <a:ext cx="152640" cy="3808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5257440" y="50292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 Narrow"/>
                </a:rPr>
                <a:t>enroll(trs, …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3504960" y="5715000"/>
              <a:ext cx="3124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6629040" y="5715000"/>
              <a:ext cx="152640" cy="3812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2057040" y="312444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 Narrow"/>
                </a:rPr>
                <a:t>debit(trs,a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2057040" y="464832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 Narrow"/>
                </a:rPr>
                <a:t>credit(trs,a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1904760" y="6096240"/>
              <a:ext cx="152280" cy="3808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2057040" y="27432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800" spc="-1" strike="noStrike">
                  <a:solidFill>
                    <a:srgbClr val="000000"/>
                  </a:solidFill>
                  <a:latin typeface="Arial Narrow"/>
                </a:rPr>
                <a:t>tr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3581280" y="38862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800" spc="-1" strike="noStrike">
                  <a:solidFill>
                    <a:srgbClr val="000000"/>
                  </a:solidFill>
                  <a:latin typeface="Arial Narrow"/>
                </a:rPr>
                <a:t>o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1981080" y="428148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800" spc="-1" strike="noStrike">
                  <a:solidFill>
                    <a:srgbClr val="000000"/>
                  </a:solidFill>
                  <a:latin typeface="Arial Narrow"/>
                </a:rPr>
                <a:t>voi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1981080" y="580572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800" spc="-1" strike="noStrike">
                  <a:solidFill>
                    <a:srgbClr val="000000"/>
                  </a:solidFill>
                  <a:latin typeface="Arial Narrow"/>
                </a:rPr>
                <a:t>voi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5257440" y="542448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800" spc="-1" strike="noStrike">
                  <a:solidFill>
                    <a:srgbClr val="000000"/>
                  </a:solidFill>
                  <a:latin typeface="Arial Narrow"/>
                </a:rPr>
                <a:t>o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6781680" y="5715000"/>
              <a:ext cx="68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400" spc="-1" strike="noStrike">
                  <a:solidFill>
                    <a:srgbClr val="000000"/>
                  </a:solidFill>
                  <a:latin typeface="Arial Narrow"/>
                </a:rPr>
                <a:t>cpt+=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5181480" y="4267440"/>
              <a:ext cx="68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400" spc="-1" strike="noStrike">
                  <a:solidFill>
                    <a:srgbClr val="000000"/>
                  </a:solidFill>
                  <a:latin typeface="Arial Narrow"/>
                </a:rPr>
                <a:t>cpt-=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3399"/>
                </a:solidFill>
                <a:latin typeface="Univers"/>
              </a:rPr>
              <a:t>Etape 4 : Sous système bancaire persistant et fiabilisé</a:t>
            </a:r>
            <a:br>
              <a:rPr sz="2400"/>
            </a:br>
            <a:r>
              <a:rPr b="0" lang="fr-FR" sz="3600" spc="-1" strike="noStrike">
                <a:solidFill>
                  <a:srgbClr val="333399"/>
                </a:solidFill>
                <a:latin typeface="Univers"/>
              </a:rPr>
              <a:t>Initialisation</a:t>
            </a:r>
            <a:endParaRPr b="0" lang="en-US" sz="3600" spc="-1" strike="noStrike">
              <a:solidFill>
                <a:srgbClr val="333399"/>
              </a:solidFill>
              <a:latin typeface="Univer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"/>
          <p:cNvGrpSpPr/>
          <p:nvPr/>
        </p:nvGrpSpPr>
        <p:grpSpPr>
          <a:xfrm>
            <a:off x="914400" y="1600200"/>
            <a:ext cx="6553080" cy="4800600"/>
            <a:chOff x="914400" y="1600200"/>
            <a:chExt cx="6553080" cy="4800600"/>
          </a:xfrm>
        </p:grpSpPr>
        <p:grpSp>
          <p:nvGrpSpPr>
            <p:cNvPr id="521" name=""/>
            <p:cNvGrpSpPr/>
            <p:nvPr/>
          </p:nvGrpSpPr>
          <p:grpSpPr>
            <a:xfrm>
              <a:off x="1828800" y="2209680"/>
              <a:ext cx="4724280" cy="4191120"/>
              <a:chOff x="1828800" y="2209680"/>
              <a:chExt cx="4724280" cy="4191120"/>
            </a:xfrm>
          </p:grpSpPr>
          <p:sp>
            <p:nvSpPr>
              <p:cNvPr id="522" name=""/>
              <p:cNvSpPr/>
              <p:nvPr/>
            </p:nvSpPr>
            <p:spPr>
              <a:xfrm>
                <a:off x="1828800" y="2209680"/>
                <a:ext cx="0" cy="4191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3352680" y="2209680"/>
                <a:ext cx="0" cy="4191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4952880" y="2209680"/>
                <a:ext cx="0" cy="4191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6553080" y="2209680"/>
                <a:ext cx="0" cy="4191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26" name=""/>
            <p:cNvSpPr/>
            <p:nvPr/>
          </p:nvSpPr>
          <p:spPr>
            <a:xfrm>
              <a:off x="914400" y="1600200"/>
              <a:ext cx="1828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 Narrow"/>
                </a:rPr>
                <a:t>serveur</a:t>
              </a:r>
              <a:br>
                <a:rPr sz="1800"/>
              </a:br>
              <a:r>
                <a:rPr b="0" lang="fr-FR" sz="1800" spc="-1" strike="noStrike">
                  <a:solidFill>
                    <a:srgbClr val="000000"/>
                  </a:solidFill>
                  <a:latin typeface="Arial Narrow"/>
                </a:rPr>
                <a:t>commer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2438280" y="1600200"/>
              <a:ext cx="1828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 Narrow"/>
                </a:rPr>
                <a:t>serveur</a:t>
              </a:r>
              <a:br>
                <a:rPr sz="1800"/>
              </a:br>
              <a:r>
                <a:rPr b="0" lang="fr-FR" sz="1800" spc="-1" strike="noStrike">
                  <a:solidFill>
                    <a:srgbClr val="000000"/>
                  </a:solidFill>
                  <a:latin typeface="Arial Narrow"/>
                </a:rPr>
                <a:t>transac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4038480" y="1600200"/>
              <a:ext cx="1828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 Narrow"/>
                </a:rPr>
                <a:t>agence</a:t>
              </a:r>
              <a:br>
                <a:rPr sz="1800"/>
              </a:br>
              <a:r>
                <a:rPr b="0" lang="fr-FR" sz="1800" spc="-1" strike="noStrike">
                  <a:solidFill>
                    <a:srgbClr val="000000"/>
                  </a:solidFill>
                  <a:latin typeface="Arial Narrow"/>
                </a:rPr>
                <a:t>cli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38680" y="1600200"/>
              <a:ext cx="1828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 Narrow"/>
                </a:rPr>
                <a:t>agence</a:t>
              </a:r>
              <a:br>
                <a:rPr sz="1800"/>
              </a:br>
              <a:r>
                <a:rPr b="0" lang="fr-FR" sz="1800" spc="-1" strike="noStrike">
                  <a:solidFill>
                    <a:srgbClr val="000000"/>
                  </a:solidFill>
                  <a:latin typeface="Arial Narrow"/>
                </a:rPr>
                <a:t>fournisseu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752480" y="2286000"/>
              <a:ext cx="152280" cy="3808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904760" y="236232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 Narrow"/>
                </a:rPr>
                <a:t>commit(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276360" y="2666880"/>
              <a:ext cx="152640" cy="3812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1828800" y="266688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3352680" y="304812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4876560" y="3048120"/>
              <a:ext cx="152640" cy="30456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429000" y="27576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 Narrow"/>
                </a:rPr>
                <a:t>prepare(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 flipH="1">
              <a:off x="3428640" y="335268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3276360" y="3352680"/>
              <a:ext cx="152640" cy="3812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6476760" y="3719520"/>
              <a:ext cx="152640" cy="30492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105160" y="34290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 Narrow"/>
                </a:rPr>
                <a:t>prepare(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3352680" y="3733920"/>
              <a:ext cx="3124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 flipH="1">
              <a:off x="3429000" y="4038480"/>
              <a:ext cx="3047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429000" y="304812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800" spc="-1" strike="noStrike">
                  <a:solidFill>
                    <a:srgbClr val="000000"/>
                  </a:solidFill>
                  <a:latin typeface="Arial Narrow"/>
                </a:rPr>
                <a:t>votecommi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5105160" y="374796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800" spc="-1" strike="noStrike">
                  <a:solidFill>
                    <a:srgbClr val="000000"/>
                  </a:solidFill>
                  <a:latin typeface="Arial Narrow"/>
                </a:rPr>
                <a:t>votecommi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3276360" y="4038480"/>
              <a:ext cx="152640" cy="3812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3352680" y="441972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4876560" y="4419720"/>
              <a:ext cx="152640" cy="30456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429000" y="41292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 Narrow"/>
                </a:rPr>
                <a:t>commit(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 flipH="1">
              <a:off x="3428640" y="472428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3276360" y="4724280"/>
              <a:ext cx="152640" cy="3812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6476760" y="5091120"/>
              <a:ext cx="152640" cy="30492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105160" y="48006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 Narrow"/>
                </a:rPr>
                <a:t>commit(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3352680" y="5105520"/>
              <a:ext cx="3124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 flipH="1">
              <a:off x="3429000" y="5410080"/>
              <a:ext cx="3047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3429000" y="441972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800" spc="-1" strike="noStrike">
                  <a:solidFill>
                    <a:srgbClr val="000000"/>
                  </a:solidFill>
                  <a:latin typeface="Arial Narrow"/>
                </a:rPr>
                <a:t>voi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5105160" y="511956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800" spc="-1" strike="noStrike">
                  <a:solidFill>
                    <a:srgbClr val="000000"/>
                  </a:solidFill>
                  <a:latin typeface="Arial Narrow"/>
                </a:rPr>
                <a:t>voi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3276360" y="5410080"/>
              <a:ext cx="152640" cy="3812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 flipH="1">
              <a:off x="1904760" y="5805360"/>
              <a:ext cx="1447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1904760" y="55008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800" spc="-1" strike="noStrike">
                  <a:solidFill>
                    <a:srgbClr val="000000"/>
                  </a:solidFill>
                  <a:latin typeface="Arial Narrow"/>
                </a:rPr>
                <a:t>o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1752480" y="5791320"/>
              <a:ext cx="152280" cy="3808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3399"/>
                </a:solidFill>
                <a:latin typeface="Univers"/>
              </a:rPr>
              <a:t>Etape 4 : Sous système bancaire persistant et fiabilisé</a:t>
            </a:r>
            <a:br>
              <a:rPr sz="2400"/>
            </a:br>
            <a:r>
              <a:rPr b="0" lang="fr-FR" sz="3600" spc="-1" strike="noStrike">
                <a:solidFill>
                  <a:srgbClr val="333399"/>
                </a:solidFill>
                <a:latin typeface="Univers"/>
              </a:rPr>
              <a:t>Terminaison</a:t>
            </a:r>
            <a:endParaRPr b="0" lang="en-US" sz="3600" spc="-1" strike="noStrike">
              <a:solidFill>
                <a:srgbClr val="333399"/>
              </a:solidFill>
              <a:latin typeface="Univer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333399"/>
                </a:solidFill>
                <a:latin typeface="Univers"/>
              </a:rPr>
              <a:t>Sommaire</a:t>
            </a:r>
            <a:endParaRPr b="0" lang="en-US" sz="3600" spc="-1" strike="noStrike">
              <a:solidFill>
                <a:srgbClr val="333399"/>
              </a:solidFill>
              <a:latin typeface="Univer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218960"/>
            <a:ext cx="85741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Univers"/>
              </a:rPr>
              <a:t>Objectifs fonctionnels</a:t>
            </a:r>
            <a:endParaRPr b="0" lang="en-US" sz="2800" spc="-1" strike="noStrike">
              <a:solidFill>
                <a:srgbClr val="000000"/>
              </a:solidFill>
              <a:latin typeface="Univer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Univers"/>
              </a:rPr>
              <a:t>Objectifs pédagogiques</a:t>
            </a:r>
            <a:endParaRPr b="0" lang="en-US" sz="2800" spc="-1" strike="noStrike">
              <a:solidFill>
                <a:srgbClr val="000000"/>
              </a:solidFill>
              <a:latin typeface="Univer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Univers"/>
              </a:rPr>
              <a:t>Architecture globale</a:t>
            </a:r>
            <a:endParaRPr b="0" lang="en-US" sz="2800" spc="-1" strike="noStrike">
              <a:solidFill>
                <a:srgbClr val="000000"/>
              </a:solidFill>
              <a:latin typeface="Univer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Univers"/>
              </a:rPr>
              <a:t>Organisation et planning</a:t>
            </a:r>
            <a:endParaRPr b="0" lang="en-US" sz="2800" spc="-1" strike="noStrike">
              <a:solidFill>
                <a:srgbClr val="000000"/>
              </a:solidFill>
              <a:latin typeface="Univer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Univers"/>
              </a:rPr>
              <a:t>Résultats attendus</a:t>
            </a:r>
            <a:endParaRPr b="0" lang="en-US" sz="2800" spc="-1" strike="noStrike">
              <a:solidFill>
                <a:srgbClr val="000000"/>
              </a:solidFill>
              <a:latin typeface="Univer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2" name=""/>
          <p:cNvGrpSpPr/>
          <p:nvPr/>
        </p:nvGrpSpPr>
        <p:grpSpPr>
          <a:xfrm>
            <a:off x="1066680" y="1523880"/>
            <a:ext cx="6553080" cy="4800600"/>
            <a:chOff x="1066680" y="1523880"/>
            <a:chExt cx="6553080" cy="4800600"/>
          </a:xfrm>
        </p:grpSpPr>
        <p:grpSp>
          <p:nvGrpSpPr>
            <p:cNvPr id="563" name=""/>
            <p:cNvGrpSpPr/>
            <p:nvPr/>
          </p:nvGrpSpPr>
          <p:grpSpPr>
            <a:xfrm>
              <a:off x="1981080" y="2133360"/>
              <a:ext cx="4724280" cy="4191120"/>
              <a:chOff x="1981080" y="2133360"/>
              <a:chExt cx="4724280" cy="4191120"/>
            </a:xfrm>
          </p:grpSpPr>
          <p:sp>
            <p:nvSpPr>
              <p:cNvPr id="564" name=""/>
              <p:cNvSpPr/>
              <p:nvPr/>
            </p:nvSpPr>
            <p:spPr>
              <a:xfrm>
                <a:off x="1981080" y="2133360"/>
                <a:ext cx="0" cy="4191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3504960" y="2133360"/>
                <a:ext cx="0" cy="4191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5105160" y="2133360"/>
                <a:ext cx="0" cy="4191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6705360" y="2133360"/>
                <a:ext cx="0" cy="4191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8" name=""/>
            <p:cNvSpPr/>
            <p:nvPr/>
          </p:nvSpPr>
          <p:spPr>
            <a:xfrm>
              <a:off x="1066680" y="1523880"/>
              <a:ext cx="1828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 Narrow"/>
                </a:rPr>
                <a:t>serveur</a:t>
              </a:r>
              <a:br>
                <a:rPr sz="1800"/>
              </a:br>
              <a:r>
                <a:rPr b="0" lang="fr-FR" sz="1800" spc="-1" strike="noStrike">
                  <a:solidFill>
                    <a:srgbClr val="000000"/>
                  </a:solidFill>
                  <a:latin typeface="Arial Narrow"/>
                </a:rPr>
                <a:t>commer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2590560" y="1523880"/>
              <a:ext cx="1828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 Narrow"/>
                </a:rPr>
                <a:t>serveur</a:t>
              </a:r>
              <a:br>
                <a:rPr sz="1800"/>
              </a:br>
              <a:r>
                <a:rPr b="0" lang="fr-FR" sz="1800" spc="-1" strike="noStrike">
                  <a:solidFill>
                    <a:srgbClr val="000000"/>
                  </a:solidFill>
                  <a:latin typeface="Arial Narrow"/>
                </a:rPr>
                <a:t>transac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4190760" y="1523880"/>
              <a:ext cx="1828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 Narrow"/>
                </a:rPr>
                <a:t>agence</a:t>
              </a:r>
              <a:br>
                <a:rPr sz="1800"/>
              </a:br>
              <a:r>
                <a:rPr b="0" lang="fr-FR" sz="1800" spc="-1" strike="noStrike">
                  <a:solidFill>
                    <a:srgbClr val="000000"/>
                  </a:solidFill>
                  <a:latin typeface="Arial Narrow"/>
                </a:rPr>
                <a:t>cli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790960" y="1523880"/>
              <a:ext cx="1828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 Narrow"/>
                </a:rPr>
                <a:t>agence</a:t>
              </a:r>
              <a:br>
                <a:rPr sz="1800"/>
              </a:br>
              <a:r>
                <a:rPr b="0" lang="fr-FR" sz="1800" spc="-1" strike="noStrike">
                  <a:solidFill>
                    <a:srgbClr val="000000"/>
                  </a:solidFill>
                  <a:latin typeface="Arial Narrow"/>
                </a:rPr>
                <a:t>fournisseu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1904760" y="2209680"/>
              <a:ext cx="152280" cy="3808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2057040" y="22860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 Narrow"/>
                </a:rPr>
                <a:t>commit(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3428640" y="2590560"/>
              <a:ext cx="152640" cy="3812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981080" y="259056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3504960" y="297180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028840" y="2971800"/>
              <a:ext cx="152640" cy="30456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581280" y="268128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 Narrow"/>
                </a:rPr>
                <a:t>prepare(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 flipH="1">
              <a:off x="3580920" y="327636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3428640" y="3276360"/>
              <a:ext cx="152640" cy="3812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6629040" y="3643200"/>
              <a:ext cx="152640" cy="30492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440" y="335268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 Narrow"/>
                </a:rPr>
                <a:t>prepare(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3504960" y="3657600"/>
              <a:ext cx="3124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 flipH="1">
              <a:off x="3581280" y="3962160"/>
              <a:ext cx="3047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3581280" y="29718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800" spc="-1" strike="noStrike">
                  <a:solidFill>
                    <a:srgbClr val="000000"/>
                  </a:solidFill>
                  <a:latin typeface="Arial Narrow"/>
                </a:rPr>
                <a:t>votecommi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5257440" y="367164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800" spc="-1" strike="noStrike">
                  <a:solidFill>
                    <a:srgbClr val="000000"/>
                  </a:solidFill>
                  <a:latin typeface="Arial Narrow"/>
                </a:rPr>
                <a:t>voterollbac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3428640" y="3962160"/>
              <a:ext cx="152640" cy="3812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3504960" y="434340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5028840" y="4343400"/>
              <a:ext cx="152640" cy="30456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581280" y="405288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 Narrow"/>
                </a:rPr>
                <a:t>rollback(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 flipH="1">
              <a:off x="3580920" y="464796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3428640" y="4647960"/>
              <a:ext cx="152640" cy="3812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6629040" y="5014800"/>
              <a:ext cx="152640" cy="30492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257440" y="472428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 Narrow"/>
                </a:rPr>
                <a:t>rollback(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3504960" y="5029200"/>
              <a:ext cx="3124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 flipH="1">
              <a:off x="3581280" y="5333760"/>
              <a:ext cx="3047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3581280" y="43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800" spc="-1" strike="noStrike">
                  <a:solidFill>
                    <a:srgbClr val="000000"/>
                  </a:solidFill>
                  <a:latin typeface="Arial Narrow"/>
                </a:rPr>
                <a:t>voi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5257440" y="504324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800" spc="-1" strike="noStrike">
                  <a:solidFill>
                    <a:srgbClr val="000000"/>
                  </a:solidFill>
                  <a:latin typeface="Arial Narrow"/>
                </a:rPr>
                <a:t>voi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3428640" y="5333760"/>
              <a:ext cx="152640" cy="3812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 flipH="1">
              <a:off x="2057040" y="5729040"/>
              <a:ext cx="1447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2057040" y="542448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800" spc="-1" strike="noStrike">
                  <a:solidFill>
                    <a:srgbClr val="000000"/>
                  </a:solidFill>
                  <a:latin typeface="Arial Narrow"/>
                </a:rPr>
                <a:t>k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1904760" y="5715000"/>
              <a:ext cx="152280" cy="3808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3399"/>
                </a:solidFill>
                <a:latin typeface="Univers"/>
              </a:rPr>
              <a:t>Etape 4 : Sous système bancaire persistant et fiabilisé</a:t>
            </a:r>
            <a:br>
              <a:rPr sz="2400"/>
            </a:br>
            <a:r>
              <a:rPr b="0" lang="fr-FR" sz="3600" spc="-1" strike="noStrike">
                <a:solidFill>
                  <a:srgbClr val="333399"/>
                </a:solidFill>
                <a:latin typeface="Univers"/>
              </a:rPr>
              <a:t>Terminaison avec échec</a:t>
            </a:r>
            <a:endParaRPr b="0" lang="en-US" sz="3600" spc="-1" strike="noStrike">
              <a:solidFill>
                <a:srgbClr val="333399"/>
              </a:solidFill>
              <a:latin typeface="Univer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333399"/>
                </a:solidFill>
                <a:latin typeface="Univers"/>
              </a:rPr>
              <a:t>Etape 5 : Sécurisation des communications (en option)</a:t>
            </a:r>
            <a:endParaRPr b="0" lang="en-US" sz="3600" spc="-1" strike="noStrike">
              <a:solidFill>
                <a:srgbClr val="333399"/>
              </a:solidFill>
              <a:latin typeface="Univers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380520" y="1218960"/>
            <a:ext cx="85741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Univers"/>
              </a:rPr>
              <a:t>Objectifs</a:t>
            </a:r>
            <a:endParaRPr b="0" lang="en-US" sz="2800" spc="-1" strike="noStrike">
              <a:solidFill>
                <a:srgbClr val="000000"/>
              </a:solidFill>
              <a:latin typeface="Univers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Univers"/>
              </a:rPr>
              <a:t>Sécuriser les communications entre eCOM et les browsers</a:t>
            </a:r>
            <a:endParaRPr b="0" lang="en-US" sz="2400" spc="-1" strike="noStrike">
              <a:solidFill>
                <a:srgbClr val="000000"/>
              </a:solidFill>
              <a:latin typeface="Univer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Univers"/>
              </a:rPr>
              <a:t>Authentification du serveur / Authentification du client administrateur</a:t>
            </a:r>
            <a:endParaRPr b="0" lang="en-US" sz="2000" spc="-1" strike="noStrike">
              <a:solidFill>
                <a:srgbClr val="000000"/>
              </a:solidFill>
              <a:latin typeface="Univers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Univers"/>
              </a:rPr>
              <a:t>Sécuriser les communications entre les serveurs CORBA (non traité en 07-08)</a:t>
            </a:r>
            <a:endParaRPr b="0" lang="en-US" sz="2400" spc="-1" strike="noStrike">
              <a:solidFill>
                <a:srgbClr val="000000"/>
              </a:solidFill>
              <a:latin typeface="Univer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Univers"/>
              </a:rPr>
              <a:t>Techniques</a:t>
            </a:r>
            <a:endParaRPr b="0" lang="en-US" sz="2800" spc="-1" strike="noStrike">
              <a:solidFill>
                <a:srgbClr val="000000"/>
              </a:solidFill>
              <a:latin typeface="Univers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Univers"/>
              </a:rPr>
              <a:t>Certificats</a:t>
            </a:r>
            <a:endParaRPr b="0" lang="en-US" sz="2400" spc="-1" strike="noStrike">
              <a:solidFill>
                <a:srgbClr val="000000"/>
              </a:solidFill>
              <a:latin typeface="Univers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Univers"/>
              </a:rPr>
              <a:t>HTTP / SSL</a:t>
            </a:r>
            <a:endParaRPr b="0" lang="en-US" sz="2400" spc="-1" strike="noStrike">
              <a:solidFill>
                <a:srgbClr val="000000"/>
              </a:solidFill>
              <a:latin typeface="Univers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Univers"/>
              </a:rPr>
              <a:t>IIOP / SSL</a:t>
            </a:r>
            <a:endParaRPr b="0" lang="en-US" sz="2400" spc="-1" strike="noStrike">
              <a:solidFill>
                <a:srgbClr val="000000"/>
              </a:solidFill>
              <a:latin typeface="Univer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333399"/>
                </a:solidFill>
                <a:latin typeface="Univers"/>
              </a:rPr>
              <a:t>Etape 6 : Sous système fournisseur</a:t>
            </a:r>
            <a:endParaRPr b="0" lang="en-US" sz="3600" spc="-1" strike="noStrike">
              <a:solidFill>
                <a:srgbClr val="333399"/>
              </a:solidFill>
              <a:latin typeface="Univer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380520" y="1218960"/>
            <a:ext cx="85741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Univers"/>
              </a:rPr>
              <a:t>Objectifs</a:t>
            </a:r>
            <a:endParaRPr b="0" lang="en-US" sz="2800" spc="-1" strike="noStrike">
              <a:solidFill>
                <a:srgbClr val="000000"/>
              </a:solidFill>
              <a:latin typeface="Univers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Univers"/>
              </a:rPr>
              <a:t>Prise de commande auprès des fournisseurs</a:t>
            </a:r>
            <a:endParaRPr b="0" lang="en-US" sz="2400" spc="-1" strike="noStrike">
              <a:solidFill>
                <a:srgbClr val="000000"/>
              </a:solidFill>
              <a:latin typeface="Univer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Univer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"/>
          <p:cNvSpPr/>
          <p:nvPr/>
        </p:nvSpPr>
        <p:spPr>
          <a:xfrm>
            <a:off x="5638680" y="2209680"/>
            <a:ext cx="3124440" cy="175284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rve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nisseur F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2666880" y="2209680"/>
            <a:ext cx="2438640" cy="388620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JO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Messaging 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76320" y="3505320"/>
            <a:ext cx="1904760" cy="167616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 Narrow"/>
              </a:rPr>
              <a:t>Serveur e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 rot="16200000">
            <a:off x="1676520" y="4191120"/>
            <a:ext cx="380880" cy="38088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00e4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304920" y="4114800"/>
            <a:ext cx="914400" cy="533520"/>
          </a:xfrm>
          <a:prstGeom prst="hexagon">
            <a:avLst>
              <a:gd name="adj" fmla="val 17560"/>
              <a:gd name="vf" fmla="val 115470"/>
            </a:avLst>
          </a:prstGeom>
          <a:solidFill>
            <a:srgbClr val="00e4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 Narrow"/>
              </a:rPr>
              <a:t>SB</a:t>
            </a:r>
            <a:br>
              <a:rPr sz="1600"/>
            </a:br>
            <a:r>
              <a:rPr b="1" lang="fr-FR" sz="1200" spc="-1" strike="noStrike">
                <a:solidFill>
                  <a:srgbClr val="000000"/>
                </a:solidFill>
                <a:latin typeface="Arial Narrow"/>
              </a:rPr>
              <a:t>MsgProduc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13" name=""/>
          <p:cNvCxnSpPr>
            <a:stCxn id="612" idx="3"/>
            <a:endCxn id="611" idx="0"/>
          </p:cNvCxnSpPr>
          <p:nvPr/>
        </p:nvCxnSpPr>
        <p:spPr>
          <a:xfrm>
            <a:off x="1218960" y="4381200"/>
            <a:ext cx="456120" cy="1080"/>
          </a:xfrm>
          <a:prstGeom prst="curvedConnector2">
            <a:avLst/>
          </a:prstGeom>
          <a:ln w="381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4" name=""/>
          <p:cNvSpPr/>
          <p:nvPr/>
        </p:nvSpPr>
        <p:spPr>
          <a:xfrm>
            <a:off x="2971800" y="3276720"/>
            <a:ext cx="1752480" cy="533160"/>
          </a:xfrm>
          <a:prstGeom prst="hexagon">
            <a:avLst>
              <a:gd name="adj" fmla="val 33676"/>
              <a:gd name="vf" fmla="val 115470"/>
            </a:avLst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 Narrow"/>
              </a:rPr>
              <a:t>Message Queue F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5" name=""/>
          <p:cNvGrpSpPr/>
          <p:nvPr/>
        </p:nvGrpSpPr>
        <p:grpSpPr>
          <a:xfrm>
            <a:off x="1865160" y="3543120"/>
            <a:ext cx="1107000" cy="695160"/>
            <a:chOff x="1865160" y="3543120"/>
            <a:chExt cx="1107000" cy="695160"/>
          </a:xfrm>
        </p:grpSpPr>
        <p:sp>
          <p:nvSpPr>
            <p:cNvPr id="616" name=""/>
            <p:cNvSpPr/>
            <p:nvPr/>
          </p:nvSpPr>
          <p:spPr>
            <a:xfrm>
              <a:off x="2133720" y="373392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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17" name=""/>
            <p:cNvCxnSpPr>
              <a:stCxn id="611" idx="1"/>
              <a:endCxn id="614" idx="1"/>
            </p:cNvCxnSpPr>
            <p:nvPr/>
          </p:nvCxnSpPr>
          <p:spPr>
            <a:xfrm flipH="1" flipV="1" rot="5400000">
              <a:off x="2070720" y="3337200"/>
              <a:ext cx="695520" cy="110736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lg" type="stealth" w="med"/>
            </a:ln>
          </p:spPr>
        </p:cxnSp>
      </p:grpSp>
      <p:sp>
        <p:nvSpPr>
          <p:cNvPr id="618" name=""/>
          <p:cNvSpPr/>
          <p:nvPr/>
        </p:nvSpPr>
        <p:spPr>
          <a:xfrm>
            <a:off x="3048120" y="4800600"/>
            <a:ext cx="1752480" cy="533520"/>
          </a:xfrm>
          <a:prstGeom prst="hexagon">
            <a:avLst>
              <a:gd name="adj" fmla="val 33653"/>
              <a:gd name="vf" fmla="val 115470"/>
            </a:avLst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 Narrow"/>
              </a:rPr>
              <a:t>Message Queue F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9" name=""/>
          <p:cNvGrpSpPr/>
          <p:nvPr/>
        </p:nvGrpSpPr>
        <p:grpSpPr>
          <a:xfrm>
            <a:off x="1865160" y="4419720"/>
            <a:ext cx="1183320" cy="647640"/>
            <a:chOff x="1865160" y="4419720"/>
            <a:chExt cx="1183320" cy="647640"/>
          </a:xfrm>
        </p:grpSpPr>
        <p:cxnSp>
          <p:nvCxnSpPr>
            <p:cNvPr id="620" name=""/>
            <p:cNvCxnSpPr>
              <a:stCxn id="611" idx="2"/>
              <a:endCxn id="618" idx="1"/>
            </p:cNvCxnSpPr>
            <p:nvPr/>
          </p:nvCxnSpPr>
          <p:spPr>
            <a:xfrm flipH="1" rot="16200000">
              <a:off x="2184120" y="4203000"/>
              <a:ext cx="545400" cy="11836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lg" type="stealth" w="med"/>
            </a:ln>
          </p:spPr>
        </p:cxnSp>
        <p:sp>
          <p:nvSpPr>
            <p:cNvPr id="621" name=""/>
            <p:cNvSpPr/>
            <p:nvPr/>
          </p:nvSpPr>
          <p:spPr>
            <a:xfrm>
              <a:off x="2133720" y="441972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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2" name=""/>
          <p:cNvGrpSpPr/>
          <p:nvPr/>
        </p:nvGrpSpPr>
        <p:grpSpPr>
          <a:xfrm>
            <a:off x="5334120" y="3182760"/>
            <a:ext cx="1371240" cy="703080"/>
            <a:chOff x="5334120" y="3182760"/>
            <a:chExt cx="1371240" cy="703080"/>
          </a:xfrm>
        </p:grpSpPr>
        <p:sp>
          <p:nvSpPr>
            <p:cNvPr id="623" name=""/>
            <p:cNvSpPr/>
            <p:nvPr/>
          </p:nvSpPr>
          <p:spPr>
            <a:xfrm>
              <a:off x="5576040" y="3484080"/>
              <a:ext cx="322560" cy="100080"/>
            </a:xfrm>
            <a:prstGeom prst="rect">
              <a:avLst/>
            </a:prstGeom>
            <a:solidFill>
              <a:srgbClr val="00e4a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5334120" y="3383640"/>
              <a:ext cx="241920" cy="301320"/>
            </a:xfrm>
            <a:prstGeom prst="ellipse">
              <a:avLst/>
            </a:prstGeom>
            <a:solidFill>
              <a:srgbClr val="00e4a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5737680" y="3182760"/>
              <a:ext cx="967680" cy="703080"/>
            </a:xfrm>
            <a:prstGeom prst="roundRect">
              <a:avLst>
                <a:gd name="adj" fmla="val 16667"/>
              </a:avLst>
            </a:prstGeom>
            <a:solidFill>
              <a:srgbClr val="00e4a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 Narrow"/>
                </a:rPr>
                <a:t>Messa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 Narrow"/>
                </a:rPr>
                <a:t>Drive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 Narrow"/>
                </a:rPr>
                <a:t>Bea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6" name=""/>
          <p:cNvGrpSpPr/>
          <p:nvPr/>
        </p:nvGrpSpPr>
        <p:grpSpPr>
          <a:xfrm>
            <a:off x="4724280" y="2971800"/>
            <a:ext cx="914400" cy="571320"/>
            <a:chOff x="4724280" y="2971800"/>
            <a:chExt cx="914400" cy="571320"/>
          </a:xfrm>
        </p:grpSpPr>
        <p:sp>
          <p:nvSpPr>
            <p:cNvPr id="627" name=""/>
            <p:cNvSpPr/>
            <p:nvPr/>
          </p:nvSpPr>
          <p:spPr>
            <a:xfrm>
              <a:off x="5029200" y="297180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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8" name=""/>
            <p:cNvCxnSpPr>
              <a:stCxn id="614" idx="3"/>
              <a:endCxn id="624" idx="2"/>
            </p:cNvCxnSpPr>
            <p:nvPr/>
          </p:nvCxnSpPr>
          <p:spPr>
            <a:xfrm flipV="1">
              <a:off x="4724280" y="3534480"/>
              <a:ext cx="610560" cy="9000"/>
            </a:xfrm>
            <a:prstGeom prst="curvedConnector5">
              <a:avLst>
                <a:gd name="adj1" fmla="val 49970"/>
                <a:gd name="adj2" fmla="val 50000"/>
                <a:gd name="adj3" fmla="val 49970"/>
              </a:avLst>
            </a:prstGeom>
            <a:ln w="38160">
              <a:solidFill>
                <a:srgbClr val="000000"/>
              </a:solidFill>
              <a:miter/>
              <a:tailEnd len="lg" type="stealth" w="med"/>
            </a:ln>
          </p:spPr>
        </p:cxnSp>
      </p:grpSp>
      <p:sp>
        <p:nvSpPr>
          <p:cNvPr id="629" name=""/>
          <p:cNvSpPr/>
          <p:nvPr/>
        </p:nvSpPr>
        <p:spPr>
          <a:xfrm>
            <a:off x="6858000" y="3276720"/>
            <a:ext cx="914400" cy="533160"/>
          </a:xfrm>
          <a:prstGeom prst="hexagon">
            <a:avLst>
              <a:gd name="adj" fmla="val 17571"/>
              <a:gd name="vf" fmla="val 115470"/>
            </a:avLst>
          </a:prstGeom>
          <a:solidFill>
            <a:srgbClr val="99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 Narrow"/>
              </a:rPr>
              <a:t>Ent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 Narrow"/>
              </a:rPr>
              <a:t>Be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8001000" y="3048120"/>
            <a:ext cx="642960" cy="838080"/>
          </a:xfrm>
          <a:prstGeom prst="can">
            <a:avLst>
              <a:gd name="adj" fmla="val 19444"/>
            </a:avLst>
          </a:prstGeom>
          <a:gradFill rotWithShape="0">
            <a:gsLst>
              <a:gs pos="0">
                <a:srgbClr val="5e755e"/>
              </a:gs>
              <a:gs pos="50000">
                <a:srgbClr val="ccffcc"/>
              </a:gs>
              <a:gs pos="100000">
                <a:srgbClr val="5e755e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 Narrow"/>
              </a:rPr>
              <a:t>D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5638680" y="4267080"/>
            <a:ext cx="3124440" cy="175284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rve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nisseur F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2" name=""/>
          <p:cNvGrpSpPr/>
          <p:nvPr/>
        </p:nvGrpSpPr>
        <p:grpSpPr>
          <a:xfrm>
            <a:off x="5334120" y="5240160"/>
            <a:ext cx="1371240" cy="703080"/>
            <a:chOff x="5334120" y="5240160"/>
            <a:chExt cx="1371240" cy="703080"/>
          </a:xfrm>
        </p:grpSpPr>
        <p:sp>
          <p:nvSpPr>
            <p:cNvPr id="633" name=""/>
            <p:cNvSpPr/>
            <p:nvPr/>
          </p:nvSpPr>
          <p:spPr>
            <a:xfrm>
              <a:off x="5576040" y="5541480"/>
              <a:ext cx="322560" cy="100080"/>
            </a:xfrm>
            <a:prstGeom prst="rect">
              <a:avLst/>
            </a:prstGeom>
            <a:solidFill>
              <a:srgbClr val="00e4a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5334120" y="5441040"/>
              <a:ext cx="241920" cy="301320"/>
            </a:xfrm>
            <a:prstGeom prst="ellipse">
              <a:avLst/>
            </a:prstGeom>
            <a:solidFill>
              <a:srgbClr val="00e4a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5737680" y="5240160"/>
              <a:ext cx="967680" cy="703080"/>
            </a:xfrm>
            <a:prstGeom prst="roundRect">
              <a:avLst>
                <a:gd name="adj" fmla="val 16667"/>
              </a:avLst>
            </a:prstGeom>
            <a:solidFill>
              <a:srgbClr val="00e4a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 Narrow"/>
                </a:rPr>
                <a:t>Messa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 Narrow"/>
                </a:rPr>
                <a:t>Drive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 Narrow"/>
                </a:rPr>
                <a:t>Bea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6" name=""/>
          <p:cNvSpPr/>
          <p:nvPr/>
        </p:nvSpPr>
        <p:spPr>
          <a:xfrm>
            <a:off x="6858000" y="5334120"/>
            <a:ext cx="914400" cy="533160"/>
          </a:xfrm>
          <a:prstGeom prst="hexagon">
            <a:avLst>
              <a:gd name="adj" fmla="val 17571"/>
              <a:gd name="vf" fmla="val 115470"/>
            </a:avLst>
          </a:prstGeom>
          <a:solidFill>
            <a:srgbClr val="99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 Narrow"/>
              </a:rPr>
              <a:t>Ent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 Narrow"/>
              </a:rPr>
              <a:t>Be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8001000" y="5105520"/>
            <a:ext cx="642960" cy="838080"/>
          </a:xfrm>
          <a:prstGeom prst="can">
            <a:avLst>
              <a:gd name="adj" fmla="val 19444"/>
            </a:avLst>
          </a:prstGeom>
          <a:gradFill rotWithShape="0">
            <a:gsLst>
              <a:gs pos="0">
                <a:srgbClr val="5e755e"/>
              </a:gs>
              <a:gs pos="50000">
                <a:srgbClr val="ccffcc"/>
              </a:gs>
              <a:gs pos="100000">
                <a:srgbClr val="5e755e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 Narrow"/>
              </a:rPr>
              <a:t>DB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8" name=""/>
          <p:cNvGrpSpPr/>
          <p:nvPr/>
        </p:nvGrpSpPr>
        <p:grpSpPr>
          <a:xfrm>
            <a:off x="4800240" y="4724280"/>
            <a:ext cx="838440" cy="762480"/>
            <a:chOff x="4800240" y="4724280"/>
            <a:chExt cx="838440" cy="762480"/>
          </a:xfrm>
        </p:grpSpPr>
        <p:sp>
          <p:nvSpPr>
            <p:cNvPr id="639" name=""/>
            <p:cNvSpPr/>
            <p:nvPr/>
          </p:nvSpPr>
          <p:spPr>
            <a:xfrm>
              <a:off x="5029200" y="472428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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40" name=""/>
            <p:cNvCxnSpPr>
              <a:stCxn id="618" idx="3"/>
              <a:endCxn id="634" idx="1"/>
            </p:cNvCxnSpPr>
            <p:nvPr/>
          </p:nvCxnSpPr>
          <p:spPr>
            <a:xfrm>
              <a:off x="4800240" y="5067360"/>
              <a:ext cx="568800" cy="41976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lg" type="stealth" w="med"/>
            </a:ln>
          </p:spPr>
        </p:cxnSp>
      </p:grpSp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333399"/>
                </a:solidFill>
                <a:latin typeface="Univers"/>
              </a:rPr>
              <a:t>Etape 6a : Sous-Système Fournisseur en mode MOM</a:t>
            </a:r>
            <a:endParaRPr b="0" lang="en-US" sz="3600" spc="-1" strike="noStrike">
              <a:solidFill>
                <a:srgbClr val="333399"/>
              </a:solidFill>
              <a:latin typeface="Univers"/>
            </a:endParaRPr>
          </a:p>
        </p:txBody>
      </p:sp>
      <p:sp>
        <p:nvSpPr>
          <p:cNvPr id="642" name=""/>
          <p:cNvSpPr/>
          <p:nvPr/>
        </p:nvSpPr>
        <p:spPr>
          <a:xfrm>
            <a:off x="611280" y="6093000"/>
            <a:ext cx="8353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En option : prévoir des messages Fournisseur</a:t>
            </a:r>
            <a:r>
              <a:rPr b="0" lang="fr-F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eCOM pour notifier de la progression de la préparation/expédition de la commande.</a:t>
            </a:r>
            <a:br>
              <a:rPr sz="1600"/>
            </a:b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Le serveur eCOM est abonné à une MessageQueue «ShippingStatus»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468360" y="1700280"/>
            <a:ext cx="1800000" cy="1008000"/>
          </a:xfrm>
          <a:prstGeom prst="wedgeRectCallout">
            <a:avLst>
              <a:gd name="adj1" fmla="val 61726"/>
              <a:gd name="adj2" fmla="val 117402"/>
            </a:avLst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XAConn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(transactionne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3035160" y="4048200"/>
            <a:ext cx="1752840" cy="533160"/>
          </a:xfrm>
          <a:prstGeom prst="hexagon">
            <a:avLst>
              <a:gd name="adj" fmla="val 33683"/>
              <a:gd name="vf" fmla="val 115470"/>
            </a:avLst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 Narrow"/>
              </a:rPr>
              <a:t>Message Queue 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5" name=""/>
          <p:cNvGrpSpPr/>
          <p:nvPr/>
        </p:nvGrpSpPr>
        <p:grpSpPr>
          <a:xfrm>
            <a:off x="1907280" y="3789360"/>
            <a:ext cx="1727280" cy="575640"/>
            <a:chOff x="1907280" y="3789360"/>
            <a:chExt cx="1727280" cy="575640"/>
          </a:xfrm>
        </p:grpSpPr>
        <p:sp>
          <p:nvSpPr>
            <p:cNvPr id="646" name=""/>
            <p:cNvSpPr/>
            <p:nvPr/>
          </p:nvSpPr>
          <p:spPr>
            <a:xfrm>
              <a:off x="2483640" y="3789360"/>
              <a:ext cx="1150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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47" name=""/>
            <p:cNvCxnSpPr/>
            <p:nvPr/>
          </p:nvCxnSpPr>
          <p:spPr>
            <a:xfrm rot="10800000">
              <a:off x="1907280" y="4356360"/>
              <a:ext cx="1152360" cy="90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38160">
              <a:solidFill>
                <a:srgbClr val="000000"/>
              </a:solidFill>
              <a:miter/>
              <a:tailEnd len="lg" type="stealth" w="med"/>
            </a:ln>
          </p:spPr>
        </p:cxnSp>
      </p:grpSp>
      <p:grpSp>
        <p:nvGrpSpPr>
          <p:cNvPr id="648" name=""/>
          <p:cNvGrpSpPr/>
          <p:nvPr/>
        </p:nvGrpSpPr>
        <p:grpSpPr>
          <a:xfrm>
            <a:off x="4834800" y="4044600"/>
            <a:ext cx="1783080" cy="963000"/>
            <a:chOff x="4834800" y="4044600"/>
            <a:chExt cx="1783080" cy="963000"/>
          </a:xfrm>
        </p:grpSpPr>
        <p:sp>
          <p:nvSpPr>
            <p:cNvPr id="649" name=""/>
            <p:cNvSpPr/>
            <p:nvPr/>
          </p:nvSpPr>
          <p:spPr>
            <a:xfrm rot="1753800">
              <a:off x="5428080" y="4296240"/>
              <a:ext cx="1150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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0" name=""/>
            <p:cNvCxnSpPr/>
            <p:nvPr/>
          </p:nvCxnSpPr>
          <p:spPr>
            <a:xfrm rot="10800000">
              <a:off x="4834440" y="4257360"/>
              <a:ext cx="1000800" cy="570240"/>
            </a:xfrm>
            <a:prstGeom prst="curvedConnector4">
              <a:avLst>
                <a:gd name="adj1" fmla="val 50089"/>
                <a:gd name="adj2" fmla="val 49968"/>
              </a:avLst>
            </a:prstGeom>
            <a:ln w="38160">
              <a:solidFill>
                <a:srgbClr val="000000"/>
              </a:solidFill>
              <a:miter/>
              <a:tailEnd len="lg" type="stealth" w="med"/>
            </a:ln>
          </p:spPr>
        </p:cxnSp>
      </p:grpSp>
      <p:grpSp>
        <p:nvGrpSpPr>
          <p:cNvPr id="651" name=""/>
          <p:cNvGrpSpPr/>
          <p:nvPr/>
        </p:nvGrpSpPr>
        <p:grpSpPr>
          <a:xfrm>
            <a:off x="4766760" y="3110760"/>
            <a:ext cx="1614600" cy="1061280"/>
            <a:chOff x="4766760" y="3110760"/>
            <a:chExt cx="1614600" cy="1061280"/>
          </a:xfrm>
        </p:grpSpPr>
        <p:sp>
          <p:nvSpPr>
            <p:cNvPr id="652" name=""/>
            <p:cNvSpPr/>
            <p:nvPr/>
          </p:nvSpPr>
          <p:spPr>
            <a:xfrm rot="20547000">
              <a:off x="5187960" y="3273480"/>
              <a:ext cx="1150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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3" name=""/>
            <p:cNvCxnSpPr/>
            <p:nvPr/>
          </p:nvCxnSpPr>
          <p:spPr>
            <a:xfrm flipV="1" rot="10800000">
              <a:off x="4766400" y="3832920"/>
              <a:ext cx="1101600" cy="339480"/>
            </a:xfrm>
            <a:prstGeom prst="curvedConnector4">
              <a:avLst>
                <a:gd name="adj1" fmla="val 49950"/>
                <a:gd name="adj2" fmla="val 50000"/>
              </a:avLst>
            </a:prstGeom>
            <a:ln w="38160">
              <a:solidFill>
                <a:srgbClr val="000000"/>
              </a:solidFill>
              <a:miter/>
              <a:tailEnd len="lg" type="stealth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6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1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6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"/>
          <p:cNvSpPr/>
          <p:nvPr/>
        </p:nvSpPr>
        <p:spPr>
          <a:xfrm>
            <a:off x="4495680" y="1523880"/>
            <a:ext cx="4419720" cy="388620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Web Service Fournisseur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4643280" y="2133720"/>
            <a:ext cx="2443320" cy="3047760"/>
          </a:xfrm>
          <a:prstGeom prst="rect">
            <a:avLst/>
          </a:prstGeom>
          <a:solidFill>
            <a:srgbClr val="ff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 Narrow"/>
              </a:rPr>
              <a:t>JOnAS Ser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4267080" y="4114800"/>
            <a:ext cx="1295640" cy="533160"/>
            <a:chOff x="4267080" y="4114800"/>
            <a:chExt cx="1295640" cy="533160"/>
          </a:xfrm>
        </p:grpSpPr>
        <p:sp>
          <p:nvSpPr>
            <p:cNvPr id="657" name=""/>
            <p:cNvSpPr/>
            <p:nvPr/>
          </p:nvSpPr>
          <p:spPr>
            <a:xfrm>
              <a:off x="4495680" y="4343400"/>
              <a:ext cx="304920" cy="75960"/>
            </a:xfrm>
            <a:prstGeom prst="rect">
              <a:avLst/>
            </a:prstGeom>
            <a:solidFill>
              <a:srgbClr val="00e4a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4267080" y="4267080"/>
              <a:ext cx="228600" cy="228600"/>
            </a:xfrm>
            <a:prstGeom prst="ellipse">
              <a:avLst/>
            </a:prstGeom>
            <a:solidFill>
              <a:srgbClr val="00e4a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4648320" y="4114800"/>
              <a:ext cx="914400" cy="533160"/>
            </a:xfrm>
            <a:prstGeom prst="roundRect">
              <a:avLst>
                <a:gd name="adj" fmla="val 16667"/>
              </a:avLst>
            </a:prstGeom>
            <a:solidFill>
              <a:srgbClr val="00e4a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 Narrow"/>
                </a:rPr>
                <a:t>Web</a:t>
              </a:r>
              <a:br>
                <a:rPr sz="1600"/>
              </a:br>
              <a:r>
                <a:rPr b="1" lang="fr-FR" sz="1600" spc="-1" strike="noStrike">
                  <a:solidFill>
                    <a:srgbClr val="000000"/>
                  </a:solidFill>
                  <a:latin typeface="Arial Narrow"/>
                </a:rPr>
                <a:t>Servi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7924680" y="2666880"/>
            <a:ext cx="914400" cy="2057400"/>
          </a:xfrm>
          <a:prstGeom prst="can">
            <a:avLst>
              <a:gd name="adj" fmla="val 19444"/>
            </a:avLst>
          </a:prstGeom>
          <a:gradFill rotWithShape="0">
            <a:gsLst>
              <a:gs pos="0">
                <a:srgbClr val="5e755e"/>
              </a:gs>
              <a:gs pos="50000">
                <a:srgbClr val="ccffcc"/>
              </a:gs>
              <a:gs pos="100000">
                <a:srgbClr val="5e755e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 Narrow"/>
              </a:rPr>
              <a:t>D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7238880" y="3809880"/>
            <a:ext cx="68580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6781680" y="289548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 Narrow"/>
              </a:rPr>
              <a:t>JDB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6095880" y="2971800"/>
            <a:ext cx="914400" cy="533520"/>
          </a:xfrm>
          <a:prstGeom prst="hexagon">
            <a:avLst>
              <a:gd name="adj" fmla="val 17560"/>
              <a:gd name="vf" fmla="val 115470"/>
            </a:avLst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 Narrow"/>
              </a:rPr>
              <a:t>EB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6095880" y="3733920"/>
            <a:ext cx="914400" cy="533160"/>
          </a:xfrm>
          <a:prstGeom prst="hexagon">
            <a:avLst>
              <a:gd name="adj" fmla="val 17571"/>
              <a:gd name="vf" fmla="val 115470"/>
            </a:avLst>
          </a:prstGeom>
          <a:solidFill>
            <a:srgbClr val="99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 Narrow"/>
              </a:rPr>
              <a:t>EB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6095880" y="4495680"/>
            <a:ext cx="914400" cy="533520"/>
          </a:xfrm>
          <a:prstGeom prst="hexagon">
            <a:avLst>
              <a:gd name="adj" fmla="val 17560"/>
              <a:gd name="vf" fmla="val 115470"/>
            </a:avLst>
          </a:prstGeom>
          <a:solidFill>
            <a:srgbClr val="66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 Narrow"/>
              </a:rPr>
              <a:t>EB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6" name=""/>
          <p:cNvGrpSpPr/>
          <p:nvPr/>
        </p:nvGrpSpPr>
        <p:grpSpPr>
          <a:xfrm>
            <a:off x="4267080" y="3200400"/>
            <a:ext cx="1295640" cy="533160"/>
            <a:chOff x="4267080" y="3200400"/>
            <a:chExt cx="1295640" cy="533160"/>
          </a:xfrm>
        </p:grpSpPr>
        <p:sp>
          <p:nvSpPr>
            <p:cNvPr id="667" name=""/>
            <p:cNvSpPr/>
            <p:nvPr/>
          </p:nvSpPr>
          <p:spPr>
            <a:xfrm>
              <a:off x="4495680" y="3429000"/>
              <a:ext cx="304920" cy="75960"/>
            </a:xfrm>
            <a:prstGeom prst="rect">
              <a:avLst/>
            </a:prstGeom>
            <a:solidFill>
              <a:srgbClr val="ff00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4267080" y="3352680"/>
              <a:ext cx="228600" cy="228600"/>
            </a:xfrm>
            <a:prstGeom prst="ellipse">
              <a:avLst/>
            </a:prstGeom>
            <a:solidFill>
              <a:srgbClr val="ff00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4648320" y="3200400"/>
              <a:ext cx="914400" cy="533160"/>
            </a:xfrm>
            <a:prstGeom prst="roundRect">
              <a:avLst>
                <a:gd name="adj" fmla="val 16667"/>
              </a:avLst>
            </a:prstGeom>
            <a:solidFill>
              <a:srgbClr val="ff00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 Narrow"/>
                </a:rPr>
                <a:t>Web</a:t>
              </a:r>
              <a:br>
                <a:rPr sz="1600"/>
              </a:br>
              <a:r>
                <a:rPr b="1" lang="fr-FR" sz="1600" spc="-1" strike="noStrike">
                  <a:solidFill>
                    <a:srgbClr val="000000"/>
                  </a:solidFill>
                  <a:latin typeface="Arial Narrow"/>
                </a:rPr>
                <a:t>Servi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0" name=""/>
          <p:cNvSpPr/>
          <p:nvPr/>
        </p:nvSpPr>
        <p:spPr>
          <a:xfrm flipV="1">
            <a:off x="5562720" y="3276360"/>
            <a:ext cx="533160" cy="22860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562720" y="4419720"/>
            <a:ext cx="533160" cy="30456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228600" y="2852640"/>
            <a:ext cx="2209680" cy="347184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 Narrow"/>
              </a:rPr>
              <a:t>Serveur GI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 rot="16200000">
            <a:off x="1981080" y="4266720"/>
            <a:ext cx="381240" cy="38124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00e4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1371600" y="3429000"/>
            <a:ext cx="914400" cy="533520"/>
          </a:xfrm>
          <a:prstGeom prst="flowChartDocument">
            <a:avLst/>
          </a:prstGeom>
          <a:solidFill>
            <a:srgbClr val="00e4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WSD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Descrip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457200" y="4191120"/>
            <a:ext cx="914400" cy="533160"/>
          </a:xfrm>
          <a:prstGeom prst="hexagon">
            <a:avLst>
              <a:gd name="adj" fmla="val 17571"/>
              <a:gd name="vf" fmla="val 115470"/>
            </a:avLst>
          </a:prstGeom>
          <a:solidFill>
            <a:srgbClr val="00e4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 Narrow"/>
              </a:rPr>
              <a:t>Business</a:t>
            </a:r>
            <a:br>
              <a:rPr sz="1600"/>
            </a:br>
            <a:r>
              <a:rPr b="1" lang="fr-FR" sz="1600" spc="-1" strike="noStrike">
                <a:solidFill>
                  <a:srgbClr val="000000"/>
                </a:solidFill>
                <a:latin typeface="Arial Narrow"/>
              </a:rPr>
              <a:t>Ob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6" name=""/>
          <p:cNvCxnSpPr>
            <a:stCxn id="675" idx="3"/>
            <a:endCxn id="673" idx="0"/>
          </p:cNvCxnSpPr>
          <p:nvPr/>
        </p:nvCxnSpPr>
        <p:spPr>
          <a:xfrm>
            <a:off x="1371240" y="4457520"/>
            <a:ext cx="608760" cy="1080"/>
          </a:xfrm>
          <a:prstGeom prst="curvedConnector2">
            <a:avLst/>
          </a:prstGeom>
          <a:ln w="381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77" name=""/>
          <p:cNvSpPr/>
          <p:nvPr/>
        </p:nvSpPr>
        <p:spPr>
          <a:xfrm>
            <a:off x="2590920" y="388620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SOAP over HTT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1371600" y="4876920"/>
            <a:ext cx="1523880" cy="46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 Narrow"/>
              </a:rPr>
              <a:t>genera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 Narrow"/>
              </a:rPr>
              <a:t>st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9" name=""/>
          <p:cNvCxnSpPr>
            <a:stCxn id="673" idx="1"/>
            <a:endCxn id="658" idx="2"/>
          </p:cNvCxnSpPr>
          <p:nvPr/>
        </p:nvCxnSpPr>
        <p:spPr>
          <a:xfrm flipV="1">
            <a:off x="2073960" y="4381560"/>
            <a:ext cx="2192760" cy="76680"/>
          </a:xfrm>
          <a:prstGeom prst="curvedConnector5">
            <a:avLst>
              <a:gd name="adj1" fmla="val 47569"/>
              <a:gd name="adj2" fmla="val 5188"/>
              <a:gd name="adj3" fmla="val 47569"/>
            </a:avLst>
          </a:prstGeom>
          <a:ln w="38160">
            <a:solidFill>
              <a:srgbClr val="000000"/>
            </a:solidFill>
            <a:prstDash val="sysDot"/>
            <a:miter/>
            <a:tailEnd len="lg" type="stealth" w="med"/>
          </a:ln>
        </p:spPr>
      </p:cxnSp>
      <p:sp>
        <p:nvSpPr>
          <p:cNvPr id="680" name=""/>
          <p:cNvSpPr/>
          <p:nvPr/>
        </p:nvSpPr>
        <p:spPr>
          <a:xfrm rot="16200000">
            <a:off x="1981080" y="5486040"/>
            <a:ext cx="380880" cy="38124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00e4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57200" y="5410080"/>
            <a:ext cx="914400" cy="533520"/>
          </a:xfrm>
          <a:prstGeom prst="hexagon">
            <a:avLst>
              <a:gd name="adj" fmla="val 17560"/>
              <a:gd name="vf" fmla="val 115470"/>
            </a:avLst>
          </a:prstGeom>
          <a:solidFill>
            <a:srgbClr val="00e4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 Narrow"/>
              </a:rPr>
              <a:t>Business</a:t>
            </a:r>
            <a:br>
              <a:rPr sz="1600"/>
            </a:br>
            <a:r>
              <a:rPr b="1" lang="fr-FR" sz="1600" spc="-1" strike="noStrike">
                <a:solidFill>
                  <a:srgbClr val="000000"/>
                </a:solidFill>
                <a:latin typeface="Arial Narrow"/>
              </a:rPr>
              <a:t>Ob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2" name=""/>
          <p:cNvCxnSpPr>
            <a:stCxn id="681" idx="3"/>
            <a:endCxn id="680" idx="0"/>
          </p:cNvCxnSpPr>
          <p:nvPr/>
        </p:nvCxnSpPr>
        <p:spPr>
          <a:xfrm>
            <a:off x="1371240" y="5676480"/>
            <a:ext cx="608760" cy="1080"/>
          </a:xfrm>
          <a:prstGeom prst="curvedConnector2">
            <a:avLst/>
          </a:prstGeom>
          <a:ln w="381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83" name=""/>
          <p:cNvCxnSpPr/>
          <p:nvPr/>
        </p:nvCxnSpPr>
        <p:spPr>
          <a:xfrm>
            <a:off x="2209680" y="5638680"/>
            <a:ext cx="2286720" cy="610560"/>
          </a:xfrm>
          <a:prstGeom prst="curvedConnector5">
            <a:avLst>
              <a:gd name="adj1" fmla="val 49992"/>
              <a:gd name="adj2" fmla="val 49970"/>
              <a:gd name="adj3" fmla="val 49992"/>
            </a:avLst>
          </a:prstGeom>
          <a:ln w="38160">
            <a:solidFill>
              <a:srgbClr val="000000"/>
            </a:solidFill>
            <a:prstDash val="sysDot"/>
            <a:miter/>
            <a:tailEnd len="lg" type="stealth" w="med"/>
          </a:ln>
        </p:spPr>
      </p:cxnSp>
      <p:sp>
        <p:nvSpPr>
          <p:cNvPr id="684" name=""/>
          <p:cNvSpPr/>
          <p:nvPr/>
        </p:nvSpPr>
        <p:spPr>
          <a:xfrm>
            <a:off x="4495680" y="5791320"/>
            <a:ext cx="4419720" cy="99036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Web Service Fournisseur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333399"/>
                </a:solidFill>
                <a:latin typeface="Univers"/>
              </a:rPr>
              <a:t>Etape 6b : Sous-Système Fournisseur en mode Web Service</a:t>
            </a:r>
            <a:endParaRPr b="0" lang="en-US" sz="3600" spc="-1" strike="noStrike">
              <a:solidFill>
                <a:srgbClr val="333399"/>
              </a:solidFill>
              <a:latin typeface="Univers"/>
            </a:endParaRPr>
          </a:p>
        </p:txBody>
      </p:sp>
      <p:sp>
        <p:nvSpPr>
          <p:cNvPr id="686" name=""/>
          <p:cNvSpPr/>
          <p:nvPr/>
        </p:nvSpPr>
        <p:spPr>
          <a:xfrm>
            <a:off x="2484360" y="1484280"/>
            <a:ext cx="1800360" cy="1152720"/>
          </a:xfrm>
          <a:prstGeom prst="wedgeRectCallout">
            <a:avLst>
              <a:gd name="adj1" fmla="val 61726"/>
              <a:gd name="adj2" fmla="val 96416"/>
            </a:avLst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b de l’indisponibilité temporaire du WS d’un fournisse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179280" y="1484280"/>
            <a:ext cx="1800360" cy="792360"/>
          </a:xfrm>
          <a:prstGeom prst="wedgeRectCallout">
            <a:avLst>
              <a:gd name="adj1" fmla="val 45324"/>
              <a:gd name="adj2" fmla="val 175250"/>
            </a:avLst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Modèlisez le WebServ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685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3399"/>
                </a:solidFill>
                <a:latin typeface="Univers"/>
              </a:rPr>
              <a:t>Etape 7a : Conditionnement et déploiement des objets CORBA</a:t>
            </a:r>
            <a:endParaRPr b="0" lang="en-US" sz="3200" spc="-1" strike="noStrike">
              <a:solidFill>
                <a:srgbClr val="333399"/>
              </a:solidFill>
              <a:latin typeface="Univers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380520" y="1218960"/>
            <a:ext cx="85741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Univers"/>
              </a:rPr>
              <a:t>OSGi</a:t>
            </a:r>
            <a:endParaRPr b="0" lang="en-US" sz="2800" spc="-1" strike="noStrike">
              <a:solidFill>
                <a:srgbClr val="000000"/>
              </a:solidFill>
              <a:latin typeface="Univers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Univers"/>
              </a:rPr>
              <a:t>Conditionnement et déploiement d’applications Java</a:t>
            </a:r>
            <a:endParaRPr b="0" lang="en-US" sz="2400" spc="-1" strike="noStrike">
              <a:solidFill>
                <a:srgbClr val="000000"/>
              </a:solidFill>
              <a:latin typeface="Univer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Univers"/>
              </a:rPr>
              <a:t>Objectifs</a:t>
            </a:r>
            <a:endParaRPr b="0" lang="en-US" sz="2800" spc="-1" strike="noStrike">
              <a:solidFill>
                <a:srgbClr val="000000"/>
              </a:solidFill>
              <a:latin typeface="Univers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Univers"/>
              </a:rPr>
              <a:t>Conditionner et déployer les servants CORBA</a:t>
            </a:r>
            <a:endParaRPr b="0" lang="en-US" sz="2400" spc="-1" strike="noStrike">
              <a:solidFill>
                <a:srgbClr val="000000"/>
              </a:solidFill>
              <a:latin typeface="Univer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Univers"/>
              </a:rPr>
              <a:t>Travail</a:t>
            </a:r>
            <a:endParaRPr b="0" lang="en-US" sz="2800" spc="-1" strike="noStrike">
              <a:solidFill>
                <a:srgbClr val="000000"/>
              </a:solidFill>
              <a:latin typeface="Univers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Univers"/>
              </a:rPr>
              <a:t>Porter le GenericServer sur une plate-forme OSGi</a:t>
            </a:r>
            <a:endParaRPr b="0" lang="en-US" sz="2400" spc="-1" strike="noStrike">
              <a:solidFill>
                <a:srgbClr val="000000"/>
              </a:solidFill>
              <a:latin typeface="Univer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685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3399"/>
                </a:solidFill>
                <a:latin typeface="Univers"/>
              </a:rPr>
              <a:t>Etape 7b : Administration et supervision des serveurs</a:t>
            </a:r>
            <a:endParaRPr b="0" lang="en-US" sz="3200" spc="-1" strike="noStrike">
              <a:solidFill>
                <a:srgbClr val="333399"/>
              </a:solidFill>
              <a:latin typeface="Univers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380520" y="1218960"/>
            <a:ext cx="85741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Univers"/>
              </a:rPr>
              <a:t>JMX</a:t>
            </a:r>
            <a:endParaRPr b="0" lang="en-US" sz="2400" spc="-1" strike="noStrike">
              <a:solidFill>
                <a:srgbClr val="000000"/>
              </a:solidFill>
              <a:latin typeface="Univers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Univers"/>
              </a:rPr>
              <a:t>Standard Java pour l’administration d’applications Java</a:t>
            </a:r>
            <a:endParaRPr b="0" lang="en-US" sz="2000" spc="-1" strike="noStrike">
              <a:solidFill>
                <a:srgbClr val="000000"/>
              </a:solidFill>
              <a:latin typeface="Univers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Univers"/>
              </a:rPr>
              <a:t>Objectifs</a:t>
            </a:r>
            <a:endParaRPr b="0" lang="en-US" sz="2400" spc="-1" strike="noStrike">
              <a:solidFill>
                <a:srgbClr val="000000"/>
              </a:solidFill>
              <a:latin typeface="Univers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Univers"/>
              </a:rPr>
              <a:t>Superviser les principaux éléments des serveurs CORBA</a:t>
            </a:r>
            <a:endParaRPr b="0" lang="en-US" sz="2000" spc="-1" strike="noStrike">
              <a:solidFill>
                <a:srgbClr val="000000"/>
              </a:solidFill>
              <a:latin typeface="Univers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Univers"/>
              </a:rPr>
              <a:t>POA, POM (nb objets crées, nb objets courants, nb objets actifs),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Univers"/>
              </a:rPr>
              <a:t>Portable Interceptors (nb requêtes reçus, nb requêtes échec), …</a:t>
            </a:r>
            <a:endParaRPr b="0" lang="en-US" sz="1800" spc="-1" strike="noStrike">
              <a:solidFill>
                <a:srgbClr val="000000"/>
              </a:solidFill>
              <a:latin typeface="Univers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Univers"/>
              </a:rPr>
              <a:t>Déployer automatiquement les objets CORBA</a:t>
            </a:r>
            <a:endParaRPr b="0" lang="en-US" sz="2000" spc="-1" strike="noStrike">
              <a:solidFill>
                <a:srgbClr val="000000"/>
              </a:solidFill>
              <a:latin typeface="Univers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Univers"/>
              </a:rPr>
              <a:t>via un MBean d’administration du framework OSGi</a:t>
            </a:r>
            <a:endParaRPr b="0" lang="en-US" sz="1800" spc="-1" strike="noStrike">
              <a:solidFill>
                <a:srgbClr val="000000"/>
              </a:solidFill>
              <a:latin typeface="Univers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Univers"/>
              </a:rPr>
              <a:t>Travail</a:t>
            </a:r>
            <a:endParaRPr b="0" lang="en-US" sz="2400" spc="-1" strike="noStrike">
              <a:solidFill>
                <a:srgbClr val="000000"/>
              </a:solidFill>
              <a:latin typeface="Univers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Univers"/>
              </a:rPr>
              <a:t>Enrichir l’OSGiGenericServer d’un MBeanServer (JMXAgent)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Univer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Univer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Univer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Univers"/>
              </a:rPr>
              <a:t>pourvu de connecteurs RMI et d’adapteurs HTTP</a:t>
            </a:r>
            <a:endParaRPr b="0" lang="en-US" sz="2000" spc="-1" strike="noStrike">
              <a:solidFill>
                <a:srgbClr val="000000"/>
              </a:solidFill>
              <a:latin typeface="Univers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Univers"/>
              </a:rPr>
              <a:t>Scripts ANT (Tache ANT JMX)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Univer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Univer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Univers"/>
              </a:rPr>
              <a:t>générés à partir d’une description d’architecture</a:t>
            </a:r>
            <a:endParaRPr b="0" lang="en-US" sz="2000" spc="-1" strike="noStrike">
              <a:solidFill>
                <a:srgbClr val="000000"/>
              </a:solidFill>
              <a:latin typeface="Univers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Univers"/>
              </a:rPr>
              <a:t>Construire un repository OBR (tache ANT)</a:t>
            </a:r>
            <a:endParaRPr b="0" lang="en-US" sz="2000" spc="-1" strike="noStrike">
              <a:solidFill>
                <a:srgbClr val="000000"/>
              </a:solidFill>
              <a:latin typeface="Univers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Univers"/>
              </a:rPr>
              <a:t>Ajout d’un plugin (Tabs) à la JConsole (JavaSE 6.0)</a:t>
            </a:r>
            <a:endParaRPr b="0" lang="en-US" sz="2000" spc="-1" strike="noStrike">
              <a:solidFill>
                <a:srgbClr val="000000"/>
              </a:solidFill>
              <a:latin typeface="Univers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Univer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333399"/>
                </a:solidFill>
                <a:latin typeface="Univers"/>
              </a:rPr>
              <a:t>Planning de GICOM</a:t>
            </a:r>
            <a:endParaRPr b="0" lang="en-US" sz="3600" spc="-1" strike="noStrike">
              <a:solidFill>
                <a:srgbClr val="333399"/>
              </a:solidFill>
              <a:latin typeface="Univers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380520" y="1218960"/>
            <a:ext cx="85741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Univers"/>
              </a:rPr>
              <a:t>GICOM1 Sara</a:t>
            </a:r>
            <a:endParaRPr b="0" lang="en-US" sz="2400" spc="-1" strike="noStrike">
              <a:solidFill>
                <a:srgbClr val="000000"/>
              </a:solidFill>
              <a:latin typeface="Univers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Univer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Univers"/>
              </a:rPr>
              <a:t>Sous système bancaire</a:t>
            </a:r>
            <a:endParaRPr b="0" lang="en-US" sz="2800" spc="-1" strike="noStrike">
              <a:solidFill>
                <a:srgbClr val="000000"/>
              </a:solidFill>
              <a:latin typeface="Univers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Univer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Univers"/>
              </a:rPr>
              <a:t>Sous système bancaire persistant</a:t>
            </a:r>
            <a:endParaRPr b="0" lang="en-US" sz="2800" spc="-1" strike="noStrike">
              <a:solidFill>
                <a:srgbClr val="000000"/>
              </a:solidFill>
              <a:latin typeface="Univers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Univer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Univers"/>
              </a:rPr>
              <a:t>Sous système bancaire persistant et fiabilisé</a:t>
            </a:r>
            <a:endParaRPr b="0" lang="en-US" sz="2800" spc="-1" strike="noStrike">
              <a:solidFill>
                <a:srgbClr val="000000"/>
              </a:solidFill>
              <a:latin typeface="Univers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Univers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Univers"/>
              </a:rPr>
              <a:t>GICOM2 Johann</a:t>
            </a:r>
            <a:endParaRPr b="0" lang="en-US" sz="2400" spc="-1" strike="noStrike">
              <a:solidFill>
                <a:srgbClr val="000000"/>
              </a:solidFill>
              <a:latin typeface="Univers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Univer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Univers"/>
              </a:rPr>
              <a:t>eCOM étendu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Univers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Univers"/>
              </a:rPr>
              <a:t>et intégration du sous système bancaire</a:t>
            </a:r>
            <a:endParaRPr b="0" lang="en-US" sz="2800" spc="-1" strike="noStrike">
              <a:solidFill>
                <a:srgbClr val="000000"/>
              </a:solidFill>
              <a:latin typeface="Univers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Univer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Univers"/>
              </a:rPr>
              <a:t>Conditionnement et déploiement Corba</a:t>
            </a:r>
            <a:endParaRPr b="0" lang="en-US" sz="2800" spc="-1" strike="noStrike">
              <a:solidFill>
                <a:srgbClr val="000000"/>
              </a:solidFill>
              <a:latin typeface="Univers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Univer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Univers"/>
              </a:rPr>
              <a:t>Sous système fournisseur</a:t>
            </a:r>
            <a:endParaRPr b="0" lang="en-US" sz="2800" spc="-1" strike="noStrike">
              <a:solidFill>
                <a:srgbClr val="000000"/>
              </a:solidFill>
              <a:latin typeface="Univers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Univer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Univers"/>
              </a:rPr>
              <a:t>Administration et supervision des serveurs</a:t>
            </a:r>
            <a:endParaRPr b="0" lang="en-US" sz="2800" spc="-1" strike="noStrike">
              <a:solidFill>
                <a:srgbClr val="000000"/>
              </a:solidFill>
              <a:latin typeface="Univer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333399"/>
                </a:solidFill>
                <a:latin typeface="Univers"/>
              </a:rPr>
              <a:t>Planning GICOM</a:t>
            </a:r>
            <a:endParaRPr b="0" lang="en-US" sz="3600" spc="-1" strike="noStrike">
              <a:solidFill>
                <a:srgbClr val="333399"/>
              </a:solidFill>
              <a:latin typeface="Univers"/>
            </a:endParaRPr>
          </a:p>
        </p:txBody>
      </p:sp>
      <p:sp>
        <p:nvSpPr>
          <p:cNvPr id="695" name=""/>
          <p:cNvSpPr/>
          <p:nvPr/>
        </p:nvSpPr>
        <p:spPr>
          <a:xfrm>
            <a:off x="539640" y="1844640"/>
            <a:ext cx="936720" cy="50472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1476360" y="1844640"/>
            <a:ext cx="3456000" cy="504720"/>
          </a:xfrm>
          <a:prstGeom prst="rect">
            <a:avLst/>
          </a:prstGeom>
          <a:solidFill>
            <a:srgbClr val="66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urs Introduction à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’application bancaire (étape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1476360" y="1268280"/>
            <a:ext cx="3456000" cy="505080"/>
          </a:xfrm>
          <a:prstGeom prst="rect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GICOM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4932360" y="1846440"/>
            <a:ext cx="3456000" cy="504720"/>
          </a:xfrm>
          <a:prstGeom prst="rect">
            <a:avLst/>
          </a:prstGeom>
          <a:solidFill>
            <a:srgbClr val="66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urs OSG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4932360" y="1270080"/>
            <a:ext cx="3456000" cy="504720"/>
          </a:xfrm>
          <a:prstGeom prst="rect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GICOM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539640" y="2349360"/>
            <a:ext cx="936720" cy="50508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476360" y="2349360"/>
            <a:ext cx="3456000" cy="50508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D Etap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4932360" y="2351160"/>
            <a:ext cx="3456000" cy="50472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P OSG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539640" y="2852640"/>
            <a:ext cx="936720" cy="50508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476360" y="2852640"/>
            <a:ext cx="3456000" cy="505080"/>
          </a:xfrm>
          <a:prstGeom prst="rect">
            <a:avLst/>
          </a:prstGeom>
          <a:solidFill>
            <a:srgbClr val="66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urs PPOA (étape 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4932360" y="2854440"/>
            <a:ext cx="3456000" cy="504720"/>
          </a:xfrm>
          <a:prstGeom prst="rect">
            <a:avLst/>
          </a:prstGeom>
          <a:solidFill>
            <a:srgbClr val="66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Libre (ou séminaire RTSJ avec les SL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539640" y="3357720"/>
            <a:ext cx="936720" cy="50472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1476360" y="3357720"/>
            <a:ext cx="3456000" cy="50472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D Etape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539640" y="3860640"/>
            <a:ext cx="936720" cy="50508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1476360" y="3860640"/>
            <a:ext cx="3456000" cy="505080"/>
          </a:xfrm>
          <a:prstGeom prst="rect">
            <a:avLst/>
          </a:prstGeom>
          <a:solidFill>
            <a:srgbClr val="66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urs Moniteur transactionnel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(étape 4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4932360" y="3357720"/>
            <a:ext cx="3456000" cy="504720"/>
          </a:xfrm>
          <a:prstGeom prst="rect">
            <a:avLst/>
          </a:prstGeom>
          <a:solidFill>
            <a:srgbClr val="66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urs MOM/JMS et WebServi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539640" y="4365720"/>
            <a:ext cx="936720" cy="50472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1476360" y="4365720"/>
            <a:ext cx="3456000" cy="50472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D Etape 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4932360" y="3860640"/>
            <a:ext cx="3456000" cy="50508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ournisseurs eCOM (étape 6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539640" y="4867200"/>
            <a:ext cx="936720" cy="50508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1476360" y="4867200"/>
            <a:ext cx="3456000" cy="50508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D Etape 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4932360" y="4365720"/>
            <a:ext cx="3456000" cy="504720"/>
          </a:xfrm>
          <a:prstGeom prst="rect">
            <a:avLst/>
          </a:prstGeom>
          <a:solidFill>
            <a:srgbClr val="66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urs/Tutorial JMX (étape 7b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539640" y="5373720"/>
            <a:ext cx="936720" cy="50472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1476360" y="5373720"/>
            <a:ext cx="3456000" cy="50472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4932360" y="4869000"/>
            <a:ext cx="3456000" cy="50472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onitoring /Déploiement JM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539640" y="5877000"/>
            <a:ext cx="936720" cy="50472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1476360" y="5877000"/>
            <a:ext cx="3456000" cy="50472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4932360" y="5878440"/>
            <a:ext cx="3456000" cy="50472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erman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539640" y="6381720"/>
            <a:ext cx="936720" cy="50472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4932360" y="6383160"/>
            <a:ext cx="3456000" cy="50508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outen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4932360" y="5373720"/>
            <a:ext cx="3456000" cy="50472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erman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1476360" y="6381720"/>
            <a:ext cx="3456000" cy="504720"/>
          </a:xfrm>
          <a:prstGeom prst="rect">
            <a:avLst/>
          </a:prstGeom>
          <a:solidFill>
            <a:srgbClr val="66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éminaire LD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333399"/>
                </a:solidFill>
                <a:latin typeface="Univers"/>
              </a:rPr>
              <a:t>Environnements/intergiciels Supports</a:t>
            </a:r>
            <a:endParaRPr b="0" lang="en-US" sz="3600" spc="-1" strike="noStrike">
              <a:solidFill>
                <a:srgbClr val="333399"/>
              </a:solidFill>
              <a:latin typeface="Univers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380520" y="1218960"/>
            <a:ext cx="85741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Univers"/>
              </a:rPr>
              <a:t>JavaSE 6.0 de SUN</a:t>
            </a:r>
            <a:endParaRPr b="0" lang="en-US" sz="2400" spc="-1" strike="noStrike">
              <a:solidFill>
                <a:srgbClr val="000000"/>
              </a:solidFill>
              <a:latin typeface="Univer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Univers"/>
              </a:rPr>
              <a:t>Serveur J2EE JOnAS 4.x (EJB3.0+WS Metadata) </a:t>
            </a:r>
            <a:r>
              <a:rPr b="0" i="1" lang="fr-FR" sz="2000" spc="-1" strike="noStrike">
                <a:solidFill>
                  <a:srgbClr val="000000"/>
                </a:solidFill>
                <a:latin typeface="Univers"/>
              </a:rPr>
              <a:t>http://jonas.objectweb.org</a:t>
            </a:r>
            <a:endParaRPr b="0" lang="en-US" sz="2000" spc="-1" strike="noStrike">
              <a:solidFill>
                <a:srgbClr val="000000"/>
              </a:solidFill>
              <a:latin typeface="Univers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Univers"/>
              </a:rPr>
              <a:t>intègre Jakarta Tomcat</a:t>
            </a:r>
            <a:endParaRPr b="0" lang="en-US" sz="2000" spc="-1" strike="noStrike">
              <a:solidFill>
                <a:srgbClr val="000000"/>
              </a:solidFill>
              <a:latin typeface="Univers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Univers"/>
              </a:rPr>
              <a:t>Intègre Apache AXIS pour les Web Services (SOAP &amp; WSDL)</a:t>
            </a:r>
            <a:endParaRPr b="0" lang="en-US" sz="2000" spc="-1" strike="noStrike">
              <a:solidFill>
                <a:srgbClr val="000000"/>
              </a:solidFill>
              <a:latin typeface="Univer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Univers"/>
              </a:rPr>
              <a:t>Apache JAMES pour le serveur de mails (SMTP/POP)</a:t>
            </a:r>
            <a:endParaRPr b="0" lang="en-US" sz="2400" spc="-1" strike="noStrike">
              <a:solidFill>
                <a:srgbClr val="000000"/>
              </a:solidFill>
              <a:latin typeface="Univer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Univers"/>
              </a:rPr>
              <a:t>ORB JacORB (</a:t>
            </a:r>
            <a:r>
              <a:rPr b="0" lang="fr-FR" sz="2400" spc="-1" strike="noStrike" u="sng">
                <a:solidFill>
                  <a:srgbClr val="ff0000"/>
                </a:solidFill>
                <a:uFillTx/>
                <a:latin typeface="Univers"/>
                <a:hlinkClick r:id="rId1"/>
              </a:rPr>
              <a:t>http://www.jacorb.org</a:t>
            </a:r>
            <a:r>
              <a:rPr b="0" lang="fr-FR" sz="2400" spc="-1" strike="noStrike">
                <a:solidFill>
                  <a:srgbClr val="000000"/>
                </a:solidFill>
                <a:latin typeface="Univers"/>
              </a:rPr>
              <a:t>) ou Sun ORB</a:t>
            </a:r>
            <a:endParaRPr b="0" lang="en-US" sz="2400" spc="-1" strike="noStrike">
              <a:solidFill>
                <a:srgbClr val="000000"/>
              </a:solidFill>
              <a:latin typeface="Univer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Univers"/>
              </a:rPr>
              <a:t>Browser Web (MS IE, Firefox, Safari)</a:t>
            </a:r>
            <a:endParaRPr b="0" lang="en-US" sz="2400" spc="-1" strike="noStrike">
              <a:solidFill>
                <a:srgbClr val="000000"/>
              </a:solidFill>
              <a:latin typeface="Univer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Univers"/>
              </a:rPr>
              <a:t>J2ME Wireless Toolkit (2.x)</a:t>
            </a:r>
            <a:endParaRPr b="0" lang="en-US" sz="2400" spc="-1" strike="noStrike">
              <a:solidFill>
                <a:srgbClr val="000000"/>
              </a:solidFill>
              <a:latin typeface="Univer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Univers"/>
              </a:rPr>
              <a:t>Emulateur DoJa (DoCoMo iappli)</a:t>
            </a:r>
            <a:endParaRPr b="0" lang="en-US" sz="2400" spc="-1" strike="noStrike">
              <a:solidFill>
                <a:srgbClr val="000000"/>
              </a:solidFill>
              <a:latin typeface="Univer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Univers"/>
              </a:rPr>
              <a:t>SDK .NET Framework (C#)</a:t>
            </a:r>
            <a:endParaRPr b="0" lang="en-US" sz="2400" spc="-1" strike="noStrike">
              <a:solidFill>
                <a:srgbClr val="000000"/>
              </a:solidFill>
              <a:latin typeface="Univer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333399"/>
                </a:solidFill>
                <a:latin typeface="Univers"/>
              </a:rPr>
              <a:t>Objectifs pédagogiques</a:t>
            </a:r>
            <a:endParaRPr b="0" lang="en-US" sz="3600" spc="-1" strike="noStrike">
              <a:solidFill>
                <a:srgbClr val="333399"/>
              </a:solidFill>
              <a:latin typeface="Univer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80520" y="1218960"/>
            <a:ext cx="85741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Univers"/>
              </a:rPr>
              <a:t>Intégration des plusieurs applications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Univers"/>
              </a:rPr>
              <a:t>en utilisant plusieurs technologies</a:t>
            </a:r>
            <a:endParaRPr b="0" lang="en-US" sz="2800" spc="-1" strike="noStrike">
              <a:solidFill>
                <a:srgbClr val="000000"/>
              </a:solidFill>
              <a:latin typeface="Univer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Univers"/>
              </a:rPr>
              <a:t>Toucher du doigt les mécanismes internes des intergiciels</a:t>
            </a:r>
            <a:endParaRPr b="0" lang="en-US" sz="2800" spc="-1" strike="noStrike">
              <a:solidFill>
                <a:srgbClr val="000000"/>
              </a:solidFill>
              <a:latin typeface="Univer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Univers"/>
              </a:rPr>
              <a:t>Utiliser des outils de développement</a:t>
            </a:r>
            <a:endParaRPr b="0" lang="en-US" sz="2800" spc="-1" strike="noStrike">
              <a:solidFill>
                <a:srgbClr val="000000"/>
              </a:solidFill>
              <a:latin typeface="Univer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Univers"/>
              </a:rPr>
              <a:t>Organiser vos déploiements</a:t>
            </a:r>
            <a:endParaRPr b="0" lang="en-US" sz="2800" spc="-1" strike="noStrike">
              <a:solidFill>
                <a:srgbClr val="000000"/>
              </a:solidFill>
              <a:latin typeface="Univer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333399"/>
                </a:solidFill>
                <a:latin typeface="Univers"/>
              </a:rPr>
              <a:t>Qualité du logiciel produit</a:t>
            </a:r>
            <a:endParaRPr b="0" lang="en-US" sz="3600" spc="-1" strike="noStrike">
              <a:solidFill>
                <a:srgbClr val="333399"/>
              </a:solidFill>
              <a:latin typeface="Univers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380520" y="1218960"/>
            <a:ext cx="85741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000000"/>
                </a:solidFill>
                <a:latin typeface="Univers"/>
              </a:rPr>
              <a:t>MetaWare</a:t>
            </a:r>
            <a:endParaRPr b="0" lang="en-US" sz="2800" spc="-1" strike="noStrike">
              <a:solidFill>
                <a:srgbClr val="000000"/>
              </a:solidFill>
              <a:latin typeface="Univers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Univers"/>
              </a:rPr>
              <a:t>Eclipse + Plugins (XML Buddy, Lomboz, JOPE, …)</a:t>
            </a:r>
            <a:endParaRPr b="0" lang="en-US" sz="2400" spc="-1" strike="noStrike">
              <a:solidFill>
                <a:srgbClr val="000000"/>
              </a:solidFill>
              <a:latin typeface="Univers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Univers"/>
              </a:rPr>
              <a:t>Apache Ant</a:t>
            </a:r>
            <a:endParaRPr b="0" lang="en-US" sz="2400" spc="-1" strike="noStrike">
              <a:solidFill>
                <a:srgbClr val="000000"/>
              </a:solidFill>
              <a:latin typeface="Univers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Univers"/>
              </a:rPr>
              <a:t>Apache Maven</a:t>
            </a:r>
            <a:endParaRPr b="0" lang="en-US" sz="2400" spc="-1" strike="noStrike">
              <a:solidFill>
                <a:srgbClr val="000000"/>
              </a:solidFill>
              <a:latin typeface="Univers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Univers"/>
              </a:rPr>
              <a:t>Versionnement des sources (CVS,SVN)</a:t>
            </a:r>
            <a:endParaRPr b="0" lang="en-US" sz="2400" spc="-1" strike="noStrike">
              <a:solidFill>
                <a:srgbClr val="000000"/>
              </a:solidFill>
              <a:latin typeface="Univers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Univers"/>
              </a:rPr>
              <a:t>Test unitaire (Cactus)</a:t>
            </a:r>
            <a:endParaRPr b="0" lang="en-US" sz="2400" spc="-1" strike="noStrike">
              <a:solidFill>
                <a:srgbClr val="000000"/>
              </a:solidFill>
              <a:latin typeface="Univers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Univers"/>
              </a:rPr>
              <a:t>JavaNCSS </a:t>
            </a:r>
            <a:r>
              <a:rPr b="0" i="1" lang="fr-FR" sz="2000" spc="-1" strike="noStrike">
                <a:solidFill>
                  <a:srgbClr val="000000"/>
                </a:solidFill>
                <a:latin typeface="Univers"/>
              </a:rPr>
              <a:t>http://www.kclee.com/clemens/java/javancss</a:t>
            </a:r>
            <a:r>
              <a:rPr b="0" lang="fr-FR" sz="2000" spc="-1" strike="noStrike">
                <a:solidFill>
                  <a:srgbClr val="000000"/>
                </a:solidFill>
                <a:latin typeface="Univers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Univer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Univers"/>
              </a:rPr>
              <a:t>Vous devrez produire un rapport de métriques sur le source</a:t>
            </a:r>
            <a:endParaRPr b="0" lang="en-US" sz="2000" spc="-1" strike="noStrike">
              <a:solidFill>
                <a:srgbClr val="000000"/>
              </a:solidFill>
              <a:latin typeface="Univers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Univers"/>
              </a:rPr>
              <a:t>Apache JMeter</a:t>
            </a:r>
            <a:endParaRPr b="0" lang="en-US" sz="2400" spc="-1" strike="noStrike">
              <a:solidFill>
                <a:srgbClr val="000000"/>
              </a:solidFill>
              <a:latin typeface="Univer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Univers"/>
              </a:rPr>
              <a:t>Vous devrez produire un rapport sur les performances mesurées du site eCOM+application bancaire+ …</a:t>
            </a:r>
            <a:endParaRPr b="0" lang="en-US" sz="2000" spc="-1" strike="noStrike">
              <a:solidFill>
                <a:srgbClr val="000000"/>
              </a:solidFill>
              <a:latin typeface="Univer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333399"/>
                </a:solidFill>
                <a:latin typeface="Univers"/>
              </a:rPr>
              <a:t>Modalité pédagogique (i)</a:t>
            </a:r>
            <a:endParaRPr b="0" lang="en-US" sz="3600" spc="-1" strike="noStrike">
              <a:solidFill>
                <a:srgbClr val="333399"/>
              </a:solidFill>
              <a:latin typeface="Univers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380520" y="1218960"/>
            <a:ext cx="85741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Univers"/>
              </a:rPr>
              <a:t>Organisation</a:t>
            </a:r>
            <a:endParaRPr b="0" lang="en-US" sz="2800" spc="-1" strike="noStrike">
              <a:solidFill>
                <a:srgbClr val="000000"/>
              </a:solidFill>
              <a:latin typeface="Univers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Univers"/>
              </a:rPr>
              <a:t>Groupe de 3 (ou 2)</a:t>
            </a:r>
            <a:endParaRPr b="0" lang="en-US" sz="2400" spc="-1" strike="noStrike">
              <a:solidFill>
                <a:srgbClr val="000000"/>
              </a:solidFill>
              <a:latin typeface="Univers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Univers"/>
              </a:rPr>
              <a:t>Elire un chef de projet identifié du début à la fin</a:t>
            </a:r>
            <a:endParaRPr b="0" lang="en-US" sz="2400" spc="-1" strike="noStrike">
              <a:solidFill>
                <a:srgbClr val="000000"/>
              </a:solidFill>
              <a:latin typeface="Univers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Univers"/>
              </a:rPr>
              <a:t>Attribuer des rôles/spécialités</a:t>
            </a:r>
            <a:endParaRPr b="0" lang="en-US" sz="2400" spc="-1" strike="noStrike">
              <a:solidFill>
                <a:srgbClr val="000000"/>
              </a:solidFill>
              <a:latin typeface="Univers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Univers"/>
              </a:rPr>
              <a:t>Auto-formation</a:t>
            </a:r>
            <a:endParaRPr b="0" lang="en-US" sz="2400" spc="-1" strike="noStrike">
              <a:solidFill>
                <a:srgbClr val="000000"/>
              </a:solidFill>
              <a:latin typeface="Univers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Univers"/>
              </a:rPr>
              <a:t>Gestion des risques</a:t>
            </a:r>
            <a:endParaRPr b="0" lang="en-US" sz="2400" spc="-1" strike="noStrike">
              <a:solidFill>
                <a:srgbClr val="000000"/>
              </a:solidFill>
              <a:latin typeface="Univer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333399"/>
                </a:solidFill>
                <a:latin typeface="Univers"/>
              </a:rPr>
              <a:t>Modalité pédagogique (ii)</a:t>
            </a:r>
            <a:endParaRPr b="0" lang="en-US" sz="3600" spc="-1" strike="noStrike">
              <a:solidFill>
                <a:srgbClr val="333399"/>
              </a:solidFill>
              <a:latin typeface="Univer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380520" y="1218960"/>
            <a:ext cx="85741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Univers"/>
              </a:rPr>
              <a:t>Planning</a:t>
            </a:r>
            <a:endParaRPr b="0" lang="en-US" sz="2800" spc="-1" strike="noStrike">
              <a:solidFill>
                <a:srgbClr val="000000"/>
              </a:solidFill>
              <a:latin typeface="Univers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Univers"/>
              </a:rPr>
              <a:t>3+3 séances de cours (18 Heures)</a:t>
            </a:r>
            <a:endParaRPr b="0" lang="en-US" sz="2400" spc="-1" strike="noStrike">
              <a:solidFill>
                <a:srgbClr val="000000"/>
              </a:solidFill>
              <a:latin typeface="Univer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Univers"/>
              </a:rPr>
              <a:t>Explication du contenu d’une étape en salle TD</a:t>
            </a:r>
            <a:endParaRPr b="0" lang="en-US" sz="2000" spc="-1" strike="noStrike">
              <a:solidFill>
                <a:srgbClr val="000000"/>
              </a:solidFill>
              <a:latin typeface="Univers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Univers"/>
              </a:rPr>
              <a:t>~10 séances encadrées en salle machine (30 Heures)</a:t>
            </a:r>
            <a:endParaRPr b="0" lang="en-US" sz="2400" spc="-1" strike="noStrike">
              <a:solidFill>
                <a:srgbClr val="000000"/>
              </a:solidFill>
              <a:latin typeface="Univer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Univers"/>
              </a:rPr>
              <a:t>Encadrement direct en salle machine</a:t>
            </a:r>
            <a:endParaRPr b="0" lang="en-US" sz="2000" spc="-1" strike="noStrike">
              <a:solidFill>
                <a:srgbClr val="000000"/>
              </a:solidFill>
              <a:latin typeface="Univers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Univers"/>
              </a:rPr>
              <a:t>Accès aux salles machine sur créneau réservé</a:t>
            </a:r>
            <a:endParaRPr b="0" lang="en-US" sz="2400" spc="-1" strike="noStrike">
              <a:solidFill>
                <a:srgbClr val="000000"/>
              </a:solidFill>
              <a:latin typeface="Univers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Univers"/>
              </a:rPr>
              <a:t>Travail personnel en dehors des cours</a:t>
            </a:r>
            <a:endParaRPr b="0" lang="en-US" sz="2400" spc="-1" strike="noStrike">
              <a:solidFill>
                <a:srgbClr val="000000"/>
              </a:solidFill>
              <a:latin typeface="Univers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Univers"/>
              </a:rPr>
              <a:t>Mail</a:t>
            </a:r>
            <a:endParaRPr b="0" lang="en-US" sz="2400" spc="-1" strike="noStrike">
              <a:solidFill>
                <a:srgbClr val="000000"/>
              </a:solidFill>
              <a:latin typeface="Univer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333399"/>
                </a:solidFill>
                <a:latin typeface="Univers"/>
              </a:rPr>
              <a:t>Modalités d'évaluation (résultat)</a:t>
            </a:r>
            <a:endParaRPr b="0" lang="en-US" sz="3600" spc="-1" strike="noStrike">
              <a:solidFill>
                <a:srgbClr val="333399"/>
              </a:solidFill>
              <a:latin typeface="Univers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380520" y="1218960"/>
            <a:ext cx="85741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Univers"/>
              </a:rPr>
              <a:t>Documents à rendre</a:t>
            </a:r>
            <a:endParaRPr b="0" lang="en-US" sz="2800" spc="-1" strike="noStrike">
              <a:solidFill>
                <a:srgbClr val="000000"/>
              </a:solidFill>
              <a:latin typeface="Univers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Univers"/>
              </a:rPr>
              <a:t>Démonstration finale (sur 8 à 10 PCs)</a:t>
            </a:r>
            <a:endParaRPr b="0" lang="en-US" sz="2800" spc="-1" strike="noStrike">
              <a:solidFill>
                <a:srgbClr val="000000"/>
              </a:solidFill>
              <a:latin typeface="Univers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Univers"/>
              </a:rPr>
              <a:t>Expliquer les principaux choix de conception</a:t>
            </a:r>
            <a:endParaRPr b="0" lang="en-US" sz="2400" spc="-1" strike="noStrike">
              <a:solidFill>
                <a:srgbClr val="000000"/>
              </a:solidFill>
              <a:latin typeface="Univers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Univers"/>
              </a:rPr>
              <a:t>Montrer l’aspect multi-utilisateurs du logiciel </a:t>
            </a:r>
            <a:endParaRPr b="0" lang="en-US" sz="2400" spc="-1" strike="noStrike">
              <a:solidFill>
                <a:srgbClr val="000000"/>
              </a:solidFill>
              <a:latin typeface="Univers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Univers"/>
              </a:rPr>
              <a:t>Montrer les performances du logiciel </a:t>
            </a:r>
            <a:endParaRPr b="0" lang="en-US" sz="2400" spc="-1" strike="noStrike">
              <a:solidFill>
                <a:srgbClr val="000000"/>
              </a:solidFill>
              <a:latin typeface="Univers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Univers"/>
              </a:rPr>
              <a:t>Montrer l’administration du logiciel (observation, déploiement multi-sites)</a:t>
            </a:r>
            <a:endParaRPr b="0" lang="en-US" sz="2400" spc="-1" strike="noStrike">
              <a:solidFill>
                <a:srgbClr val="000000"/>
              </a:solidFill>
              <a:latin typeface="Univers"/>
            </a:endParaRPr>
          </a:p>
          <a:p>
            <a:pPr lvl="2" marL="1131480" indent="-2260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Univers"/>
              </a:rPr>
              <a:t>serveur eCOM, serveurs CORBA et BD répartis …</a:t>
            </a:r>
            <a:endParaRPr b="0" lang="en-US" sz="2000" spc="-1" strike="noStrike">
              <a:solidFill>
                <a:srgbClr val="000000"/>
              </a:solidFill>
              <a:latin typeface="Univers"/>
            </a:endParaRPr>
          </a:p>
          <a:p>
            <a:pPr lvl="2" marL="1131480" indent="-2260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Univers"/>
              </a:rPr>
              <a:t>reprise après arrêt, …</a:t>
            </a:r>
            <a:endParaRPr b="0" lang="en-US" sz="2000" spc="-1" strike="noStrike">
              <a:solidFill>
                <a:srgbClr val="000000"/>
              </a:solidFill>
              <a:latin typeface="Univers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Univers"/>
              </a:rPr>
              <a:t>NB</a:t>
            </a:r>
            <a:endParaRPr b="0" lang="en-US" sz="2800" spc="-1" strike="noStrike">
              <a:solidFill>
                <a:srgbClr val="000000"/>
              </a:solidFill>
              <a:latin typeface="Univers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Univers"/>
              </a:rPr>
              <a:t>la partie eCOM a déjà été évaluée : inutile de la présenter</a:t>
            </a:r>
            <a:endParaRPr b="0" lang="en-US" sz="2400" spc="-1" strike="noStrike">
              <a:solidFill>
                <a:srgbClr val="000000"/>
              </a:solidFill>
              <a:latin typeface="Univer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333399"/>
                </a:solidFill>
                <a:latin typeface="Univers"/>
              </a:rPr>
              <a:t>Documents à rendre</a:t>
            </a:r>
            <a:endParaRPr b="0" lang="en-US" sz="3600" spc="-1" strike="noStrike">
              <a:solidFill>
                <a:srgbClr val="333399"/>
              </a:solidFill>
              <a:latin typeface="Univer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380520" y="1218960"/>
            <a:ext cx="85741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Univers"/>
              </a:rPr>
              <a:t>Gestion de projet « allégé »</a:t>
            </a:r>
            <a:endParaRPr b="0" lang="en-US" sz="2400" spc="-1" strike="noStrike">
              <a:solidFill>
                <a:srgbClr val="000000"/>
              </a:solidFill>
              <a:latin typeface="Univers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Univers"/>
              </a:rPr>
              <a:t>membre de l‘équipe</a:t>
            </a:r>
            <a:endParaRPr b="0" lang="en-US" sz="2000" spc="-1" strike="noStrike">
              <a:solidFill>
                <a:srgbClr val="000000"/>
              </a:solidFill>
              <a:latin typeface="Univers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Univers"/>
              </a:rPr>
              <a:t>rôle (chef de projet, expert techno, …)</a:t>
            </a:r>
            <a:endParaRPr b="0" lang="en-US" sz="1800" spc="-1" strike="noStrike">
              <a:solidFill>
                <a:srgbClr val="000000"/>
              </a:solidFill>
              <a:latin typeface="Univers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Univers"/>
              </a:rPr>
              <a:t>Découpage en taches des étapes et affectations aux membres</a:t>
            </a:r>
            <a:endParaRPr b="0" lang="en-US" sz="2000" spc="-1" strike="noStrike">
              <a:solidFill>
                <a:srgbClr val="000000"/>
              </a:solidFill>
              <a:latin typeface="Univers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Univers"/>
              </a:rPr>
              <a:t>Temps passée sur les taches</a:t>
            </a:r>
            <a:endParaRPr b="0" lang="en-US" sz="2000" spc="-1" strike="noStrike">
              <a:solidFill>
                <a:srgbClr val="000000"/>
              </a:solidFill>
              <a:latin typeface="Univer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Univers"/>
              </a:rPr>
              <a:t>Dossier qualité</a:t>
            </a:r>
            <a:endParaRPr b="0" lang="en-US" sz="2400" spc="-1" strike="noStrike">
              <a:solidFill>
                <a:srgbClr val="000000"/>
              </a:solidFill>
              <a:latin typeface="Univers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Univers"/>
              </a:rPr>
              <a:t>Rapport JavaNCCS (commenté)</a:t>
            </a:r>
            <a:endParaRPr b="0" lang="en-US" sz="2000" spc="-1" strike="noStrike">
              <a:solidFill>
                <a:srgbClr val="000000"/>
              </a:solidFill>
              <a:latin typeface="Univer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Univers"/>
              </a:rPr>
              <a:t>Dossier d‘évaluation Système</a:t>
            </a:r>
            <a:endParaRPr b="0" lang="en-US" sz="2400" spc="-1" strike="noStrike">
              <a:solidFill>
                <a:srgbClr val="000000"/>
              </a:solidFill>
              <a:latin typeface="Univers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Univers"/>
              </a:rPr>
              <a:t>Rapport sur les performances (scénario du benchmark, configuration matérielle, nombre de transactions, …)</a:t>
            </a:r>
            <a:endParaRPr b="0" lang="en-US" sz="2000" spc="-1" strike="noStrike">
              <a:solidFill>
                <a:srgbClr val="000000"/>
              </a:solidFill>
              <a:latin typeface="Univer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Univers"/>
              </a:rPr>
              <a:t>Distribution des sources prêt à installer (ant install)</a:t>
            </a:r>
            <a:endParaRPr b="0" lang="en-US" sz="2400" spc="-1" strike="noStrike">
              <a:solidFill>
                <a:srgbClr val="000000"/>
              </a:solidFill>
              <a:latin typeface="Univers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Univers"/>
              </a:rPr>
              <a:t>avec 1 page de manuel d’installation</a:t>
            </a:r>
            <a:endParaRPr b="0" lang="en-US" sz="2000" spc="-1" strike="noStrike">
              <a:solidFill>
                <a:srgbClr val="000000"/>
              </a:solidFill>
              <a:latin typeface="Univers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Univers"/>
              </a:rPr>
              <a:t>et avec un jeu de données (CORBA, EJB)</a:t>
            </a:r>
            <a:endParaRPr b="0" lang="en-US" sz="2000" spc="-1" strike="noStrike">
              <a:solidFill>
                <a:srgbClr val="000000"/>
              </a:solidFill>
              <a:latin typeface="Univer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333399"/>
                </a:solidFill>
                <a:latin typeface="Univers"/>
              </a:rPr>
              <a:t>Liens</a:t>
            </a:r>
            <a:endParaRPr b="0" lang="en-US" sz="3600" spc="-1" strike="noStrike">
              <a:solidFill>
                <a:srgbClr val="333399"/>
              </a:solidFill>
              <a:latin typeface="Univers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380520" y="1218960"/>
            <a:ext cx="85741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Univers"/>
              </a:rPr>
              <a:t>Vers le sujet</a:t>
            </a:r>
            <a:endParaRPr b="0" lang="en-US" sz="2800" spc="-1" strike="noStrike">
              <a:solidFill>
                <a:srgbClr val="000000"/>
              </a:solidFill>
              <a:latin typeface="Univers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Univers"/>
              </a:rPr>
              <a:t>http://www-adele.imag.fr/users/Didier.Donsez/ujf/GICOM/GICOM_ENS</a:t>
            </a:r>
            <a:endParaRPr b="0" lang="en-US" sz="2000" spc="-1" strike="noStrike">
              <a:solidFill>
                <a:srgbClr val="000000"/>
              </a:solidFill>
              <a:latin typeface="Univer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333399"/>
                </a:solidFill>
                <a:latin typeface="Univers"/>
              </a:rPr>
              <a:t>Bon ! Faut s’organiser</a:t>
            </a:r>
            <a:endParaRPr b="0" lang="en-US" sz="3600" spc="-1" strike="noStrike">
              <a:solidFill>
                <a:srgbClr val="333399"/>
              </a:solidFill>
              <a:latin typeface="Univer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380520" y="1218960"/>
            <a:ext cx="85741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Univers"/>
              </a:rPr>
              <a:t>Trinome M2PGI SRR</a:t>
            </a:r>
            <a:r>
              <a:rPr b="0" lang="fr-FR" sz="1800" spc="-1" strike="noStrike">
                <a:solidFill>
                  <a:srgbClr val="000000"/>
                </a:solidFill>
                <a:latin typeface="Univer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Univer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Univers"/>
              </a:rPr>
              <a:t>Thème eCOM</a:t>
            </a:r>
            <a:r>
              <a:rPr b="0" lang="fr-FR" sz="1800" spc="-1" strike="noStrike">
                <a:solidFill>
                  <a:srgbClr val="000000"/>
                </a:solidFill>
                <a:latin typeface="Univer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Univer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Univers"/>
              </a:rPr>
              <a:t>Banques</a:t>
            </a:r>
            <a:endParaRPr b="0" lang="en-US" sz="1800" spc="-1" strike="noStrike">
              <a:solidFill>
                <a:srgbClr val="000000"/>
              </a:solidFill>
              <a:latin typeface="Univer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Univers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Univer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Univer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Univer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Univer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Univer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Univers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Univers"/>
              </a:rPr>
              <a:t>Crédit Agricole, Crédit Lyonnais</a:t>
            </a:r>
            <a:endParaRPr b="0" lang="en-US" sz="1800" spc="-1" strike="noStrike">
              <a:solidFill>
                <a:srgbClr val="000000"/>
              </a:solidFill>
              <a:latin typeface="Univers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Univer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Univer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Univer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Univer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Univer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Univers"/>
              </a:rPr>
              <a:t>BNP-Paribas, Banque Directe </a:t>
            </a:r>
            <a:endParaRPr b="0" lang="en-US" sz="1800" spc="-1" strike="noStrike">
              <a:solidFill>
                <a:srgbClr val="000000"/>
              </a:solidFill>
              <a:latin typeface="Univers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Univer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Univer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Univer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Univer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Univer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Univers"/>
              </a:rPr>
              <a:t>Crédit du Nord, Société Générale</a:t>
            </a:r>
            <a:endParaRPr b="0" lang="en-US" sz="1800" spc="-1" strike="noStrike">
              <a:solidFill>
                <a:srgbClr val="000000"/>
              </a:solidFill>
              <a:latin typeface="Univers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Univer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Univer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Univer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Univer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Univer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Univers"/>
              </a:rPr>
              <a:t>La Poste, Banque Rothschild</a:t>
            </a:r>
            <a:endParaRPr b="0" lang="en-US" sz="1800" spc="-1" strike="noStrike">
              <a:solidFill>
                <a:srgbClr val="000000"/>
              </a:solidFill>
              <a:latin typeface="Univers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Univer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Univer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Univer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Univer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Univer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Univers"/>
              </a:rPr>
              <a:t>Caixa, Caisse d’Epargne</a:t>
            </a:r>
            <a:r>
              <a:rPr b="0" lang="fr-FR" sz="1800" spc="-1" strike="noStrike">
                <a:solidFill>
                  <a:srgbClr val="000000"/>
                </a:solidFill>
                <a:latin typeface="Univers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Univer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333399"/>
                </a:solidFill>
                <a:latin typeface="Univers"/>
              </a:rPr>
              <a:t>Bonus Track</a:t>
            </a:r>
            <a:endParaRPr b="0" lang="en-US" sz="3600" spc="-1" strike="noStrike">
              <a:solidFill>
                <a:srgbClr val="333399"/>
              </a:solidFill>
              <a:latin typeface="Univers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Univers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333399"/>
                </a:solidFill>
                <a:latin typeface="Univers"/>
              </a:rPr>
              <a:t>IOR</a:t>
            </a:r>
            <a:br>
              <a:rPr sz="3600"/>
            </a:br>
            <a:r>
              <a:rPr b="0" lang="fr-FR" sz="2000" spc="-1" strike="noStrike">
                <a:solidFill>
                  <a:srgbClr val="333399"/>
                </a:solidFill>
                <a:latin typeface="Univers"/>
              </a:rPr>
              <a:t>http://www.iona.com/support/docs/e2a/asp/5.1/platform/admin/iordump2.html</a:t>
            </a:r>
            <a:endParaRPr b="0" lang="en-US" sz="2000" spc="-1" strike="noStrike">
              <a:solidFill>
                <a:srgbClr val="333399"/>
              </a:solidFill>
              <a:latin typeface="Univers"/>
            </a:endParaRPr>
          </a:p>
        </p:txBody>
      </p:sp>
      <p:grpSp>
        <p:nvGrpSpPr>
          <p:cNvPr id="746" name=""/>
          <p:cNvGrpSpPr/>
          <p:nvPr/>
        </p:nvGrpSpPr>
        <p:grpSpPr>
          <a:xfrm>
            <a:off x="533520" y="4572000"/>
            <a:ext cx="7696080" cy="685800"/>
            <a:chOff x="533520" y="4572000"/>
            <a:chExt cx="7696080" cy="685800"/>
          </a:xfrm>
        </p:grpSpPr>
        <p:sp>
          <p:nvSpPr>
            <p:cNvPr id="747" name=""/>
            <p:cNvSpPr/>
            <p:nvPr/>
          </p:nvSpPr>
          <p:spPr>
            <a:xfrm>
              <a:off x="2895480" y="4572000"/>
              <a:ext cx="838440" cy="685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Arial Narrow"/>
                </a:rPr>
                <a:t>Por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1371600" y="4572000"/>
              <a:ext cx="1523880" cy="685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Arial Narrow"/>
                </a:rPr>
                <a:t>Host IP @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3733920" y="4572000"/>
              <a:ext cx="1676160" cy="685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Arial Narrow"/>
                </a:rPr>
                <a:t>POA I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5410080" y="4572000"/>
              <a:ext cx="2819520" cy="685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Arial Narrow"/>
                </a:rPr>
                <a:t>PI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533520" y="4572000"/>
              <a:ext cx="838080" cy="685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 Narrow"/>
                </a:rPr>
                <a:t>IIOP</a:t>
              </a:r>
              <a:br>
                <a:rPr sz="1800"/>
              </a:br>
              <a:r>
                <a:rPr b="0" lang="fr-FR" sz="1800" spc="-1" strike="noStrike">
                  <a:solidFill>
                    <a:srgbClr val="000000"/>
                  </a:solidFill>
                  <a:latin typeface="Arial Narrow"/>
                </a:rPr>
                <a:t>Vers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2" name=""/>
          <p:cNvGrpSpPr/>
          <p:nvPr/>
        </p:nvGrpSpPr>
        <p:grpSpPr>
          <a:xfrm>
            <a:off x="0" y="380880"/>
            <a:ext cx="10363320" cy="6248520"/>
            <a:chOff x="0" y="380880"/>
            <a:chExt cx="10363320" cy="6248520"/>
          </a:xfrm>
        </p:grpSpPr>
        <p:sp>
          <p:nvSpPr>
            <p:cNvPr id="753" name=""/>
            <p:cNvSpPr/>
            <p:nvPr/>
          </p:nvSpPr>
          <p:spPr>
            <a:xfrm>
              <a:off x="2438280" y="762120"/>
              <a:ext cx="3276720" cy="266688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ffffff"/>
                  </a:solidFill>
                  <a:latin typeface="Arial"/>
                </a:rPr>
                <a:t>Serveur de Commer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514600" y="1371600"/>
              <a:ext cx="1143000" cy="1905120"/>
            </a:xfrm>
            <a:prstGeom prst="rect">
              <a:avLst/>
            </a:prstGeom>
            <a:solidFill>
              <a:srgbClr val="ff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fffff"/>
                  </a:solidFill>
                  <a:latin typeface="Arial Narrow"/>
                </a:rPr>
                <a:t>Serveur HTT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4343400" y="1523880"/>
              <a:ext cx="914400" cy="762120"/>
            </a:xfrm>
            <a:prstGeom prst="can">
              <a:avLst>
                <a:gd name="adj" fmla="val 19444"/>
              </a:avLst>
            </a:prstGeom>
            <a:gradFill rotWithShape="0">
              <a:gsLst>
                <a:gs pos="0">
                  <a:srgbClr val="757500"/>
                </a:gs>
                <a:gs pos="50000">
                  <a:srgbClr val="ffff00"/>
                </a:gs>
                <a:gs pos="100000">
                  <a:srgbClr val="757500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 Narrow"/>
                </a:rPr>
                <a:t>BD</a:t>
              </a:r>
              <a:br>
                <a:rPr sz="1600"/>
              </a:br>
              <a:r>
                <a:rPr b="1" lang="fr-FR" sz="1600" spc="-1" strike="noStrike">
                  <a:solidFill>
                    <a:srgbClr val="000000"/>
                  </a:solidFill>
                  <a:latin typeface="Arial Narrow"/>
                </a:rPr>
                <a:t>Catalog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 flipV="1">
              <a:off x="3657600" y="1981080"/>
              <a:ext cx="68580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4876920" y="2133720"/>
              <a:ext cx="1447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Arial Narrow"/>
                </a:rPr>
                <a:t>JDB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8" name=""/>
            <p:cNvGrpSpPr/>
            <p:nvPr/>
          </p:nvGrpSpPr>
          <p:grpSpPr>
            <a:xfrm>
              <a:off x="2286000" y="2133720"/>
              <a:ext cx="1294920" cy="533160"/>
              <a:chOff x="2286000" y="2133720"/>
              <a:chExt cx="1294920" cy="533160"/>
            </a:xfrm>
          </p:grpSpPr>
          <p:sp>
            <p:nvSpPr>
              <p:cNvPr id="759" name=""/>
              <p:cNvSpPr/>
              <p:nvPr/>
            </p:nvSpPr>
            <p:spPr>
              <a:xfrm>
                <a:off x="2514240" y="2362320"/>
                <a:ext cx="304560" cy="75960"/>
              </a:xfrm>
              <a:prstGeom prst="rect">
                <a:avLst/>
              </a:prstGeom>
              <a:solidFill>
                <a:srgbClr val="ff00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2286000" y="2286000"/>
                <a:ext cx="228240" cy="228600"/>
              </a:xfrm>
              <a:prstGeom prst="ellipse">
                <a:avLst/>
              </a:prstGeom>
              <a:solidFill>
                <a:srgbClr val="ff00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2666880" y="2133720"/>
                <a:ext cx="914040" cy="533160"/>
              </a:xfrm>
              <a:prstGeom prst="roundRect">
                <a:avLst>
                  <a:gd name="adj" fmla="val 16667"/>
                </a:avLst>
              </a:prstGeom>
              <a:solidFill>
                <a:srgbClr val="ff00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600" spc="-1" strike="noStrike">
                    <a:solidFill>
                      <a:srgbClr val="000000"/>
                    </a:solidFill>
                    <a:latin typeface="Arial Narrow"/>
                  </a:rPr>
                  <a:t>Servlet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62" name=""/>
            <p:cNvSpPr/>
            <p:nvPr/>
          </p:nvSpPr>
          <p:spPr>
            <a:xfrm>
              <a:off x="0" y="1752480"/>
              <a:ext cx="1295280" cy="1752840"/>
            </a:xfrm>
            <a:prstGeom prst="rect">
              <a:avLst/>
            </a:prstGeom>
            <a:solidFill>
              <a:srgbClr val="ff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ffffff"/>
                  </a:solidFill>
                  <a:latin typeface="Arial Narrow"/>
                </a:rPr>
                <a:t>Navigateur</a:t>
              </a:r>
              <a:br>
                <a:rPr sz="2400"/>
              </a:br>
              <a:r>
                <a:rPr b="0" lang="fr-FR" sz="2400" spc="-1" strike="noStrike">
                  <a:solidFill>
                    <a:srgbClr val="ffffff"/>
                  </a:solidFill>
                  <a:latin typeface="Arial Narrow"/>
                </a:rPr>
                <a:t>We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ffffff"/>
                  </a:solidFill>
                  <a:latin typeface="Arial Narrow"/>
                </a:rPr>
                <a:t>De</a:t>
              </a:r>
              <a:br>
                <a:rPr sz="2400"/>
              </a:br>
              <a:r>
                <a:rPr b="0" lang="fr-FR" sz="2400" spc="-1" strike="noStrike">
                  <a:solidFill>
                    <a:srgbClr val="ffffff"/>
                  </a:solidFill>
                  <a:latin typeface="Arial Narrow"/>
                </a:rPr>
                <a:t>l’Acheteu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6477120" y="380880"/>
              <a:ext cx="1676160" cy="236232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ffffff"/>
                  </a:solidFill>
                  <a:latin typeface="Arial"/>
                </a:rPr>
                <a:t>Serveu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ffff"/>
                  </a:solidFill>
                  <a:latin typeface="Arial"/>
                </a:rPr>
                <a:t>Fournisseur 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ffffff"/>
                  </a:solidFill>
                  <a:latin typeface="Arial Narrow"/>
                </a:rPr>
                <a:t>« Jardin de Provence »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6858000" y="1523880"/>
              <a:ext cx="914400" cy="990720"/>
            </a:xfrm>
            <a:prstGeom prst="can">
              <a:avLst>
                <a:gd name="adj" fmla="val 19444"/>
              </a:avLst>
            </a:prstGeom>
            <a:gradFill rotWithShape="0">
              <a:gsLst>
                <a:gs pos="0">
                  <a:srgbClr val="757500"/>
                </a:gs>
                <a:gs pos="50000">
                  <a:srgbClr val="ffff00"/>
                </a:gs>
                <a:gs pos="100000">
                  <a:srgbClr val="757500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 Narrow"/>
                </a:rPr>
                <a:t>BD</a:t>
              </a:r>
              <a:br>
                <a:rPr sz="1600"/>
              </a:br>
              <a:r>
                <a:rPr b="1" lang="fr-FR" sz="1600" spc="-1" strike="noStrike">
                  <a:solidFill>
                    <a:srgbClr val="000000"/>
                  </a:solidFill>
                  <a:latin typeface="Arial Narrow"/>
                </a:rPr>
                <a:t>Catalog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 Narrow"/>
                </a:rPr>
                <a:t>Comman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8610480" y="990720"/>
              <a:ext cx="1676520" cy="23619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ffffff"/>
                  </a:solidFill>
                  <a:latin typeface="Arial"/>
                </a:rPr>
                <a:t>Serveu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ffff"/>
                  </a:solidFill>
                  <a:latin typeface="Arial"/>
                </a:rPr>
                <a:t>Fournisseur 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ffffff"/>
                  </a:solidFill>
                  <a:latin typeface="Arial Narrow"/>
                </a:rPr>
                <a:t>« Disquaire »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8991720" y="2133720"/>
              <a:ext cx="914400" cy="990360"/>
            </a:xfrm>
            <a:prstGeom prst="can">
              <a:avLst>
                <a:gd name="adj" fmla="val 19444"/>
              </a:avLst>
            </a:prstGeom>
            <a:gradFill rotWithShape="0">
              <a:gsLst>
                <a:gs pos="0">
                  <a:srgbClr val="757500"/>
                </a:gs>
                <a:gs pos="50000">
                  <a:srgbClr val="ffff00"/>
                </a:gs>
                <a:gs pos="100000">
                  <a:srgbClr val="757500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 Narrow"/>
                </a:rPr>
                <a:t>BD</a:t>
              </a:r>
              <a:br>
                <a:rPr sz="1600"/>
              </a:br>
              <a:r>
                <a:rPr b="1" lang="fr-FR" sz="1600" spc="-1" strike="noStrike">
                  <a:solidFill>
                    <a:srgbClr val="000000"/>
                  </a:solidFill>
                  <a:latin typeface="Arial Narrow"/>
                </a:rPr>
                <a:t>Catalog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 Narrow"/>
                </a:rPr>
                <a:t>Comman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7" name=""/>
            <p:cNvGrpSpPr/>
            <p:nvPr/>
          </p:nvGrpSpPr>
          <p:grpSpPr>
            <a:xfrm>
              <a:off x="2209680" y="2514600"/>
              <a:ext cx="1295640" cy="533160"/>
              <a:chOff x="2209680" y="2514600"/>
              <a:chExt cx="1295640" cy="533160"/>
            </a:xfrm>
          </p:grpSpPr>
          <p:sp>
            <p:nvSpPr>
              <p:cNvPr id="768" name=""/>
              <p:cNvSpPr/>
              <p:nvPr/>
            </p:nvSpPr>
            <p:spPr>
              <a:xfrm>
                <a:off x="2438280" y="2743200"/>
                <a:ext cx="304920" cy="75960"/>
              </a:xfrm>
              <a:prstGeom prst="rect">
                <a:avLst/>
              </a:prstGeom>
              <a:solidFill>
                <a:srgbClr val="ff00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2209680" y="2666880"/>
                <a:ext cx="228600" cy="228600"/>
              </a:xfrm>
              <a:prstGeom prst="ellipse">
                <a:avLst/>
              </a:prstGeom>
              <a:solidFill>
                <a:srgbClr val="ff00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2590920" y="2514600"/>
                <a:ext cx="914400" cy="533160"/>
              </a:xfrm>
              <a:prstGeom prst="roundRect">
                <a:avLst>
                  <a:gd name="adj" fmla="val 16667"/>
                </a:avLst>
              </a:prstGeom>
              <a:solidFill>
                <a:srgbClr val="ff00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600" spc="-1" strike="noStrike">
                    <a:solidFill>
                      <a:srgbClr val="000000"/>
                    </a:solidFill>
                    <a:latin typeface="Arial Narrow"/>
                  </a:rPr>
                  <a:t>Servlet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1" name=""/>
            <p:cNvSpPr/>
            <p:nvPr/>
          </p:nvSpPr>
          <p:spPr>
            <a:xfrm flipH="1">
              <a:off x="3581280" y="2286000"/>
              <a:ext cx="327672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 flipH="1">
              <a:off x="3580920" y="2895480"/>
              <a:ext cx="5410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2438280" y="4114800"/>
              <a:ext cx="2362320" cy="251460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ffffff"/>
                  </a:solidFill>
                  <a:latin typeface="Arial"/>
                </a:rPr>
                <a:t>Serveur Banqu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2514600" y="4648320"/>
              <a:ext cx="1981080" cy="1904760"/>
            </a:xfrm>
            <a:prstGeom prst="rect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fffff"/>
                  </a:solidFill>
                  <a:latin typeface="Arial Narrow"/>
                </a:rPr>
                <a:t>Serveur Corb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75" name=""/>
            <p:cNvGrpSpPr/>
            <p:nvPr/>
          </p:nvGrpSpPr>
          <p:grpSpPr>
            <a:xfrm>
              <a:off x="2743200" y="5257800"/>
              <a:ext cx="1294920" cy="533160"/>
              <a:chOff x="2743200" y="5257800"/>
              <a:chExt cx="1294920" cy="533160"/>
            </a:xfrm>
          </p:grpSpPr>
          <p:sp>
            <p:nvSpPr>
              <p:cNvPr id="776" name=""/>
              <p:cNvSpPr/>
              <p:nvPr/>
            </p:nvSpPr>
            <p:spPr>
              <a:xfrm>
                <a:off x="2971440" y="5486400"/>
                <a:ext cx="304560" cy="75960"/>
              </a:xfrm>
              <a:prstGeom prst="rect">
                <a:avLst/>
              </a:prstGeom>
              <a:solidFill>
                <a:srgbClr val="00e4a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2743200" y="5410080"/>
                <a:ext cx="228240" cy="228600"/>
              </a:xfrm>
              <a:prstGeom prst="ellipse">
                <a:avLst/>
              </a:prstGeom>
              <a:solidFill>
                <a:srgbClr val="00e4a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3124080" y="5257800"/>
                <a:ext cx="914040" cy="533160"/>
              </a:xfrm>
              <a:prstGeom prst="roundRect">
                <a:avLst>
                  <a:gd name="adj" fmla="val 16667"/>
                </a:avLst>
              </a:prstGeom>
              <a:solidFill>
                <a:srgbClr val="00e4a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600" spc="-1" strike="noStrike">
                    <a:solidFill>
                      <a:srgbClr val="000000"/>
                    </a:solidFill>
                    <a:latin typeface="Arial Narrow"/>
                  </a:rPr>
                  <a:t>Banqu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9" name=""/>
            <p:cNvSpPr/>
            <p:nvPr/>
          </p:nvSpPr>
          <p:spPr>
            <a:xfrm>
              <a:off x="5181480" y="4114800"/>
              <a:ext cx="2362320" cy="251460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ffffff"/>
                  </a:solidFill>
                  <a:latin typeface="Arial"/>
                </a:rPr>
                <a:t>Serveur Agence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ffffff"/>
                  </a:solidFill>
                  <a:latin typeface="Arial"/>
                </a:rPr>
                <a:t>Bancai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5257800" y="4952880"/>
              <a:ext cx="1981080" cy="1600200"/>
            </a:xfrm>
            <a:prstGeom prst="rect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fffff"/>
                  </a:solidFill>
                  <a:latin typeface="Arial Narrow"/>
                </a:rPr>
                <a:t>Serveur Corb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1" name=""/>
            <p:cNvGrpSpPr/>
            <p:nvPr/>
          </p:nvGrpSpPr>
          <p:grpSpPr>
            <a:xfrm>
              <a:off x="5257800" y="5410080"/>
              <a:ext cx="1294920" cy="381240"/>
              <a:chOff x="5257800" y="5410080"/>
              <a:chExt cx="1294920" cy="381240"/>
            </a:xfrm>
          </p:grpSpPr>
          <p:sp>
            <p:nvSpPr>
              <p:cNvPr id="782" name=""/>
              <p:cNvSpPr/>
              <p:nvPr/>
            </p:nvSpPr>
            <p:spPr>
              <a:xfrm>
                <a:off x="5486040" y="5573520"/>
                <a:ext cx="304560" cy="54000"/>
              </a:xfrm>
              <a:prstGeom prst="rect">
                <a:avLst/>
              </a:prstGeom>
              <a:solidFill>
                <a:srgbClr val="00e4a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5257800" y="5518800"/>
                <a:ext cx="228240" cy="163440"/>
              </a:xfrm>
              <a:prstGeom prst="ellipse">
                <a:avLst/>
              </a:prstGeom>
              <a:solidFill>
                <a:srgbClr val="00e4a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5638680" y="5410080"/>
                <a:ext cx="914040" cy="381240"/>
              </a:xfrm>
              <a:prstGeom prst="roundRect">
                <a:avLst>
                  <a:gd name="adj" fmla="val 16667"/>
                </a:avLst>
              </a:prstGeom>
              <a:solidFill>
                <a:srgbClr val="00e4a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600" spc="-1" strike="noStrike">
                    <a:solidFill>
                      <a:srgbClr val="000000"/>
                    </a:solidFill>
                    <a:latin typeface="Arial Narrow"/>
                  </a:rPr>
                  <a:t>Agenc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5" name=""/>
            <p:cNvGrpSpPr/>
            <p:nvPr/>
          </p:nvGrpSpPr>
          <p:grpSpPr>
            <a:xfrm>
              <a:off x="5562720" y="5791320"/>
              <a:ext cx="1294920" cy="380880"/>
              <a:chOff x="5562720" y="5791320"/>
              <a:chExt cx="1294920" cy="380880"/>
            </a:xfrm>
          </p:grpSpPr>
          <p:sp>
            <p:nvSpPr>
              <p:cNvPr id="786" name=""/>
              <p:cNvSpPr/>
              <p:nvPr/>
            </p:nvSpPr>
            <p:spPr>
              <a:xfrm>
                <a:off x="5790960" y="5954400"/>
                <a:ext cx="304560" cy="54000"/>
              </a:xfrm>
              <a:prstGeom prst="rect">
                <a:avLst/>
              </a:prstGeom>
              <a:solidFill>
                <a:srgbClr val="00e4a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5562720" y="5900040"/>
                <a:ext cx="228240" cy="163080"/>
              </a:xfrm>
              <a:prstGeom prst="ellipse">
                <a:avLst/>
              </a:prstGeom>
              <a:solidFill>
                <a:srgbClr val="00e4a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5943600" y="5791320"/>
                <a:ext cx="914040" cy="380880"/>
              </a:xfrm>
              <a:prstGeom prst="roundRect">
                <a:avLst>
                  <a:gd name="adj" fmla="val 16667"/>
                </a:avLst>
              </a:prstGeom>
              <a:solidFill>
                <a:srgbClr val="00e4a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600" spc="-1" strike="noStrike">
                    <a:solidFill>
                      <a:srgbClr val="000000"/>
                    </a:solidFill>
                    <a:latin typeface="Arial Narrow"/>
                  </a:rPr>
                  <a:t>Clien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9" name=""/>
            <p:cNvGrpSpPr/>
            <p:nvPr/>
          </p:nvGrpSpPr>
          <p:grpSpPr>
            <a:xfrm>
              <a:off x="5867280" y="6172200"/>
              <a:ext cx="1295640" cy="380880"/>
              <a:chOff x="5867280" y="6172200"/>
              <a:chExt cx="1295640" cy="380880"/>
            </a:xfrm>
          </p:grpSpPr>
          <p:sp>
            <p:nvSpPr>
              <p:cNvPr id="790" name=""/>
              <p:cNvSpPr/>
              <p:nvPr/>
            </p:nvSpPr>
            <p:spPr>
              <a:xfrm>
                <a:off x="6095880" y="6335280"/>
                <a:ext cx="304920" cy="54000"/>
              </a:xfrm>
              <a:prstGeom prst="rect">
                <a:avLst/>
              </a:prstGeom>
              <a:solidFill>
                <a:srgbClr val="00e4a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5867280" y="6280920"/>
                <a:ext cx="228600" cy="163080"/>
              </a:xfrm>
              <a:prstGeom prst="ellipse">
                <a:avLst/>
              </a:prstGeom>
              <a:solidFill>
                <a:srgbClr val="00e4a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6248520" y="6172200"/>
                <a:ext cx="914400" cy="380880"/>
              </a:xfrm>
              <a:prstGeom prst="roundRect">
                <a:avLst>
                  <a:gd name="adj" fmla="val 16667"/>
                </a:avLst>
              </a:prstGeom>
              <a:solidFill>
                <a:srgbClr val="00e4a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600" spc="-1" strike="noStrike">
                    <a:solidFill>
                      <a:srgbClr val="000000"/>
                    </a:solidFill>
                    <a:latin typeface="Arial Narrow"/>
                  </a:rPr>
                  <a:t>Comp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93" name=""/>
            <p:cNvSpPr/>
            <p:nvPr/>
          </p:nvSpPr>
          <p:spPr>
            <a:xfrm>
              <a:off x="0" y="4648320"/>
              <a:ext cx="1447920" cy="1752480"/>
            </a:xfrm>
            <a:prstGeom prst="rect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ffffff"/>
                  </a:solidFill>
                  <a:latin typeface="Arial Narrow"/>
                </a:rPr>
                <a:t>Client Corb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ffffff"/>
                  </a:solidFill>
                  <a:latin typeface="Arial Narrow"/>
                </a:rPr>
                <a:t>de l’Agent</a:t>
              </a:r>
              <a:br>
                <a:rPr sz="2400"/>
              </a:br>
              <a:r>
                <a:rPr b="0" lang="fr-FR" sz="2400" spc="-1" strike="noStrike">
                  <a:solidFill>
                    <a:srgbClr val="ffffff"/>
                  </a:solidFill>
                  <a:latin typeface="Arial Narrow"/>
                </a:rPr>
                <a:t>de</a:t>
              </a:r>
              <a:br>
                <a:rPr sz="2400"/>
              </a:br>
              <a:r>
                <a:rPr b="0" lang="fr-FR" sz="2400" spc="-1" strike="noStrike">
                  <a:solidFill>
                    <a:srgbClr val="ffffff"/>
                  </a:solidFill>
                  <a:latin typeface="Arial Narrow"/>
                </a:rPr>
                <a:t>la Banqu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7924680" y="4114800"/>
              <a:ext cx="2438640" cy="251460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ffffff"/>
                  </a:solidFill>
                  <a:latin typeface="Arial"/>
                </a:rPr>
                <a:t>Serveur Transac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ffffff"/>
                  </a:solidFill>
                  <a:latin typeface="Arial"/>
                </a:rPr>
                <a:t>Bancai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8077320" y="4952880"/>
              <a:ext cx="1981080" cy="1600200"/>
            </a:xfrm>
            <a:prstGeom prst="rect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fffff"/>
                  </a:solidFill>
                  <a:latin typeface="Arial Narrow"/>
                </a:rPr>
                <a:t>Serveur Corb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96" name=""/>
            <p:cNvGrpSpPr/>
            <p:nvPr/>
          </p:nvGrpSpPr>
          <p:grpSpPr>
            <a:xfrm>
              <a:off x="8381880" y="5715000"/>
              <a:ext cx="1523880" cy="533160"/>
              <a:chOff x="8381880" y="5715000"/>
              <a:chExt cx="1523880" cy="533160"/>
            </a:xfrm>
          </p:grpSpPr>
          <p:sp>
            <p:nvSpPr>
              <p:cNvPr id="797" name=""/>
              <p:cNvSpPr/>
              <p:nvPr/>
            </p:nvSpPr>
            <p:spPr>
              <a:xfrm>
                <a:off x="8650800" y="5943600"/>
                <a:ext cx="358560" cy="75960"/>
              </a:xfrm>
              <a:prstGeom prst="rect">
                <a:avLst/>
              </a:prstGeom>
              <a:solidFill>
                <a:srgbClr val="00e4a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8381880" y="5867280"/>
                <a:ext cx="268920" cy="228600"/>
              </a:xfrm>
              <a:prstGeom prst="ellipse">
                <a:avLst/>
              </a:prstGeom>
              <a:solidFill>
                <a:srgbClr val="00e4a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8830080" y="5715000"/>
                <a:ext cx="1075680" cy="533160"/>
              </a:xfrm>
              <a:prstGeom prst="roundRect">
                <a:avLst>
                  <a:gd name="adj" fmla="val 16667"/>
                </a:avLst>
              </a:prstGeom>
              <a:solidFill>
                <a:srgbClr val="00e4a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600" spc="-1" strike="noStrike">
                    <a:solidFill>
                      <a:srgbClr val="000000"/>
                    </a:solidFill>
                    <a:latin typeface="Arial Narrow"/>
                  </a:rPr>
                  <a:t>Transa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00" name=""/>
            <p:cNvSpPr/>
            <p:nvPr/>
          </p:nvSpPr>
          <p:spPr>
            <a:xfrm>
              <a:off x="1523880" y="5715000"/>
              <a:ext cx="838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1523880" y="5867280"/>
              <a:ext cx="3581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1523880" y="6019920"/>
              <a:ext cx="6477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048120" y="3124080"/>
              <a:ext cx="7596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3048120" y="3124080"/>
              <a:ext cx="281916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3048120" y="3124080"/>
              <a:ext cx="556236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1447920" y="2590920"/>
              <a:ext cx="7617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1143000" y="2286000"/>
              <a:ext cx="1447920" cy="63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Arial Narrow"/>
                </a:rPr>
                <a:t>HTT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Arial Narrow"/>
                </a:rPr>
                <a:t>HTTP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1143000" y="5486400"/>
              <a:ext cx="1447920" cy="63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Arial Narrow"/>
                </a:rPr>
                <a:t>IIO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Arial Narrow"/>
                </a:rPr>
                <a:t>IIOP/SS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267080" y="5486400"/>
              <a:ext cx="838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7162920" y="586728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333399"/>
                </a:solidFill>
                <a:latin typeface="Univers"/>
              </a:rPr>
              <a:t>GICOM</a:t>
            </a:r>
            <a:endParaRPr b="0" lang="en-US" sz="3600" spc="-1" strike="noStrike">
              <a:solidFill>
                <a:srgbClr val="333399"/>
              </a:solidFill>
              <a:latin typeface="Univer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Univer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333399"/>
                </a:solidFill>
                <a:latin typeface="Univers"/>
              </a:rPr>
              <a:t>Le point de départ : eCOM (JavaEE)</a:t>
            </a:r>
            <a:endParaRPr b="0" lang="en-US" sz="3600" spc="-1" strike="noStrike">
              <a:solidFill>
                <a:srgbClr val="333399"/>
              </a:solidFill>
              <a:latin typeface="Univers"/>
            </a:endParaRPr>
          </a:p>
        </p:txBody>
      </p:sp>
      <p:sp>
        <p:nvSpPr>
          <p:cNvPr id="100" name=""/>
          <p:cNvSpPr/>
          <p:nvPr/>
        </p:nvSpPr>
        <p:spPr>
          <a:xfrm>
            <a:off x="4952880" y="2895480"/>
            <a:ext cx="1905120" cy="3810240"/>
          </a:xfrm>
          <a:prstGeom prst="rect">
            <a:avLst/>
          </a:prstGeom>
          <a:solidFill>
            <a:srgbClr val="99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EJB 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2743200" y="2895480"/>
            <a:ext cx="2438280" cy="3810240"/>
            <a:chOff x="2743200" y="2895480"/>
            <a:chExt cx="2438280" cy="3810240"/>
          </a:xfrm>
        </p:grpSpPr>
        <p:grpSp>
          <p:nvGrpSpPr>
            <p:cNvPr id="102" name=""/>
            <p:cNvGrpSpPr/>
            <p:nvPr/>
          </p:nvGrpSpPr>
          <p:grpSpPr>
            <a:xfrm>
              <a:off x="2743200" y="2895480"/>
              <a:ext cx="2438280" cy="3810240"/>
              <a:chOff x="2743200" y="2895480"/>
              <a:chExt cx="2438280" cy="3810240"/>
            </a:xfrm>
          </p:grpSpPr>
          <p:grpSp>
            <p:nvGrpSpPr>
              <p:cNvPr id="103" name=""/>
              <p:cNvGrpSpPr/>
              <p:nvPr/>
            </p:nvGrpSpPr>
            <p:grpSpPr>
              <a:xfrm>
                <a:off x="2743200" y="2895480"/>
                <a:ext cx="1752480" cy="3810240"/>
                <a:chOff x="2743200" y="2895480"/>
                <a:chExt cx="1752480" cy="3810240"/>
              </a:xfrm>
            </p:grpSpPr>
            <p:sp>
              <p:nvSpPr>
                <p:cNvPr id="104" name=""/>
                <p:cNvSpPr/>
                <p:nvPr/>
              </p:nvSpPr>
              <p:spPr>
                <a:xfrm>
                  <a:off x="2743200" y="2895480"/>
                  <a:ext cx="1752480" cy="3810240"/>
                </a:xfrm>
                <a:prstGeom prst="rect">
                  <a:avLst/>
                </a:prstGeom>
                <a:solidFill>
                  <a:srgbClr val="ffff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Arial Narrow"/>
                    </a:rPr>
                    <a:t>Web Server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2971800" y="3276720"/>
                  <a:ext cx="1371600" cy="99036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f00"/>
                </a:solidFill>
                <a:ln w="12600">
                  <a:solidFill>
                    <a:srgbClr val="000000"/>
                  </a:solidFill>
                  <a:miter/>
                </a:ln>
                <a:effectLst>
                  <a:outerShdw dist="107932" dir="2700000" blurRad="0" rotWithShape="0">
                    <a:srgbClr val="1c1c1c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 Narrow"/>
                    </a:rPr>
                    <a:t>Servlet/JSP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6" name=""/>
              <p:cNvSpPr/>
              <p:nvPr/>
            </p:nvSpPr>
            <p:spPr>
              <a:xfrm>
                <a:off x="4343400" y="3809880"/>
                <a:ext cx="8380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4267080" y="3824280"/>
              <a:ext cx="91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 Narrow"/>
                </a:rPr>
                <a:t>RM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" name=""/>
          <p:cNvSpPr/>
          <p:nvPr/>
        </p:nvSpPr>
        <p:spPr>
          <a:xfrm>
            <a:off x="5181480" y="4572000"/>
            <a:ext cx="1371600" cy="685800"/>
          </a:xfrm>
          <a:prstGeom prst="roundRect">
            <a:avLst>
              <a:gd name="adj" fmla="val 16667"/>
            </a:avLst>
          </a:prstGeom>
          <a:solidFill>
            <a:srgbClr val="66ff66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Ent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Be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533520" y="4267080"/>
            <a:ext cx="2286000" cy="1334160"/>
            <a:chOff x="533520" y="4267080"/>
            <a:chExt cx="2286000" cy="1334160"/>
          </a:xfrm>
        </p:grpSpPr>
        <p:sp>
          <p:nvSpPr>
            <p:cNvPr id="110" name=""/>
            <p:cNvSpPr/>
            <p:nvPr/>
          </p:nvSpPr>
          <p:spPr>
            <a:xfrm>
              <a:off x="1523880" y="4952880"/>
              <a:ext cx="1219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523880" y="4267080"/>
              <a:ext cx="1295640" cy="133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 Narrow"/>
                </a:rPr>
                <a:t>WML/WMLC/iM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 Narrow"/>
                </a:rPr>
                <a:t>WAP/UM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2" name="" descr=""/>
            <p:cNvPicPr/>
            <p:nvPr/>
          </p:nvPicPr>
          <p:blipFill>
            <a:blip r:embed="rId1"/>
            <a:stretch/>
          </p:blipFill>
          <p:spPr>
            <a:xfrm>
              <a:off x="533520" y="4419720"/>
              <a:ext cx="990360" cy="990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3" name=""/>
          <p:cNvGrpSpPr/>
          <p:nvPr/>
        </p:nvGrpSpPr>
        <p:grpSpPr>
          <a:xfrm>
            <a:off x="533520" y="2819520"/>
            <a:ext cx="2209680" cy="1371600"/>
            <a:chOff x="533520" y="2819520"/>
            <a:chExt cx="2209680" cy="1371600"/>
          </a:xfrm>
        </p:grpSpPr>
        <p:sp>
          <p:nvSpPr>
            <p:cNvPr id="114" name=""/>
            <p:cNvSpPr/>
            <p:nvPr/>
          </p:nvSpPr>
          <p:spPr>
            <a:xfrm>
              <a:off x="1523880" y="3124080"/>
              <a:ext cx="121932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 Narrow"/>
                </a:rPr>
                <a:t>HTML/XM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 Narrow"/>
                </a:rPr>
                <a:t>HTT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523880" y="3505320"/>
              <a:ext cx="1219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33520" y="3429000"/>
              <a:ext cx="91440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1c1c1c"/>
                  </a:solidFill>
                  <a:latin typeface="Arial"/>
                </a:rPr>
                <a:t>Didi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1c1c1c"/>
                  </a:solidFill>
                  <a:latin typeface="Arial"/>
                </a:rPr>
                <a:t>Donse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7" name="" descr=""/>
            <p:cNvPicPr/>
            <p:nvPr/>
          </p:nvPicPr>
          <p:blipFill>
            <a:blip r:embed="rId2"/>
            <a:stretch/>
          </p:blipFill>
          <p:spPr>
            <a:xfrm>
              <a:off x="711360" y="3048120"/>
              <a:ext cx="772920" cy="99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"/>
            <p:cNvSpPr/>
            <p:nvPr/>
          </p:nvSpPr>
          <p:spPr>
            <a:xfrm>
              <a:off x="685800" y="2819520"/>
              <a:ext cx="76212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ffffff"/>
                  </a:solidFill>
                  <a:latin typeface="Arial"/>
                </a:rPr>
                <a:t>Web</a:t>
              </a:r>
              <a:br>
                <a:rPr sz="1400"/>
              </a:br>
              <a:r>
                <a:rPr b="1" lang="fr-FR" sz="1400" spc="-1" strike="noStrike">
                  <a:solidFill>
                    <a:srgbClr val="ffffff"/>
                  </a:solidFill>
                  <a:latin typeface="Arial"/>
                </a:rPr>
                <a:t>Brows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971800" y="3962160"/>
            <a:ext cx="2209680" cy="2514960"/>
            <a:chOff x="2971800" y="3962160"/>
            <a:chExt cx="2209680" cy="2514960"/>
          </a:xfrm>
        </p:grpSpPr>
        <p:sp>
          <p:nvSpPr>
            <p:cNvPr id="120" name=""/>
            <p:cNvSpPr/>
            <p:nvPr/>
          </p:nvSpPr>
          <p:spPr>
            <a:xfrm>
              <a:off x="2971800" y="5486400"/>
              <a:ext cx="1371600" cy="99072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1c1c1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</a:rPr>
                <a:t>SOAP Engin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>
              <a:off x="4343400" y="3962160"/>
              <a:ext cx="838080" cy="2057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6553080" y="4191120"/>
            <a:ext cx="2286000" cy="1218960"/>
            <a:chOff x="6553080" y="4191120"/>
            <a:chExt cx="2286000" cy="1218960"/>
          </a:xfrm>
        </p:grpSpPr>
        <p:sp>
          <p:nvSpPr>
            <p:cNvPr id="123" name=""/>
            <p:cNvSpPr/>
            <p:nvPr/>
          </p:nvSpPr>
          <p:spPr>
            <a:xfrm>
              <a:off x="7391520" y="4191120"/>
              <a:ext cx="1447560" cy="1218960"/>
            </a:xfrm>
            <a:prstGeom prst="rect">
              <a:avLst/>
            </a:prstGeom>
            <a:solidFill>
              <a:srgbClr val="ff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RDBM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620120" y="4648320"/>
              <a:ext cx="1066680" cy="609480"/>
            </a:xfrm>
            <a:prstGeom prst="can">
              <a:avLst>
                <a:gd name="adj" fmla="val 25000"/>
              </a:avLst>
            </a:prstGeom>
            <a:solidFill>
              <a:srgbClr val="ff7c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</a:rPr>
                <a:t>DataSour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553080" y="495288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629400" y="4572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 Narrow"/>
                </a:rPr>
                <a:t>JDB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762120" y="5638680"/>
            <a:ext cx="1981080" cy="1067040"/>
            <a:chOff x="762120" y="5638680"/>
            <a:chExt cx="1981080" cy="1067040"/>
          </a:xfrm>
        </p:grpSpPr>
        <p:sp>
          <p:nvSpPr>
            <p:cNvPr id="128" name=""/>
            <p:cNvSpPr/>
            <p:nvPr/>
          </p:nvSpPr>
          <p:spPr>
            <a:xfrm>
              <a:off x="840600" y="6172200"/>
              <a:ext cx="6364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ffffff"/>
                  </a:solidFill>
                  <a:latin typeface="Times New Roman"/>
                </a:rPr>
                <a:t>Didi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ffffff"/>
                  </a:solidFill>
                  <a:latin typeface="Times New Roman"/>
                </a:rPr>
                <a:t>Donse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523880" y="5718240"/>
              <a:ext cx="1219320" cy="66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Arial Narrow"/>
                </a:rPr>
                <a:t>SOA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 Narrow"/>
                </a:rPr>
                <a:t>HTTP/SMT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523880" y="6099120"/>
              <a:ext cx="1219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62120" y="5638680"/>
              <a:ext cx="761760" cy="1067040"/>
            </a:xfrm>
            <a:prstGeom prst="rect">
              <a:avLst/>
            </a:prstGeom>
            <a:solidFill>
              <a:srgbClr val="ddddd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990720" y="5715000"/>
              <a:ext cx="457200" cy="152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295280" y="5791320"/>
              <a:ext cx="76320" cy="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990720" y="5867280"/>
              <a:ext cx="457200" cy="152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295280" y="5943600"/>
              <a:ext cx="76320" cy="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990720" y="6019920"/>
              <a:ext cx="457200" cy="152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295280" y="6095880"/>
              <a:ext cx="76320" cy="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62120" y="6248520"/>
              <a:ext cx="7617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ffffff"/>
                  </a:solidFill>
                  <a:latin typeface="Arial"/>
                </a:rPr>
                <a:t>EI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6553080" y="2819520"/>
            <a:ext cx="2286000" cy="2133360"/>
            <a:chOff x="6553080" y="2819520"/>
            <a:chExt cx="2286000" cy="2133360"/>
          </a:xfrm>
        </p:grpSpPr>
        <p:sp>
          <p:nvSpPr>
            <p:cNvPr id="140" name=""/>
            <p:cNvSpPr/>
            <p:nvPr/>
          </p:nvSpPr>
          <p:spPr>
            <a:xfrm>
              <a:off x="7391520" y="2819520"/>
              <a:ext cx="1447560" cy="1218960"/>
            </a:xfrm>
            <a:prstGeom prst="rect">
              <a:avLst/>
            </a:prstGeom>
            <a:solidFill>
              <a:srgbClr val="ff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ER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620120" y="3276720"/>
              <a:ext cx="1066680" cy="609480"/>
            </a:xfrm>
            <a:prstGeom prst="can">
              <a:avLst>
                <a:gd name="adj" fmla="val 25000"/>
              </a:avLst>
            </a:prstGeom>
            <a:solidFill>
              <a:srgbClr val="ff7c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</a:rPr>
                <a:t>DataSour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 flipV="1">
              <a:off x="6553080" y="3733920"/>
              <a:ext cx="838440" cy="1218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629400" y="35053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 Narrow"/>
                </a:rPr>
                <a:t>J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4" name=""/>
          <p:cNvSpPr/>
          <p:nvPr/>
        </p:nvSpPr>
        <p:spPr>
          <a:xfrm>
            <a:off x="5181480" y="3429000"/>
            <a:ext cx="1371600" cy="685800"/>
          </a:xfrm>
          <a:prstGeom prst="roundRect">
            <a:avLst>
              <a:gd name="adj" fmla="val 16667"/>
            </a:avLst>
          </a:prstGeom>
          <a:solidFill>
            <a:srgbClr val="66ff66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S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Be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791320" y="41148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5181480" y="5334120"/>
            <a:ext cx="2362320" cy="1143000"/>
            <a:chOff x="5181480" y="5334120"/>
            <a:chExt cx="2362320" cy="1143000"/>
          </a:xfrm>
        </p:grpSpPr>
        <p:sp>
          <p:nvSpPr>
            <p:cNvPr id="147" name=""/>
            <p:cNvSpPr/>
            <p:nvPr/>
          </p:nvSpPr>
          <p:spPr>
            <a:xfrm>
              <a:off x="5181480" y="5791320"/>
              <a:ext cx="1371600" cy="685800"/>
            </a:xfrm>
            <a:prstGeom prst="roundRect">
              <a:avLst>
                <a:gd name="adj" fmla="val 16667"/>
              </a:avLst>
            </a:prstGeom>
            <a:solidFill>
              <a:srgbClr val="66ff66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1c1c1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</a:rPr>
                <a:t>MsgDriven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</a:rPr>
                <a:t>Bea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H="1">
              <a:off x="6552720" y="609588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flipV="1">
              <a:off x="5791320" y="53341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629400" y="5715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 Narrow"/>
                </a:rPr>
                <a:t>J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5943600" y="4114800"/>
            <a:ext cx="2895480" cy="2590920"/>
            <a:chOff x="5943600" y="4114800"/>
            <a:chExt cx="2895480" cy="2590920"/>
          </a:xfrm>
        </p:grpSpPr>
        <p:sp>
          <p:nvSpPr>
            <p:cNvPr id="152" name=""/>
            <p:cNvSpPr/>
            <p:nvPr/>
          </p:nvSpPr>
          <p:spPr>
            <a:xfrm>
              <a:off x="5943600" y="4114800"/>
              <a:ext cx="1447920" cy="1676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391520" y="5486400"/>
              <a:ext cx="1447560" cy="121932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</a:rPr>
                <a:t>JMS MO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620120" y="5943600"/>
              <a:ext cx="1066680" cy="609480"/>
            </a:xfrm>
            <a:prstGeom prst="can">
              <a:avLst>
                <a:gd name="adj" fmla="val 25000"/>
              </a:avLst>
            </a:prstGeom>
            <a:solidFill>
              <a:srgbClr val="66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</a:rPr>
                <a:t>Message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</a:rPr>
                <a:t>Repositor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400800" y="53341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 Narrow"/>
                </a:rPr>
                <a:t>J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533520" y="1371600"/>
            <a:ext cx="4647960" cy="2209680"/>
            <a:chOff x="533520" y="1371600"/>
            <a:chExt cx="4647960" cy="2209680"/>
          </a:xfrm>
        </p:grpSpPr>
        <p:sp>
          <p:nvSpPr>
            <p:cNvPr id="157" name=""/>
            <p:cNvSpPr/>
            <p:nvPr/>
          </p:nvSpPr>
          <p:spPr>
            <a:xfrm>
              <a:off x="685800" y="1371600"/>
              <a:ext cx="76212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ffffff"/>
                  </a:solidFill>
                  <a:latin typeface="Arial"/>
                </a:rPr>
                <a:t>Java</a:t>
              </a:r>
              <a:br>
                <a:rPr sz="1400"/>
              </a:br>
              <a:r>
                <a:rPr b="1" lang="fr-FR" sz="1400" spc="-1" strike="noStrike">
                  <a:solidFill>
                    <a:srgbClr val="ffffff"/>
                  </a:solidFill>
                  <a:latin typeface="Arial"/>
                </a:rPr>
                <a:t>App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523880" y="167652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 Narrow"/>
                </a:rPr>
                <a:t>RM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523880" y="2057400"/>
              <a:ext cx="2971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33520" y="1981080"/>
              <a:ext cx="91440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1c1c1c"/>
                  </a:solidFill>
                  <a:latin typeface="Arial"/>
                </a:rPr>
                <a:t>Didi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1c1c1c"/>
                  </a:solidFill>
                  <a:latin typeface="Arial"/>
                </a:rPr>
                <a:t>Donse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61" name="" descr=""/>
            <p:cNvPicPr/>
            <p:nvPr/>
          </p:nvPicPr>
          <p:blipFill>
            <a:blip r:embed="rId3"/>
            <a:stretch/>
          </p:blipFill>
          <p:spPr>
            <a:xfrm>
              <a:off x="711360" y="1600200"/>
              <a:ext cx="772920" cy="99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4495680" y="2057400"/>
              <a:ext cx="685800" cy="1523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85800" y="1371600"/>
              <a:ext cx="76212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ffffff"/>
                  </a:solidFill>
                  <a:latin typeface="Arial"/>
                </a:rPr>
                <a:t>Java</a:t>
              </a:r>
              <a:br>
                <a:rPr sz="1400"/>
              </a:br>
              <a:r>
                <a:rPr b="1" lang="fr-FR" sz="1400" spc="-1" strike="noStrike">
                  <a:solidFill>
                    <a:srgbClr val="ffffff"/>
                  </a:solidFill>
                  <a:latin typeface="Arial"/>
                </a:rPr>
                <a:t>ap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380880" y="1447920"/>
            <a:ext cx="8610840" cy="4038480"/>
            <a:chOff x="380880" y="1447920"/>
            <a:chExt cx="8610840" cy="4038480"/>
          </a:xfrm>
        </p:grpSpPr>
        <p:sp>
          <p:nvSpPr>
            <p:cNvPr id="165" name=""/>
            <p:cNvSpPr/>
            <p:nvPr/>
          </p:nvSpPr>
          <p:spPr>
            <a:xfrm>
              <a:off x="5181480" y="1523880"/>
              <a:ext cx="1752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3200" spc="-1" strike="noStrike">
                  <a:solidFill>
                    <a:srgbClr val="ff3300"/>
                  </a:solidFill>
                  <a:latin typeface="Comic Sans MS"/>
                </a:rPr>
                <a:t>ECOM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80880" y="1447920"/>
              <a:ext cx="8610840" cy="4038480"/>
            </a:xfrm>
            <a:custGeom>
              <a:avLst/>
              <a:gdLst/>
              <a:ahLst/>
              <a:rect l="l" t="t" r="r" b="b"/>
              <a:pathLst>
                <a:path w="5424" h="2544">
                  <a:moveTo>
                    <a:pt x="0" y="0"/>
                  </a:moveTo>
                  <a:lnTo>
                    <a:pt x="4176" y="0"/>
                  </a:lnTo>
                  <a:lnTo>
                    <a:pt x="4176" y="1680"/>
                  </a:lnTo>
                  <a:lnTo>
                    <a:pt x="5424" y="1680"/>
                  </a:lnTo>
                  <a:lnTo>
                    <a:pt x="5424" y="2544"/>
                  </a:lnTo>
                  <a:lnTo>
                    <a:pt x="2736" y="2544"/>
                  </a:lnTo>
                  <a:lnTo>
                    <a:pt x="2736" y="1920"/>
                  </a:lnTo>
                  <a:lnTo>
                    <a:pt x="0" y="192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57240">
              <a:solidFill>
                <a:srgbClr val="ff33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"/>
          <p:cNvGrpSpPr/>
          <p:nvPr/>
        </p:nvGrpSpPr>
        <p:grpSpPr>
          <a:xfrm>
            <a:off x="669960" y="1446120"/>
            <a:ext cx="860400" cy="1122120"/>
            <a:chOff x="669960" y="1446120"/>
            <a:chExt cx="860400" cy="1122120"/>
          </a:xfrm>
        </p:grpSpPr>
        <p:sp>
          <p:nvSpPr>
            <p:cNvPr id="168" name=""/>
            <p:cNvSpPr/>
            <p:nvPr/>
          </p:nvSpPr>
          <p:spPr>
            <a:xfrm>
              <a:off x="669960" y="1446120"/>
              <a:ext cx="860400" cy="68796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69960" y="2206440"/>
              <a:ext cx="860400" cy="2534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56800" y="2134080"/>
              <a:ext cx="486360" cy="7236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669960" y="2459160"/>
              <a:ext cx="860400" cy="72360"/>
            </a:xfrm>
            <a:custGeom>
              <a:avLst/>
              <a:gdLst>
                <a:gd name="textAreaLeft" fmla="*/ 189000 w 860400"/>
                <a:gd name="textAreaRight" fmla="*/ 671400 w 860400"/>
                <a:gd name="textAreaTop" fmla="*/ 15840 h 72360"/>
                <a:gd name="textAreaBottom" fmla="*/ 56520 h 72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69960" y="2532240"/>
              <a:ext cx="860400" cy="36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193760" y="2242800"/>
              <a:ext cx="261720" cy="10836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231200" y="2278800"/>
              <a:ext cx="186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07400" y="1518480"/>
              <a:ext cx="785520" cy="5428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 Narrow"/>
                </a:rPr>
                <a:t>Web</a:t>
              </a:r>
              <a:br>
                <a:rPr sz="1200"/>
              </a:br>
              <a:r>
                <a:rPr b="1" lang="fr-FR" sz="1200" spc="-1" strike="noStrike">
                  <a:solidFill>
                    <a:srgbClr val="000000"/>
                  </a:solidFill>
                  <a:latin typeface="Arial Narrow"/>
                </a:rPr>
                <a:t>Brows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525600" y="4952880"/>
            <a:ext cx="860400" cy="1120680"/>
            <a:chOff x="525600" y="4952880"/>
            <a:chExt cx="860400" cy="1120680"/>
          </a:xfrm>
        </p:grpSpPr>
        <p:sp>
          <p:nvSpPr>
            <p:cNvPr id="177" name=""/>
            <p:cNvSpPr/>
            <p:nvPr/>
          </p:nvSpPr>
          <p:spPr>
            <a:xfrm>
              <a:off x="525600" y="4952880"/>
              <a:ext cx="860400" cy="6868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25600" y="5712120"/>
              <a:ext cx="860400" cy="2530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12440" y="5639760"/>
              <a:ext cx="486360" cy="72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525600" y="5965560"/>
              <a:ext cx="860400" cy="72000"/>
            </a:xfrm>
            <a:custGeom>
              <a:avLst/>
              <a:gdLst>
                <a:gd name="textAreaLeft" fmla="*/ 189000 w 860400"/>
                <a:gd name="textAreaRight" fmla="*/ 671400 w 860400"/>
                <a:gd name="textAreaTop" fmla="*/ 15840 h 72000"/>
                <a:gd name="textAreaBottom" fmla="*/ 56160 h 7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25600" y="6037560"/>
              <a:ext cx="860400" cy="36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049400" y="5748480"/>
              <a:ext cx="261720" cy="10836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086840" y="5784480"/>
              <a:ext cx="186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63040" y="5024880"/>
              <a:ext cx="785520" cy="5421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 Narrow"/>
                </a:rPr>
                <a:t>Standalone</a:t>
              </a:r>
              <a:br>
                <a:rPr sz="1200"/>
              </a:br>
              <a:r>
                <a:rPr b="1" lang="fr-FR" sz="1200" spc="-1" strike="noStrike">
                  <a:solidFill>
                    <a:srgbClr val="000000"/>
                  </a:solidFill>
                  <a:latin typeface="Arial Narrow"/>
                </a:rPr>
                <a:t>Applic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939960" y="2708280"/>
            <a:ext cx="453960" cy="1191960"/>
            <a:chOff x="939960" y="2708280"/>
            <a:chExt cx="453960" cy="1191960"/>
          </a:xfrm>
        </p:grpSpPr>
        <p:sp>
          <p:nvSpPr>
            <p:cNvPr id="186" name=""/>
            <p:cNvSpPr/>
            <p:nvPr/>
          </p:nvSpPr>
          <p:spPr>
            <a:xfrm>
              <a:off x="939960" y="2708280"/>
              <a:ext cx="64800" cy="313560"/>
            </a:xfrm>
            <a:custGeom>
              <a:avLst/>
              <a:gdLst>
                <a:gd name="textAreaLeft" fmla="*/ 2880 w 64800"/>
                <a:gd name="textAreaRight" fmla="*/ 61920 w 64800"/>
                <a:gd name="textAreaTop" fmla="*/ 2880 h 313560"/>
                <a:gd name="textAreaBottom" fmla="*/ 310680 h 313560"/>
              </a:gdLst>
              <a:ahLst/>
              <a:rect l="textAreaLeft" t="textAreaTop" r="textAreaRight" b="textAreaBottom"/>
              <a:pathLst>
                <a:path w="21600" h="104062">
                  <a:moveTo>
                    <a:pt x="3600" y="0"/>
                  </a:moveTo>
                  <a:arcTo wR="3600" hR="3600" stAng="16200000" swAng="-5400000"/>
                  <a:lnTo>
                    <a:pt x="0" y="100462"/>
                  </a:lnTo>
                  <a:arcTo wR="3600" hR="3600" stAng="10800000" swAng="-5400000"/>
                  <a:lnTo>
                    <a:pt x="18000" y="10406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939960" y="2896200"/>
              <a:ext cx="453960" cy="1004040"/>
            </a:xfrm>
            <a:custGeom>
              <a:avLst/>
              <a:gdLst>
                <a:gd name="textAreaLeft" fmla="*/ 21960 w 453960"/>
                <a:gd name="textAreaRight" fmla="*/ 432000 w 453960"/>
                <a:gd name="textAreaTop" fmla="*/ 21960 h 1004040"/>
                <a:gd name="textAreaBottom" fmla="*/ 982080 h 1004040"/>
              </a:gdLst>
              <a:ahLst/>
              <a:rect l="textAreaLeft" t="textAreaTop" r="textAreaRight" b="textAreaBottom"/>
              <a:pathLst>
                <a:path w="21600" h="47753">
                  <a:moveTo>
                    <a:pt x="3600" y="0"/>
                  </a:moveTo>
                  <a:arcTo wR="3600" hR="3600" stAng="16200000" swAng="-5400000"/>
                  <a:lnTo>
                    <a:pt x="0" y="44153"/>
                  </a:lnTo>
                  <a:arcTo wR="3600" hR="3600" stAng="10800000" swAng="-5400000"/>
                  <a:lnTo>
                    <a:pt x="18000" y="477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004760" y="2959200"/>
              <a:ext cx="324000" cy="376200"/>
            </a:xfrm>
            <a:prstGeom prst="rect">
              <a:avLst/>
            </a:prstGeom>
            <a:solidFill>
              <a:srgbClr val="1c1c1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800" spc="-1" strike="noStrike">
                  <a:solidFill>
                    <a:srgbClr val="000000"/>
                  </a:solidFill>
                  <a:latin typeface="Arial Narrow"/>
                </a:rPr>
                <a:t>Mobile</a:t>
              </a:r>
              <a:br>
                <a:rPr sz="800"/>
              </a:br>
              <a:r>
                <a:rPr b="1" lang="fr-FR" sz="800" spc="-1" strike="noStrike">
                  <a:solidFill>
                    <a:srgbClr val="000000"/>
                  </a:solidFill>
                  <a:latin typeface="Arial Narrow"/>
                </a:rPr>
                <a:t>Phon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069200" y="3398400"/>
              <a:ext cx="64800" cy="62640"/>
            </a:xfrm>
            <a:prstGeom prst="rect">
              <a:avLst/>
            </a:prstGeom>
            <a:solidFill>
              <a:srgbClr val="1c1c1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199160" y="3398400"/>
              <a:ext cx="64440" cy="62640"/>
            </a:xfrm>
            <a:prstGeom prst="rect">
              <a:avLst/>
            </a:prstGeom>
            <a:solidFill>
              <a:srgbClr val="1c1c1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263960" y="3524040"/>
              <a:ext cx="64800" cy="62280"/>
            </a:xfrm>
            <a:prstGeom prst="rect">
              <a:avLst/>
            </a:prstGeom>
            <a:solidFill>
              <a:srgbClr val="1c1c1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480" bIns="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134360" y="3524040"/>
              <a:ext cx="64800" cy="62280"/>
            </a:xfrm>
            <a:prstGeom prst="rect">
              <a:avLst/>
            </a:prstGeom>
            <a:solidFill>
              <a:srgbClr val="1c1c1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480" bIns="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004760" y="3524040"/>
              <a:ext cx="64440" cy="62280"/>
            </a:xfrm>
            <a:prstGeom prst="rect">
              <a:avLst/>
            </a:prstGeom>
            <a:solidFill>
              <a:srgbClr val="1c1c1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480" bIns="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263960" y="3649320"/>
              <a:ext cx="64800" cy="62640"/>
            </a:xfrm>
            <a:prstGeom prst="rect">
              <a:avLst/>
            </a:prstGeom>
            <a:solidFill>
              <a:srgbClr val="1c1c1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134360" y="3649320"/>
              <a:ext cx="64800" cy="62640"/>
            </a:xfrm>
            <a:prstGeom prst="rect">
              <a:avLst/>
            </a:prstGeom>
            <a:solidFill>
              <a:srgbClr val="1c1c1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004760" y="3649320"/>
              <a:ext cx="64440" cy="62640"/>
            </a:xfrm>
            <a:prstGeom prst="rect">
              <a:avLst/>
            </a:prstGeom>
            <a:solidFill>
              <a:srgbClr val="1c1c1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263960" y="3774960"/>
              <a:ext cx="64800" cy="62640"/>
            </a:xfrm>
            <a:prstGeom prst="rect">
              <a:avLst/>
            </a:prstGeom>
            <a:solidFill>
              <a:srgbClr val="1c1c1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134360" y="3774960"/>
              <a:ext cx="64800" cy="62640"/>
            </a:xfrm>
            <a:prstGeom prst="rect">
              <a:avLst/>
            </a:prstGeom>
            <a:solidFill>
              <a:srgbClr val="1c1c1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004760" y="3774960"/>
              <a:ext cx="64440" cy="62640"/>
            </a:xfrm>
            <a:prstGeom prst="rect">
              <a:avLst/>
            </a:prstGeom>
            <a:solidFill>
              <a:srgbClr val="1c1c1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0" name=""/>
          <p:cNvSpPr/>
          <p:nvPr/>
        </p:nvSpPr>
        <p:spPr>
          <a:xfrm>
            <a:off x="2625840" y="1446120"/>
            <a:ext cx="3111480" cy="2524320"/>
          </a:xfrm>
          <a:prstGeom prst="cube">
            <a:avLst>
              <a:gd name="adj" fmla="val 8333"/>
            </a:avLst>
          </a:prstGeom>
          <a:solidFill>
            <a:srgbClr val="91ff9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Serveur J2EE e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23080" y="1515960"/>
            <a:ext cx="1809720" cy="771480"/>
          </a:xfrm>
          <a:prstGeom prst="cube">
            <a:avLst>
              <a:gd name="adj" fmla="val 8333"/>
            </a:avLst>
          </a:prstGeom>
          <a:solidFill>
            <a:srgbClr val="83d0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 Narrow"/>
              </a:rPr>
              <a:t>Serveur W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 Narrow"/>
              </a:rPr>
              <a:t>Fournisseur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823080" y="2428920"/>
            <a:ext cx="1809720" cy="770040"/>
          </a:xfrm>
          <a:prstGeom prst="cube">
            <a:avLst>
              <a:gd name="adj" fmla="val 8333"/>
            </a:avLst>
          </a:prstGeom>
          <a:solidFill>
            <a:srgbClr val="83d0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 Narrow"/>
              </a:rPr>
              <a:t>Serveur W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 Narrow"/>
              </a:rPr>
              <a:t>Fournisseur 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737320" y="1936800"/>
            <a:ext cx="1085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737320" y="2847960"/>
            <a:ext cx="108576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770200" y="2077920"/>
            <a:ext cx="795240" cy="1683000"/>
          </a:xfrm>
          <a:prstGeom prst="rect">
            <a:avLst/>
          </a:prstGeom>
          <a:solidFill>
            <a:srgbClr val="35ff3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 Narrow"/>
              </a:rPr>
              <a:t>JSP/</a:t>
            </a:r>
            <a:br>
              <a:rPr sz="1600"/>
            </a:br>
            <a:r>
              <a:rPr b="1" lang="fr-FR" sz="1600" spc="-1" strike="noStrike">
                <a:solidFill>
                  <a:srgbClr val="000000"/>
                </a:solidFill>
                <a:latin typeface="Arial Narrow"/>
              </a:rPr>
              <a:t>Servl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11600" y="2077920"/>
            <a:ext cx="795240" cy="1683000"/>
          </a:xfrm>
          <a:prstGeom prst="rect">
            <a:avLst/>
          </a:prstGeom>
          <a:solidFill>
            <a:srgbClr val="35ff3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 Narrow"/>
              </a:rPr>
              <a:t>EJ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51200" y="2568600"/>
            <a:ext cx="797040" cy="841320"/>
          </a:xfrm>
          <a:prstGeom prst="can">
            <a:avLst>
              <a:gd name="adj" fmla="val 12717"/>
            </a:avLst>
          </a:prstGeom>
          <a:solidFill>
            <a:srgbClr val="35ff3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 Narrow"/>
              </a:rPr>
              <a:t>BD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539720" y="2008080"/>
            <a:ext cx="1086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93920" y="3409920"/>
            <a:ext cx="1231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823080" y="3340080"/>
            <a:ext cx="1809720" cy="771480"/>
          </a:xfrm>
          <a:prstGeom prst="cube">
            <a:avLst>
              <a:gd name="adj" fmla="val 8333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 Narrow"/>
              </a:rPr>
              <a:t>Serveur W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 Narrow"/>
              </a:rPr>
              <a:t>Parité Devi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737320" y="3759120"/>
            <a:ext cx="108576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23080" y="604800"/>
            <a:ext cx="1809720" cy="841320"/>
          </a:xfrm>
          <a:prstGeom prst="cube">
            <a:avLst>
              <a:gd name="adj" fmla="val 8333"/>
            </a:avLst>
          </a:prstGeom>
          <a:solidFill>
            <a:srgbClr val="83d0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 Narrow"/>
              </a:rPr>
              <a:t>Annuaire UDDI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Arial Narrow"/>
              </a:rPr>
              <a:t>Fournisseu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552760" y="4390920"/>
            <a:ext cx="1809720" cy="771480"/>
          </a:xfrm>
          <a:prstGeom prst="cube">
            <a:avLst>
              <a:gd name="adj" fmla="val 8333"/>
            </a:avLst>
          </a:prstGeom>
          <a:solidFill>
            <a:srgbClr val="ffaba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 Narrow"/>
              </a:rPr>
              <a:t>Serveur CORB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 Narrow"/>
              </a:rPr>
              <a:t>Banque B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257960" y="5022720"/>
            <a:ext cx="1665360" cy="771480"/>
          </a:xfrm>
          <a:prstGeom prst="cube">
            <a:avLst>
              <a:gd name="adj" fmla="val 8333"/>
            </a:avLst>
          </a:prstGeom>
          <a:solidFill>
            <a:srgbClr val="ffaba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 Narrow"/>
              </a:rPr>
              <a:t>Annuaire CORBA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Arial Narrow"/>
              </a:rPr>
              <a:t>des Banq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52760" y="5443560"/>
            <a:ext cx="2027160" cy="841320"/>
          </a:xfrm>
          <a:prstGeom prst="cube">
            <a:avLst>
              <a:gd name="adj" fmla="val 8333"/>
            </a:avLst>
          </a:prstGeom>
          <a:solidFill>
            <a:srgbClr val="ffaba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 Narrow"/>
              </a:rPr>
              <a:t>Serveur CORB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 Narrow"/>
              </a:rPr>
              <a:t>Agence A1 de B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190600" y="5794200"/>
            <a:ext cx="2027520" cy="841680"/>
          </a:xfrm>
          <a:prstGeom prst="cube">
            <a:avLst>
              <a:gd name="adj" fmla="val 8333"/>
            </a:avLst>
          </a:prstGeom>
          <a:solidFill>
            <a:srgbClr val="ffaba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 Narrow"/>
              </a:rPr>
              <a:t>Serveur CORB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 Narrow"/>
              </a:rPr>
              <a:t>Agence A11 de B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86440" y="4390920"/>
            <a:ext cx="1809720" cy="771480"/>
          </a:xfrm>
          <a:prstGeom prst="cube">
            <a:avLst>
              <a:gd name="adj" fmla="val 8333"/>
            </a:avLst>
          </a:prstGeom>
          <a:solidFill>
            <a:srgbClr val="ffaba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 Narrow"/>
              </a:rPr>
              <a:t>Serveur CORB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 Narrow"/>
              </a:rPr>
              <a:t>Banque B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086440" y="5443560"/>
            <a:ext cx="2027160" cy="841320"/>
          </a:xfrm>
          <a:prstGeom prst="cube">
            <a:avLst>
              <a:gd name="adj" fmla="val 8333"/>
            </a:avLst>
          </a:prstGeom>
          <a:solidFill>
            <a:srgbClr val="ffaba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 Narrow"/>
              </a:rPr>
              <a:t>Serveur CORB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 Narrow"/>
              </a:rPr>
              <a:t>Agence A1 de B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724280" y="5794200"/>
            <a:ext cx="2027520" cy="841680"/>
          </a:xfrm>
          <a:prstGeom prst="cube">
            <a:avLst>
              <a:gd name="adj" fmla="val 8333"/>
            </a:avLst>
          </a:prstGeom>
          <a:solidFill>
            <a:srgbClr val="ffaba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 Narrow"/>
              </a:rPr>
              <a:t>Serveur CORB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 Narrow"/>
              </a:rPr>
              <a:t>Agence A21 de B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638520" y="3968640"/>
            <a:ext cx="0" cy="42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435560" y="3970440"/>
            <a:ext cx="0" cy="1473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375160" y="3970440"/>
            <a:ext cx="0" cy="42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941720" y="3971880"/>
            <a:ext cx="0" cy="182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1393920" y="4741560"/>
            <a:ext cx="1158840" cy="56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393920" y="5443560"/>
            <a:ext cx="796680" cy="560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80880" y="4251240"/>
            <a:ext cx="8686800" cy="24544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678720" y="534960"/>
            <a:ext cx="2027160" cy="2735280"/>
          </a:xfrm>
          <a:prstGeom prst="rect">
            <a:avLst/>
          </a:prstGeom>
          <a:noFill/>
          <a:ln w="38160">
            <a:solidFill>
              <a:srgbClr val="ffcf01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25600" y="1236600"/>
            <a:ext cx="5357520" cy="2805120"/>
          </a:xfrm>
          <a:prstGeom prst="rect">
            <a:avLst/>
          </a:prstGeom>
          <a:noFill/>
          <a:ln w="38160">
            <a:solidFill>
              <a:srgbClr val="00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467000" y="5246640"/>
            <a:ext cx="79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 Narrow"/>
              </a:rPr>
              <a:t>IIO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289400" y="3970440"/>
            <a:ext cx="7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 Narrow"/>
              </a:rPr>
              <a:t>IIO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954760" y="3479760"/>
            <a:ext cx="79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 Narrow"/>
              </a:rPr>
              <a:t>SOAP</a:t>
            </a:r>
            <a:br>
              <a:rPr sz="1600"/>
            </a:br>
            <a:r>
              <a:rPr b="1" lang="fr-FR" sz="1600" spc="-1" strike="noStrike">
                <a:solidFill>
                  <a:srgbClr val="000000"/>
                </a:solidFill>
                <a:latin typeface="Arial Narrow"/>
              </a:rPr>
              <a:t>HTT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883120" y="1627200"/>
            <a:ext cx="795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 Narrow"/>
              </a:rPr>
              <a:t>SOAP</a:t>
            </a:r>
            <a:br>
              <a:rPr sz="1600"/>
            </a:br>
            <a:r>
              <a:rPr b="1" lang="fr-FR" sz="1600" spc="-1" strike="noStrike">
                <a:solidFill>
                  <a:srgbClr val="000000"/>
                </a:solidFill>
                <a:latin typeface="Arial Narrow"/>
              </a:rPr>
              <a:t>HTT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684440" y="1727280"/>
            <a:ext cx="795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 Narrow"/>
              </a:rPr>
              <a:t>HTML</a:t>
            </a:r>
            <a:br>
              <a:rPr sz="1600"/>
            </a:br>
            <a:r>
              <a:rPr b="1" lang="fr-FR" sz="1600" spc="-1" strike="noStrike">
                <a:solidFill>
                  <a:srgbClr val="000000"/>
                </a:solidFill>
                <a:latin typeface="Arial Narrow"/>
              </a:rPr>
              <a:t>HTT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611360" y="2849400"/>
            <a:ext cx="79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 Narrow"/>
              </a:rPr>
              <a:t>cHTML</a:t>
            </a:r>
            <a:br>
              <a:rPr sz="1600"/>
            </a:br>
            <a:r>
              <a:rPr b="1" lang="fr-FR" sz="1600" spc="-1" strike="noStrike">
                <a:solidFill>
                  <a:srgbClr val="000000"/>
                </a:solidFill>
                <a:latin typeface="Arial Narrow"/>
              </a:rPr>
              <a:t>HTT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611360" y="3381480"/>
            <a:ext cx="79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 Narrow"/>
              </a:rPr>
              <a:t>WML</a:t>
            </a:r>
            <a:br>
              <a:rPr sz="1600"/>
            </a:br>
            <a:r>
              <a:rPr b="1" lang="fr-FR" sz="1600" spc="-1" strike="noStrike">
                <a:solidFill>
                  <a:srgbClr val="000000"/>
                </a:solidFill>
                <a:latin typeface="Arial Narrow"/>
              </a:rPr>
              <a:t>W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883120" y="2540160"/>
            <a:ext cx="795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 Narrow"/>
              </a:rPr>
              <a:t>SOAP</a:t>
            </a:r>
            <a:br>
              <a:rPr sz="1600"/>
            </a:br>
            <a:r>
              <a:rPr b="1" lang="fr-FR" sz="1600" spc="-1" strike="noStrike">
                <a:solidFill>
                  <a:srgbClr val="000000"/>
                </a:solidFill>
                <a:latin typeface="Arial Narrow"/>
              </a:rPr>
              <a:t>J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333399"/>
                </a:solidFill>
                <a:latin typeface="Univers"/>
              </a:rPr>
              <a:t>Architecture globale de GICOM</a:t>
            </a:r>
            <a:endParaRPr b="0" lang="en-US" sz="3600" spc="-1" strike="noStrike">
              <a:solidFill>
                <a:srgbClr val="333399"/>
              </a:solidFill>
              <a:latin typeface="Univers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4211640" y="7174080"/>
            <a:ext cx="860400" cy="1120320"/>
            <a:chOff x="4211640" y="7174080"/>
            <a:chExt cx="860400" cy="1120320"/>
          </a:xfrm>
        </p:grpSpPr>
        <p:sp>
          <p:nvSpPr>
            <p:cNvPr id="239" name=""/>
            <p:cNvSpPr/>
            <p:nvPr/>
          </p:nvSpPr>
          <p:spPr>
            <a:xfrm>
              <a:off x="4211640" y="7174080"/>
              <a:ext cx="860400" cy="6868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211640" y="7933320"/>
              <a:ext cx="860400" cy="2530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398480" y="7860960"/>
              <a:ext cx="486360" cy="72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flipV="1">
              <a:off x="4211640" y="8186400"/>
              <a:ext cx="860400" cy="72000"/>
            </a:xfrm>
            <a:custGeom>
              <a:avLst/>
              <a:gdLst>
                <a:gd name="textAreaLeft" fmla="*/ 189000 w 860400"/>
                <a:gd name="textAreaRight" fmla="*/ 671400 w 860400"/>
                <a:gd name="textAreaTop" fmla="*/ 15840 h 72000"/>
                <a:gd name="textAreaBottom" fmla="*/ 56160 h 7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211640" y="8258400"/>
              <a:ext cx="860400" cy="36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735440" y="7969320"/>
              <a:ext cx="261720" cy="10836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772880" y="8005320"/>
              <a:ext cx="186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249080" y="7246080"/>
              <a:ext cx="785520" cy="5421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 Narrow"/>
                </a:rPr>
                <a:t>Console</a:t>
              </a:r>
              <a:br>
                <a:rPr sz="1200"/>
              </a:br>
              <a:r>
                <a:rPr b="1" lang="fr-FR" sz="1200" spc="-1" strike="noStrike">
                  <a:solidFill>
                    <a:srgbClr val="000000"/>
                  </a:solidFill>
                  <a:latin typeface="Arial Narrow"/>
                </a:rPr>
                <a:t>JM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7" name=""/>
          <p:cNvSpPr/>
          <p:nvPr/>
        </p:nvSpPr>
        <p:spPr>
          <a:xfrm flipH="1" flipV="1">
            <a:off x="3348000" y="6668640"/>
            <a:ext cx="1224000" cy="50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4572000" y="6668640"/>
            <a:ext cx="936720" cy="50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4788000" y="5805360"/>
            <a:ext cx="3529080" cy="136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333399"/>
                </a:solidFill>
                <a:latin typeface="Univers"/>
              </a:rPr>
              <a:t>Architecture globale de GICOM</a:t>
            </a:r>
            <a:endParaRPr b="0" lang="en-US" sz="3600" spc="-1" strike="noStrike">
              <a:solidFill>
                <a:srgbClr val="333399"/>
              </a:solidFill>
              <a:latin typeface="Univers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116000" y="606600"/>
            <a:ext cx="6999480" cy="6251040"/>
            <a:chOff x="1116000" y="606600"/>
            <a:chExt cx="6999480" cy="6251040"/>
          </a:xfrm>
        </p:grpSpPr>
        <p:grpSp>
          <p:nvGrpSpPr>
            <p:cNvPr id="252" name=""/>
            <p:cNvGrpSpPr/>
            <p:nvPr/>
          </p:nvGrpSpPr>
          <p:grpSpPr>
            <a:xfrm>
              <a:off x="1348920" y="1340640"/>
              <a:ext cx="693000" cy="903960"/>
              <a:chOff x="1348920" y="1340640"/>
              <a:chExt cx="693000" cy="903960"/>
            </a:xfrm>
          </p:grpSpPr>
          <p:sp>
            <p:nvSpPr>
              <p:cNvPr id="253" name=""/>
              <p:cNvSpPr/>
              <p:nvPr/>
            </p:nvSpPr>
            <p:spPr>
              <a:xfrm>
                <a:off x="1348920" y="1340640"/>
                <a:ext cx="693000" cy="554040"/>
              </a:xfrm>
              <a:prstGeom prst="rect">
                <a:avLst/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1348920" y="1953000"/>
                <a:ext cx="693000" cy="204120"/>
              </a:xfrm>
              <a:prstGeom prst="rect">
                <a:avLst/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1499400" y="1894680"/>
                <a:ext cx="391680" cy="57960"/>
              </a:xfrm>
              <a:prstGeom prst="rect">
                <a:avLst/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160" bIns="11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flipV="1">
                <a:off x="1348920" y="2156400"/>
                <a:ext cx="693000" cy="57960"/>
              </a:xfrm>
              <a:custGeom>
                <a:avLst/>
                <a:gdLst>
                  <a:gd name="textAreaLeft" fmla="*/ 152280 w 693000"/>
                  <a:gd name="textAreaRight" fmla="*/ 540720 w 693000"/>
                  <a:gd name="textAreaTop" fmla="*/ 12600 h 57960"/>
                  <a:gd name="textAreaBottom" fmla="*/ 45360 h 57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040" bIns="-14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1348920" y="2215440"/>
                <a:ext cx="693000" cy="29160"/>
              </a:xfrm>
              <a:prstGeom prst="rect">
                <a:avLst/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640" bIns="-17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1770840" y="1982160"/>
                <a:ext cx="210960" cy="87480"/>
              </a:xfrm>
              <a:prstGeom prst="rect">
                <a:avLst/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1800720" y="2011320"/>
                <a:ext cx="150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1378800" y="1398600"/>
                <a:ext cx="632880" cy="43740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900" spc="-1" strike="noStrike">
                    <a:solidFill>
                      <a:srgbClr val="000000"/>
                    </a:solidFill>
                    <a:latin typeface="Arial Narrow"/>
                  </a:rPr>
                  <a:t>Web</a:t>
                </a:r>
                <a:br>
                  <a:rPr sz="900"/>
                </a:br>
                <a:r>
                  <a:rPr b="1" lang="fr-FR" sz="900" spc="-1" strike="noStrike">
                    <a:solidFill>
                      <a:srgbClr val="000000"/>
                    </a:solidFill>
                    <a:latin typeface="Arial Narrow"/>
                  </a:rPr>
                  <a:t>Brows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1" name=""/>
            <p:cNvGrpSpPr/>
            <p:nvPr/>
          </p:nvGrpSpPr>
          <p:grpSpPr>
            <a:xfrm>
              <a:off x="1232280" y="4165560"/>
              <a:ext cx="693000" cy="902880"/>
              <a:chOff x="1232280" y="4165560"/>
              <a:chExt cx="693000" cy="902880"/>
            </a:xfrm>
          </p:grpSpPr>
          <p:sp>
            <p:nvSpPr>
              <p:cNvPr id="262" name=""/>
              <p:cNvSpPr/>
              <p:nvPr/>
            </p:nvSpPr>
            <p:spPr>
              <a:xfrm>
                <a:off x="1232280" y="4165560"/>
                <a:ext cx="693000" cy="553320"/>
              </a:xfrm>
              <a:prstGeom prst="rect">
                <a:avLst/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1232280" y="4777200"/>
                <a:ext cx="693000" cy="203760"/>
              </a:xfrm>
              <a:prstGeom prst="rect">
                <a:avLst/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1382760" y="4718880"/>
                <a:ext cx="391680" cy="57960"/>
              </a:xfrm>
              <a:prstGeom prst="rect">
                <a:avLst/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160" bIns="11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flipV="1">
                <a:off x="1232280" y="4980240"/>
                <a:ext cx="693000" cy="57960"/>
              </a:xfrm>
              <a:custGeom>
                <a:avLst/>
                <a:gdLst>
                  <a:gd name="textAreaLeft" fmla="*/ 152280 w 693000"/>
                  <a:gd name="textAreaRight" fmla="*/ 540720 w 693000"/>
                  <a:gd name="textAreaTop" fmla="*/ 12600 h 57960"/>
                  <a:gd name="textAreaBottom" fmla="*/ 45360 h 57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040" bIns="-14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1232280" y="5039280"/>
                <a:ext cx="693000" cy="29160"/>
              </a:xfrm>
              <a:prstGeom prst="rect">
                <a:avLst/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640" bIns="-17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1654200" y="4806360"/>
                <a:ext cx="210960" cy="87120"/>
              </a:xfrm>
              <a:prstGeom prst="rect">
                <a:avLst/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320" bIns="40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1684080" y="4835520"/>
                <a:ext cx="150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1262160" y="4223520"/>
                <a:ext cx="632880" cy="4366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900" spc="-1" strike="noStrike">
                    <a:solidFill>
                      <a:srgbClr val="000000"/>
                    </a:solidFill>
                    <a:latin typeface="Arial Narrow"/>
                  </a:rPr>
                  <a:t>Standalone</a:t>
                </a:r>
                <a:br>
                  <a:rPr sz="900"/>
                </a:br>
                <a:r>
                  <a:rPr b="1" lang="fr-FR" sz="900" spc="-1" strike="noStrike">
                    <a:solidFill>
                      <a:srgbClr val="000000"/>
                    </a:solidFill>
                    <a:latin typeface="Arial Narrow"/>
                  </a:rPr>
                  <a:t>Applicat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0" name=""/>
            <p:cNvGrpSpPr/>
            <p:nvPr/>
          </p:nvGrpSpPr>
          <p:grpSpPr>
            <a:xfrm>
              <a:off x="1566360" y="2357280"/>
              <a:ext cx="365760" cy="960480"/>
              <a:chOff x="1566360" y="2357280"/>
              <a:chExt cx="365760" cy="960480"/>
            </a:xfrm>
          </p:grpSpPr>
          <p:sp>
            <p:nvSpPr>
              <p:cNvPr id="271" name=""/>
              <p:cNvSpPr/>
              <p:nvPr/>
            </p:nvSpPr>
            <p:spPr>
              <a:xfrm>
                <a:off x="1566360" y="2357280"/>
                <a:ext cx="52200" cy="252360"/>
              </a:xfrm>
              <a:custGeom>
                <a:avLst/>
                <a:gdLst>
                  <a:gd name="textAreaLeft" fmla="*/ 2520 w 52200"/>
                  <a:gd name="textAreaRight" fmla="*/ 49680 w 52200"/>
                  <a:gd name="textAreaTop" fmla="*/ 2520 h 252360"/>
                  <a:gd name="textAreaBottom" fmla="*/ 249840 h 252360"/>
                </a:gdLst>
                <a:ahLst/>
                <a:rect l="textAreaLeft" t="textAreaTop" r="textAreaRight" b="textAreaBottom"/>
                <a:pathLst>
                  <a:path w="21600" h="103858">
                    <a:moveTo>
                      <a:pt x="3600" y="0"/>
                    </a:moveTo>
                    <a:arcTo wR="3600" hR="3600" stAng="16200000" swAng="-5400000"/>
                    <a:lnTo>
                      <a:pt x="0" y="100258"/>
                    </a:lnTo>
                    <a:arcTo wR="3600" hR="3600" stAng="10800000" swAng="-5400000"/>
                    <a:lnTo>
                      <a:pt x="18000" y="10385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1566360" y="2508840"/>
                <a:ext cx="365760" cy="808920"/>
              </a:xfrm>
              <a:custGeom>
                <a:avLst/>
                <a:gdLst>
                  <a:gd name="textAreaLeft" fmla="*/ 17640 w 365760"/>
                  <a:gd name="textAreaRight" fmla="*/ 348120 w 365760"/>
                  <a:gd name="textAreaTop" fmla="*/ 17640 h 808920"/>
                  <a:gd name="textAreaBottom" fmla="*/ 791280 h 808920"/>
                </a:gdLst>
                <a:ahLst/>
                <a:rect l="textAreaLeft" t="textAreaTop" r="textAreaRight" b="textAreaBottom"/>
                <a:pathLst>
                  <a:path w="21600" h="47745">
                    <a:moveTo>
                      <a:pt x="3600" y="0"/>
                    </a:moveTo>
                    <a:arcTo wR="3600" hR="3600" stAng="16200000" swAng="-5400000"/>
                    <a:lnTo>
                      <a:pt x="0" y="44145"/>
                    </a:lnTo>
                    <a:arcTo wR="3600" hR="3600" stAng="10800000" swAng="-5400000"/>
                    <a:lnTo>
                      <a:pt x="18000" y="47745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1618560" y="2559240"/>
                <a:ext cx="261000" cy="303120"/>
              </a:xfrm>
              <a:prstGeom prst="rect">
                <a:avLst/>
              </a:prstGeom>
              <a:solidFill>
                <a:srgbClr val="1c1c1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600" spc="-1" strike="noStrike">
                    <a:solidFill>
                      <a:srgbClr val="000000"/>
                    </a:solidFill>
                    <a:latin typeface="Arial Narrow"/>
                  </a:rPr>
                  <a:t>Mobile</a:t>
                </a:r>
                <a:br>
                  <a:rPr sz="600"/>
                </a:br>
                <a:r>
                  <a:rPr b="1" lang="fr-FR" sz="600" spc="-1" strike="noStrike">
                    <a:solidFill>
                      <a:srgbClr val="000000"/>
                    </a:solidFill>
                    <a:latin typeface="Arial Narrow"/>
                  </a:rPr>
                  <a:t>Phon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1670760" y="2913120"/>
                <a:ext cx="52200" cy="50400"/>
              </a:xfrm>
              <a:prstGeom prst="rect">
                <a:avLst/>
              </a:prstGeom>
              <a:solidFill>
                <a:srgbClr val="1c1c1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1775160" y="2913120"/>
                <a:ext cx="51840" cy="50400"/>
              </a:xfrm>
              <a:prstGeom prst="rect">
                <a:avLst/>
              </a:prstGeom>
              <a:solidFill>
                <a:srgbClr val="1c1c1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1827360" y="3014280"/>
                <a:ext cx="52200" cy="50040"/>
              </a:xfrm>
              <a:prstGeom prst="rect">
                <a:avLst/>
              </a:prstGeom>
              <a:solidFill>
                <a:srgbClr val="1c1c1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40" bIns="3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1722960" y="3014280"/>
                <a:ext cx="52200" cy="50040"/>
              </a:xfrm>
              <a:prstGeom prst="rect">
                <a:avLst/>
              </a:prstGeom>
              <a:solidFill>
                <a:srgbClr val="1c1c1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40" bIns="3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618560" y="3014280"/>
                <a:ext cx="51840" cy="50040"/>
              </a:xfrm>
              <a:prstGeom prst="rect">
                <a:avLst/>
              </a:prstGeom>
              <a:solidFill>
                <a:srgbClr val="1c1c1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40" bIns="3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1827360" y="3115440"/>
                <a:ext cx="52200" cy="50400"/>
              </a:xfrm>
              <a:prstGeom prst="rect">
                <a:avLst/>
              </a:prstGeom>
              <a:solidFill>
                <a:srgbClr val="1c1c1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1722960" y="3115440"/>
                <a:ext cx="52200" cy="50400"/>
              </a:xfrm>
              <a:prstGeom prst="rect">
                <a:avLst/>
              </a:prstGeom>
              <a:solidFill>
                <a:srgbClr val="1c1c1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1618560" y="3115440"/>
                <a:ext cx="51840" cy="50400"/>
              </a:xfrm>
              <a:prstGeom prst="rect">
                <a:avLst/>
              </a:prstGeom>
              <a:solidFill>
                <a:srgbClr val="1c1c1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827360" y="3216600"/>
                <a:ext cx="52200" cy="50400"/>
              </a:xfrm>
              <a:prstGeom prst="rect">
                <a:avLst/>
              </a:prstGeom>
              <a:solidFill>
                <a:srgbClr val="1c1c1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1722960" y="3216600"/>
                <a:ext cx="52200" cy="50400"/>
              </a:xfrm>
              <a:prstGeom prst="rect">
                <a:avLst/>
              </a:prstGeom>
              <a:solidFill>
                <a:srgbClr val="1c1c1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1618560" y="3216600"/>
                <a:ext cx="51840" cy="50400"/>
              </a:xfrm>
              <a:prstGeom prst="rect">
                <a:avLst/>
              </a:prstGeom>
              <a:solidFill>
                <a:srgbClr val="1c1c1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5" name=""/>
            <p:cNvSpPr/>
            <p:nvPr/>
          </p:nvSpPr>
          <p:spPr>
            <a:xfrm>
              <a:off x="2924640" y="1340640"/>
              <a:ext cx="2507040" cy="2033640"/>
            </a:xfrm>
            <a:prstGeom prst="cube">
              <a:avLst>
                <a:gd name="adj" fmla="val 8333"/>
              </a:avLst>
            </a:prstGeom>
            <a:solidFill>
              <a:srgbClr val="91ff9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Arial Narrow"/>
                </a:rPr>
                <a:t>Serveur J2EE eCO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306840" y="1396800"/>
              <a:ext cx="1458000" cy="621360"/>
            </a:xfrm>
            <a:prstGeom prst="cube">
              <a:avLst>
                <a:gd name="adj" fmla="val 8333"/>
              </a:avLst>
            </a:prstGeom>
            <a:solidFill>
              <a:srgbClr val="83d0e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 Narrow"/>
                </a:rPr>
                <a:t>Serveur W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 Narrow"/>
                </a:rPr>
                <a:t>Fournisseur 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306840" y="2132280"/>
              <a:ext cx="1458000" cy="620280"/>
            </a:xfrm>
            <a:prstGeom prst="cube">
              <a:avLst>
                <a:gd name="adj" fmla="val 8333"/>
              </a:avLst>
            </a:prstGeom>
            <a:solidFill>
              <a:srgbClr val="83d0e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 Narrow"/>
                </a:rPr>
                <a:t>Serveur W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 Narrow"/>
                </a:rPr>
                <a:t>Fournisseur 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5432040" y="1735920"/>
              <a:ext cx="874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432040" y="2469960"/>
              <a:ext cx="87480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040920" y="1849320"/>
              <a:ext cx="640440" cy="1355760"/>
            </a:xfrm>
            <a:prstGeom prst="rect">
              <a:avLst/>
            </a:prstGeom>
            <a:solidFill>
              <a:srgbClr val="35ff3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 Narrow"/>
                </a:rPr>
                <a:t>JSP/</a:t>
              </a:r>
              <a:br>
                <a:rPr sz="1200"/>
              </a:br>
              <a:r>
                <a:rPr b="1" lang="fr-FR" sz="1200" spc="-1" strike="noStrike">
                  <a:solidFill>
                    <a:srgbClr val="000000"/>
                  </a:solidFill>
                  <a:latin typeface="Arial Narrow"/>
                </a:rPr>
                <a:t>Servlet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99440" y="1849320"/>
              <a:ext cx="640440" cy="1355760"/>
            </a:xfrm>
            <a:prstGeom prst="rect">
              <a:avLst/>
            </a:prstGeom>
            <a:solidFill>
              <a:srgbClr val="35ff3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 Narrow"/>
                </a:rPr>
                <a:t>EJ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556880" y="2244600"/>
              <a:ext cx="641880" cy="677520"/>
            </a:xfrm>
            <a:prstGeom prst="can">
              <a:avLst>
                <a:gd name="adj" fmla="val 12717"/>
              </a:avLst>
            </a:prstGeom>
            <a:solidFill>
              <a:srgbClr val="35ff3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 Narrow"/>
                </a:rPr>
                <a:t>BD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049480" y="1793160"/>
              <a:ext cx="875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2120" y="2922480"/>
              <a:ext cx="992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306840" y="2866320"/>
              <a:ext cx="1458000" cy="621360"/>
            </a:xfrm>
            <a:prstGeom prst="cube">
              <a:avLst>
                <a:gd name="adj" fmla="val 8333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 Narrow"/>
                </a:rPr>
                <a:t>Serveur W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 Narrow"/>
                </a:rPr>
                <a:t>Parité Devis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432040" y="3204000"/>
              <a:ext cx="874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306840" y="662760"/>
              <a:ext cx="1458000" cy="677520"/>
            </a:xfrm>
            <a:prstGeom prst="cube">
              <a:avLst>
                <a:gd name="adj" fmla="val 8333"/>
              </a:avLst>
            </a:prstGeom>
            <a:solidFill>
              <a:srgbClr val="83d0e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 Narrow"/>
                </a:rPr>
                <a:t>Annuaire UDDI</a:t>
              </a:r>
              <a:br>
                <a:rPr sz="1400"/>
              </a:br>
              <a:r>
                <a:rPr b="0" lang="fr-FR" sz="1400" spc="-1" strike="noStrike">
                  <a:solidFill>
                    <a:srgbClr val="000000"/>
                  </a:solidFill>
                  <a:latin typeface="Arial Narrow"/>
                </a:rPr>
                <a:t>Fournisseur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865960" y="3713040"/>
              <a:ext cx="1458000" cy="621360"/>
            </a:xfrm>
            <a:prstGeom prst="cube">
              <a:avLst>
                <a:gd name="adj" fmla="val 8333"/>
              </a:avLst>
            </a:prstGeom>
            <a:solidFill>
              <a:srgbClr val="ffaba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 Narrow"/>
                </a:rPr>
                <a:t>Serveur CORB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 Narrow"/>
                </a:rPr>
                <a:t>Banque B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657120" y="4221720"/>
              <a:ext cx="1341720" cy="621360"/>
            </a:xfrm>
            <a:prstGeom prst="cube">
              <a:avLst>
                <a:gd name="adj" fmla="val 8333"/>
              </a:avLst>
            </a:prstGeom>
            <a:solidFill>
              <a:srgbClr val="ffaba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 Narrow"/>
                </a:rPr>
                <a:t>Annuaire CORBA</a:t>
              </a:r>
              <a:br>
                <a:rPr sz="1400"/>
              </a:br>
              <a:r>
                <a:rPr b="0" lang="fr-FR" sz="1400" spc="-1" strike="noStrike">
                  <a:solidFill>
                    <a:srgbClr val="000000"/>
                  </a:solidFill>
                  <a:latin typeface="Arial Narrow"/>
                </a:rPr>
                <a:t>des Banqu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2865960" y="4560840"/>
              <a:ext cx="1633320" cy="677520"/>
            </a:xfrm>
            <a:prstGeom prst="cube">
              <a:avLst>
                <a:gd name="adj" fmla="val 8333"/>
              </a:avLst>
            </a:prstGeom>
            <a:solidFill>
              <a:srgbClr val="ffaba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 Narrow"/>
                </a:rPr>
                <a:t>Serveur CORB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 Narrow"/>
                </a:rPr>
                <a:t>Agence A1 de B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74000" y="4843440"/>
              <a:ext cx="1633680" cy="677880"/>
            </a:xfrm>
            <a:prstGeom prst="cube">
              <a:avLst>
                <a:gd name="adj" fmla="val 8333"/>
              </a:avLst>
            </a:prstGeom>
            <a:solidFill>
              <a:srgbClr val="ffaba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 Narrow"/>
                </a:rPr>
                <a:t>Serveur CORB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 Narrow"/>
                </a:rPr>
                <a:t>Agence A11 de B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907520" y="3713040"/>
              <a:ext cx="1458000" cy="621360"/>
            </a:xfrm>
            <a:prstGeom prst="cube">
              <a:avLst>
                <a:gd name="adj" fmla="val 8333"/>
              </a:avLst>
            </a:prstGeom>
            <a:solidFill>
              <a:srgbClr val="ffaba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 Narrow"/>
                </a:rPr>
                <a:t>Serveur CORB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 Narrow"/>
                </a:rPr>
                <a:t>Banque B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907520" y="4560840"/>
              <a:ext cx="1633320" cy="677520"/>
            </a:xfrm>
            <a:prstGeom prst="cube">
              <a:avLst>
                <a:gd name="adj" fmla="val 8333"/>
              </a:avLst>
            </a:prstGeom>
            <a:solidFill>
              <a:srgbClr val="ffaba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 Narrow"/>
                </a:rPr>
                <a:t>Serveur CORB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 Narrow"/>
                </a:rPr>
                <a:t>Agence A1 de B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615560" y="4843440"/>
              <a:ext cx="1633680" cy="677880"/>
            </a:xfrm>
            <a:prstGeom prst="cube">
              <a:avLst>
                <a:gd name="adj" fmla="val 8333"/>
              </a:avLst>
            </a:prstGeom>
            <a:solidFill>
              <a:srgbClr val="ffaba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 Narrow"/>
                </a:rPr>
                <a:t>Serveur CORB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 Narrow"/>
                </a:rPr>
                <a:t>Agence A21 de B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740760" y="3372840"/>
              <a:ext cx="0" cy="33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383000" y="3374280"/>
              <a:ext cx="0" cy="1186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140080" y="3374280"/>
              <a:ext cx="0" cy="33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90880" y="3375360"/>
              <a:ext cx="0" cy="146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 flipV="1">
              <a:off x="1932120" y="3995280"/>
              <a:ext cx="933480" cy="45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932120" y="4560840"/>
              <a:ext cx="641880" cy="45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1116000" y="3600360"/>
              <a:ext cx="6999480" cy="197712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190560" y="606600"/>
              <a:ext cx="1633320" cy="2203560"/>
            </a:xfrm>
            <a:prstGeom prst="rect">
              <a:avLst/>
            </a:prstGeom>
            <a:noFill/>
            <a:ln w="38160">
              <a:solidFill>
                <a:srgbClr val="ffcf01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232280" y="1171800"/>
              <a:ext cx="4316760" cy="2259720"/>
            </a:xfrm>
            <a:prstGeom prst="rect">
              <a:avLst/>
            </a:prstGeom>
            <a:noFill/>
            <a:ln w="38160">
              <a:solidFill>
                <a:srgbClr val="00ff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991160" y="4402080"/>
              <a:ext cx="641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 Narrow"/>
                </a:rPr>
                <a:t>II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265280" y="3372840"/>
              <a:ext cx="641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 Narrow"/>
                </a:rPr>
                <a:t>II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5607000" y="2977560"/>
              <a:ext cx="6404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 Narrow"/>
                </a:rPr>
                <a:t>SOAP</a:t>
              </a:r>
              <a:br>
                <a:rPr sz="1200"/>
              </a:br>
              <a:r>
                <a:rPr b="1" lang="fr-FR" sz="1200" spc="-1" strike="noStrike">
                  <a:solidFill>
                    <a:srgbClr val="000000"/>
                  </a:solidFill>
                  <a:latin typeface="Arial Narrow"/>
                </a:rPr>
                <a:t>HTT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5549400" y="1486440"/>
              <a:ext cx="6408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 Narrow"/>
                </a:rPr>
                <a:t>SOAP</a:t>
              </a:r>
              <a:br>
                <a:rPr sz="1200"/>
              </a:br>
              <a:r>
                <a:rPr b="1" lang="fr-FR" sz="1200" spc="-1" strike="noStrike">
                  <a:solidFill>
                    <a:srgbClr val="000000"/>
                  </a:solidFill>
                  <a:latin typeface="Arial Narrow"/>
                </a:rPr>
                <a:t>HTT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167200" y="1567080"/>
              <a:ext cx="639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 Narrow"/>
                </a:rPr>
                <a:t>HTML</a:t>
              </a:r>
              <a:br>
                <a:rPr sz="1200"/>
              </a:br>
              <a:r>
                <a:rPr b="1" lang="fr-FR" sz="1200" spc="-1" strike="noStrike">
                  <a:solidFill>
                    <a:srgbClr val="000000"/>
                  </a:solidFill>
                  <a:latin typeface="Arial Narrow"/>
                </a:rPr>
                <a:t>HTT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106000" y="2471040"/>
              <a:ext cx="6436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 Narrow"/>
                </a:rPr>
                <a:t>cHTML</a:t>
              </a:r>
              <a:br>
                <a:rPr sz="1200"/>
              </a:br>
              <a:r>
                <a:rPr b="1" lang="fr-FR" sz="1200" spc="-1" strike="noStrike">
                  <a:solidFill>
                    <a:srgbClr val="000000"/>
                  </a:solidFill>
                  <a:latin typeface="Arial Narrow"/>
                </a:rPr>
                <a:t>HTT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106000" y="2900880"/>
              <a:ext cx="6436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 Narrow"/>
                </a:rPr>
                <a:t>WML</a:t>
              </a:r>
              <a:br>
                <a:rPr sz="1200"/>
              </a:br>
              <a:r>
                <a:rPr b="1" lang="fr-FR" sz="1200" spc="-1" strike="noStrike">
                  <a:solidFill>
                    <a:srgbClr val="000000"/>
                  </a:solidFill>
                  <a:latin typeface="Arial Narrow"/>
                </a:rPr>
                <a:t>WA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549400" y="2223000"/>
              <a:ext cx="6408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 Narrow"/>
                </a:rPr>
                <a:t>SOAP</a:t>
              </a:r>
              <a:br>
                <a:rPr sz="1200"/>
              </a:br>
              <a:r>
                <a:rPr b="1" lang="fr-FR" sz="1200" spc="-1" strike="noStrike">
                  <a:solidFill>
                    <a:srgbClr val="000000"/>
                  </a:solidFill>
                  <a:latin typeface="Arial Narrow"/>
                </a:rPr>
                <a:t>J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2" name=""/>
            <p:cNvGrpSpPr/>
            <p:nvPr/>
          </p:nvGrpSpPr>
          <p:grpSpPr>
            <a:xfrm>
              <a:off x="4202640" y="5955120"/>
              <a:ext cx="693000" cy="902520"/>
              <a:chOff x="4202640" y="5955120"/>
              <a:chExt cx="693000" cy="902520"/>
            </a:xfrm>
          </p:grpSpPr>
          <p:sp>
            <p:nvSpPr>
              <p:cNvPr id="323" name=""/>
              <p:cNvSpPr/>
              <p:nvPr/>
            </p:nvSpPr>
            <p:spPr>
              <a:xfrm>
                <a:off x="4202640" y="5955120"/>
                <a:ext cx="693000" cy="552960"/>
              </a:xfrm>
              <a:prstGeom prst="rect">
                <a:avLst/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4202640" y="6566400"/>
                <a:ext cx="693000" cy="203760"/>
              </a:xfrm>
              <a:prstGeom prst="rect">
                <a:avLst/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4353120" y="6508080"/>
                <a:ext cx="391680" cy="57960"/>
              </a:xfrm>
              <a:prstGeom prst="rect">
                <a:avLst/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160" bIns="11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flipV="1">
                <a:off x="4202640" y="6769440"/>
                <a:ext cx="693000" cy="57960"/>
              </a:xfrm>
              <a:custGeom>
                <a:avLst/>
                <a:gdLst>
                  <a:gd name="textAreaLeft" fmla="*/ 152280 w 693000"/>
                  <a:gd name="textAreaRight" fmla="*/ 540720 w 693000"/>
                  <a:gd name="textAreaTop" fmla="*/ 12600 h 57960"/>
                  <a:gd name="textAreaBottom" fmla="*/ 45360 h 57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040" bIns="-14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4202640" y="6828480"/>
                <a:ext cx="693000" cy="29160"/>
              </a:xfrm>
              <a:prstGeom prst="rect">
                <a:avLst/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640" bIns="-17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4624560" y="6595560"/>
                <a:ext cx="210960" cy="87120"/>
              </a:xfrm>
              <a:prstGeom prst="rect">
                <a:avLst/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320" bIns="40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4654440" y="6624720"/>
                <a:ext cx="150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4232520" y="6013080"/>
                <a:ext cx="632880" cy="4366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900" spc="-1" strike="noStrike">
                    <a:solidFill>
                      <a:srgbClr val="000000"/>
                    </a:solidFill>
                    <a:latin typeface="Arial Narrow"/>
                  </a:rPr>
                  <a:t>Console</a:t>
                </a:r>
                <a:br>
                  <a:rPr sz="900"/>
                </a:br>
                <a:r>
                  <a:rPr b="1" lang="fr-FR" sz="900" spc="-1" strike="noStrike">
                    <a:solidFill>
                      <a:srgbClr val="000000"/>
                    </a:solidFill>
                    <a:latin typeface="Arial Narrow"/>
                  </a:rPr>
                  <a:t>JMX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1" name=""/>
            <p:cNvSpPr/>
            <p:nvPr/>
          </p:nvSpPr>
          <p:spPr>
            <a:xfrm flipH="1" flipV="1">
              <a:off x="3506400" y="5548320"/>
              <a:ext cx="986040" cy="406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 flipV="1">
              <a:off x="4492800" y="5548320"/>
              <a:ext cx="754560" cy="406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V="1">
              <a:off x="4667040" y="4852440"/>
              <a:ext cx="2843280" cy="1102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333399"/>
                </a:solidFill>
                <a:latin typeface="Univers"/>
              </a:rPr>
              <a:t>Les étapes de GICOM</a:t>
            </a:r>
            <a:endParaRPr b="0" lang="en-US" sz="3600" spc="-1" strike="noStrike">
              <a:solidFill>
                <a:srgbClr val="333399"/>
              </a:solidFill>
              <a:latin typeface="Univer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380520" y="1218960"/>
            <a:ext cx="85741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3333cc"/>
              </a:buClr>
              <a:buSzPct val="60000"/>
              <a:buFont typeface="Univer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Univers"/>
              </a:rPr>
              <a:t>Sous système bancaire</a:t>
            </a:r>
            <a:endParaRPr b="0" lang="en-US" sz="2800" spc="-1" strike="noStrike">
              <a:solidFill>
                <a:srgbClr val="000000"/>
              </a:solidFill>
              <a:latin typeface="Univers"/>
            </a:endParaRPr>
          </a:p>
          <a:p>
            <a:pPr marL="533520" indent="-533520">
              <a:spcBef>
                <a:spcPts val="700"/>
              </a:spcBef>
              <a:buClr>
                <a:srgbClr val="3333cc"/>
              </a:buClr>
              <a:buSzPct val="60000"/>
              <a:buFont typeface="Univer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Univers"/>
              </a:rPr>
              <a:t>Sous système bancaire persistant</a:t>
            </a:r>
            <a:endParaRPr b="0" lang="en-US" sz="2800" spc="-1" strike="noStrike">
              <a:solidFill>
                <a:srgbClr val="000000"/>
              </a:solidFill>
              <a:latin typeface="Univers"/>
            </a:endParaRPr>
          </a:p>
          <a:p>
            <a:pPr marL="533520" indent="-533520">
              <a:spcBef>
                <a:spcPts val="700"/>
              </a:spcBef>
              <a:buClr>
                <a:srgbClr val="3333cc"/>
              </a:buClr>
              <a:buSzPct val="60000"/>
              <a:buFont typeface="Univer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Univers"/>
              </a:rPr>
              <a:t>Sous système bancaire persistant et fiabilisé</a:t>
            </a:r>
            <a:endParaRPr b="0" lang="en-US" sz="2800" spc="-1" strike="noStrike">
              <a:solidFill>
                <a:srgbClr val="000000"/>
              </a:solidFill>
              <a:latin typeface="Univers"/>
            </a:endParaRPr>
          </a:p>
          <a:p>
            <a:pPr marL="533520" indent="-533520">
              <a:spcBef>
                <a:spcPts val="700"/>
              </a:spcBef>
              <a:buClr>
                <a:srgbClr val="3333cc"/>
              </a:buClr>
              <a:buSzPct val="60000"/>
              <a:buFont typeface="Univer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Univers"/>
              </a:rPr>
              <a:t>eCOM étendu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Univers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Univers"/>
              </a:rPr>
              <a:t>et intégration du sous-système bancaire</a:t>
            </a:r>
            <a:endParaRPr b="0" lang="en-US" sz="2800" spc="-1" strike="noStrike">
              <a:solidFill>
                <a:srgbClr val="000000"/>
              </a:solidFill>
              <a:latin typeface="Univers"/>
            </a:endParaRPr>
          </a:p>
          <a:p>
            <a:pPr marL="533520" indent="-533520">
              <a:spcBef>
                <a:spcPts val="700"/>
              </a:spcBef>
              <a:buClr>
                <a:srgbClr val="3333cc"/>
              </a:buClr>
              <a:buSzPct val="60000"/>
              <a:buFont typeface="Univer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Univers"/>
              </a:rPr>
              <a:t>Sécurisation des communications</a:t>
            </a:r>
            <a:endParaRPr b="0" lang="en-US" sz="2800" spc="-1" strike="noStrike">
              <a:solidFill>
                <a:srgbClr val="000000"/>
              </a:solidFill>
              <a:latin typeface="Univers"/>
            </a:endParaRPr>
          </a:p>
          <a:p>
            <a:pPr marL="533520" indent="-533520">
              <a:spcBef>
                <a:spcPts val="700"/>
              </a:spcBef>
              <a:buClr>
                <a:srgbClr val="3333cc"/>
              </a:buClr>
              <a:buSzPct val="60000"/>
              <a:buFont typeface="Univer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Univers"/>
              </a:rPr>
              <a:t>Sous système fournisseur</a:t>
            </a:r>
            <a:endParaRPr b="0" lang="en-US" sz="2800" spc="-1" strike="noStrike">
              <a:solidFill>
                <a:srgbClr val="000000"/>
              </a:solidFill>
              <a:latin typeface="Univers"/>
            </a:endParaRPr>
          </a:p>
          <a:p>
            <a:pPr marL="533520" indent="-533520">
              <a:spcBef>
                <a:spcPts val="700"/>
              </a:spcBef>
              <a:buClr>
                <a:srgbClr val="3333cc"/>
              </a:buClr>
              <a:buSzPct val="60000"/>
              <a:buFont typeface="Univer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Univers"/>
              </a:rPr>
              <a:t>Déploiement des servants</a:t>
            </a:r>
            <a:endParaRPr b="0" lang="en-US" sz="2800" spc="-1" strike="noStrike">
              <a:solidFill>
                <a:srgbClr val="000000"/>
              </a:solidFill>
              <a:latin typeface="Univers"/>
            </a:endParaRPr>
          </a:p>
          <a:p>
            <a:pPr marL="533520" indent="-533520">
              <a:spcBef>
                <a:spcPts val="700"/>
              </a:spcBef>
              <a:buClr>
                <a:srgbClr val="3333cc"/>
              </a:buClr>
              <a:buSzPct val="60000"/>
              <a:buFont typeface="Univer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Univers"/>
              </a:rPr>
              <a:t>Administration et supervision des serveurs</a:t>
            </a:r>
            <a:endParaRPr b="0" lang="en-US" sz="2800" spc="-1" strike="noStrike">
              <a:solidFill>
                <a:srgbClr val="000000"/>
              </a:solidFill>
              <a:latin typeface="Univer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333399"/>
                </a:solidFill>
                <a:latin typeface="Univers"/>
              </a:rPr>
              <a:t>Etape 1 : eCOM étendu</a:t>
            </a:r>
            <a:endParaRPr b="0" lang="en-US" sz="3600" spc="-1" strike="noStrike">
              <a:solidFill>
                <a:srgbClr val="333399"/>
              </a:solidFill>
              <a:latin typeface="Univer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80520" y="1218960"/>
            <a:ext cx="85741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Univers"/>
              </a:rPr>
              <a:t>But: voir des techniques avancées J2EE</a:t>
            </a:r>
            <a:endParaRPr b="0" lang="en-US" sz="2400" spc="-1" strike="noStrike">
              <a:solidFill>
                <a:srgbClr val="000000"/>
              </a:solidFill>
              <a:latin typeface="Univers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Univer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Univers"/>
              </a:rPr>
              <a:t>Préliminaires</a:t>
            </a:r>
            <a:endParaRPr b="0" lang="en-US" sz="2400" spc="-1" strike="noStrike">
              <a:solidFill>
                <a:srgbClr val="000000"/>
              </a:solidFill>
              <a:latin typeface="Univers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Univers"/>
              </a:rPr>
              <a:t>Order comporte la devise utilisée et la parité avec l’Euro</a:t>
            </a:r>
            <a:endParaRPr b="0" lang="en-US" sz="2000" spc="-1" strike="noStrike">
              <a:solidFill>
                <a:srgbClr val="000000"/>
              </a:solidFill>
              <a:latin typeface="Univers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Univers"/>
              </a:rPr>
              <a:t>MailerBean (dans les exemples de JOnAS) doit être installé</a:t>
            </a:r>
            <a:endParaRPr b="0" lang="en-US" sz="2000" spc="-1" strike="noStrike">
              <a:solidFill>
                <a:srgbClr val="000000"/>
              </a:solidFill>
              <a:latin typeface="Univers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Univer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Univers"/>
              </a:rPr>
              <a:t>Intégration du sous-système bancaire</a:t>
            </a:r>
            <a:endParaRPr b="0" lang="en-US" sz="2400" spc="-1" strike="noStrike">
              <a:solidFill>
                <a:srgbClr val="000000"/>
              </a:solidFill>
              <a:latin typeface="Univers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Univers"/>
              </a:rPr>
              <a:t>Account disparaît pour être remplacer par un bean FundTransfer</a:t>
            </a:r>
            <a:endParaRPr b="0" lang="en-US" sz="2000" spc="-1" strike="noStrike">
              <a:solidFill>
                <a:srgbClr val="000000"/>
              </a:solidFill>
              <a:latin typeface="Univers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Univer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Univers"/>
              </a:rPr>
              <a:t>Initialisation des parités des devises utilisés</a:t>
            </a:r>
            <a:endParaRPr b="0" lang="en-US" sz="2400" spc="-1" strike="noStrike">
              <a:solidFill>
                <a:srgbClr val="000000"/>
              </a:solidFill>
              <a:latin typeface="Univers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Univers"/>
              </a:rPr>
              <a:t>via un vrai WebService public</a:t>
            </a:r>
            <a:endParaRPr b="0" lang="en-US" sz="2000" spc="-1" strike="noStrike">
              <a:solidFill>
                <a:srgbClr val="000000"/>
              </a:solidFill>
              <a:latin typeface="Univers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Univers"/>
              </a:rPr>
              <a:t>Rafraîchissement de façon périodique (EB Timer)</a:t>
            </a:r>
            <a:endParaRPr b="0" lang="en-US" sz="2000" spc="-1" strike="noStrike">
              <a:solidFill>
                <a:srgbClr val="000000"/>
              </a:solidFill>
              <a:latin typeface="Univers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Univer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Univers"/>
              </a:rPr>
              <a:t>Sécuriser l’interface Web avec SSL (étape 5)</a:t>
            </a:r>
            <a:endParaRPr b="0" lang="en-US" sz="2400" spc="-1" strike="noStrike">
              <a:solidFill>
                <a:srgbClr val="000000"/>
              </a:solidFill>
              <a:latin typeface="Univers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Univers"/>
              </a:rPr>
              <a:t>Certificat X509 pour le serveur</a:t>
            </a:r>
            <a:endParaRPr b="0" lang="en-US" sz="2000" spc="-1" strike="noStrike">
              <a:solidFill>
                <a:srgbClr val="000000"/>
              </a:solidFill>
              <a:latin typeface="Univers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Univer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Univers"/>
              </a:rPr>
              <a:t>Fiabiliser MailerBean (non traité en 07-08)</a:t>
            </a:r>
            <a:endParaRPr b="0" lang="en-US" sz="2400" spc="-1" strike="noStrike">
              <a:solidFill>
                <a:srgbClr val="000000"/>
              </a:solidFill>
              <a:latin typeface="Univers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Univers"/>
                <a:ea typeface="Times New Roman"/>
              </a:rPr>
              <a:t>javax.ejb.SessionSynchronization pour le Stateful Session </a:t>
            </a:r>
            <a:endParaRPr b="0" lang="en-US" sz="2000" spc="-1" strike="noStrike">
              <a:solidFill>
                <a:srgbClr val="000000"/>
              </a:solidFill>
              <a:latin typeface="Univers"/>
            </a:endParaRPr>
          </a:p>
          <a:p>
            <a:pPr lvl="1" marL="91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Univer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idier Donsez</cp:lastModifiedBy>
  <dcterms:modified xsi:type="dcterms:W3CDTF">2008-01-06T00:05:51Z</dcterms:modified>
  <cp:revision>88</cp:revision>
  <dc:subject/>
  <dc:title>PowerPoint Presentation</dc:title>
</cp:coreProperties>
</file>