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F858-D996-4878-AF95-7C662E99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612D-CC8D-404A-90EF-0D09DBA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E5BD-1FCA-4724-B405-1D2DAB1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0752-D947-47E7-9E86-2BAF301D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700-ECE0-47BA-AA33-0B478E5D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11C-9FBF-48DA-8F53-2F7DA812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031-DBC9-4BF6-B283-0D9ED9B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0EFC-6927-4A54-91E9-8EEF5A8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2394-B41E-481B-98F9-FE9A529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65CD-81EE-4225-95DB-BECEAE29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FE1A-3672-4FE5-9C78-832C658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F674-59F7-4512-A0DE-FE683AD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2972-DC7D-41DB-B52E-75FFB90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42F-13C6-4E17-94CD-5D517EC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5A9-F853-415E-BE7E-0CBD5C59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C7F3-F6C5-4C7D-A894-8168AC3B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126-1FE7-4310-9C4F-00DCDEB1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A84F-FE09-4ADC-8F24-33390A7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467B-E05A-484C-8BD9-CD1C477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F8B1-CC76-4D43-9B41-61CAD5C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708B-236F-4C28-A4F4-4D74499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FEBF-F702-4C88-BBDA-C5F5AB3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5A08-B858-444E-B030-33FFBBF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534C-0C67-464B-A030-4B3CB37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E84-5CEC-4068-BDE7-E91B76A11CF2}" type="slidenum">
              <a:rPr b="0" lang="en-GB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225-A54D-46BE-A226-946B1D21D8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COM – M2GI SRR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COM – M2RICM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ape 4 : Sous-système bancaire persistant et fi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19120" y="4266720"/>
            <a:ext cx="6521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ara Bouchenak, Didier Donsez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Pierre-Yves Gibello, Vania Marangozov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{Sara.Bouchenak, Didier.Donsez}@imag.fr </a:t>
            </a:r>
            <a:br>
              <a:rPr sz="1600"/>
            </a:b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{Pierre-Yves.Gibello, Vania.Marangozova}@imag.fr</a:t>
            </a:r>
            <a:br>
              <a:rPr sz="1600"/>
            </a:b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7d"/>
                </a:solidFill>
                <a:latin typeface="Arial"/>
              </a:rPr>
              <a:t>http://www-adele.imag.fr/~donsez/ujf/GICOM/GICOM_ENS</a:t>
            </a:r>
            <a:endParaRPr b="0" lang="en-US" sz="17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omicité – CID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équence d’opérations constituant une transaction est indivisible 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oit toutes les opérations sont exécutées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oit aucune opération n’est exécuté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09600" y="3730680"/>
            <a:ext cx="7199280" cy="1799640"/>
            <a:chOff x="1209600" y="3730680"/>
            <a:chExt cx="7199280" cy="1799640"/>
          </a:xfrm>
        </p:grpSpPr>
        <p:sp>
          <p:nvSpPr>
            <p:cNvPr id="185" name=""/>
            <p:cNvSpPr/>
            <p:nvPr/>
          </p:nvSpPr>
          <p:spPr>
            <a:xfrm>
              <a:off x="1209600" y="408924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09600" y="444960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09600" y="373068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ébit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70320" y="373068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édit fourn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0320" y="408924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70320" y="4449600"/>
              <a:ext cx="215892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209600" y="4809960"/>
              <a:ext cx="4319640" cy="720000"/>
              <a:chOff x="1209600" y="4809960"/>
              <a:chExt cx="4319640" cy="720000"/>
            </a:xfrm>
          </p:grpSpPr>
          <p:sp>
            <p:nvSpPr>
              <p:cNvPr id="192" name=""/>
              <p:cNvSpPr/>
              <p:nvPr/>
            </p:nvSpPr>
            <p:spPr>
              <a:xfrm>
                <a:off x="1209600" y="4809960"/>
                <a:ext cx="2158920" cy="36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09600" y="5169960"/>
                <a:ext cx="2158920" cy="36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69960" y="4809960"/>
                <a:ext cx="2159280" cy="36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69960" y="5169960"/>
                <a:ext cx="2159280" cy="36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529240" y="4089240"/>
              <a:ext cx="287964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9240" y="3730680"/>
              <a:ext cx="287964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t inter-banc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29240" y="4449600"/>
              <a:ext cx="287964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4809960"/>
              <a:ext cx="287964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29240" y="5170320"/>
              <a:ext cx="287964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100B-453D-4B7D-A24D-805B2D8594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 –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hérence – ID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ntraintes d’intégrité du système vérifiées à la fin d’une transaction 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as d’argent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"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n plus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"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créé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as d’argent qui disparaî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xemple : Transfert inter-bancaire d’une somme d’argen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ompte_client.debit(a)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      :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nouv_balance_clt = anc_balance_clt - 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ompte_fournisseur.credit(a) :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nouv_balance_frn = anc_balance_frn + 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( nouv_balance_clt + nouv_balance_frn )  = 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( anc_balance_clt  + anc_balance_frn 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3E4F-1642-4B71-ABFB-FF5EA11928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C –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olation – D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vant la fin d’une transaction, les modifications apportées par celle-ci ne sont pas visibles par les autres transactions concurren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3480" y="3086280"/>
            <a:ext cx="40338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Début T1 (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&gt;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5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debit(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credit(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 T1 (commit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9160" y="2873520"/>
            <a:ext cx="0" cy="26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91600" y="54370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040" y="3157560"/>
            <a:ext cx="196920" cy="2792520"/>
          </a:xfrm>
          <a:custGeom>
            <a:avLst/>
            <a:gdLst>
              <a:gd name="textAreaLeft" fmla="*/ 126000 w 196920"/>
              <a:gd name="textAreaRight" fmla="*/ 197280 w 196920"/>
              <a:gd name="textAreaTop" fmla="*/ 72720 h 2792520"/>
              <a:gd name="textAreaBottom" fmla="*/ 2719800 h 27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989080" y="3087720"/>
            <a:ext cx="12432960" cy="3042720"/>
            <a:chOff x="-2989080" y="3087720"/>
            <a:chExt cx="12432960" cy="3042720"/>
          </a:xfrm>
        </p:grpSpPr>
        <p:grpSp>
          <p:nvGrpSpPr>
            <p:cNvPr id="210" name=""/>
            <p:cNvGrpSpPr/>
            <p:nvPr/>
          </p:nvGrpSpPr>
          <p:grpSpPr>
            <a:xfrm>
              <a:off x="4751280" y="3087720"/>
              <a:ext cx="4692600" cy="3042720"/>
              <a:chOff x="4751280" y="3087720"/>
              <a:chExt cx="4692600" cy="3042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52880" y="3087720"/>
                <a:ext cx="4491000" cy="30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-Début T2 (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-&gt;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, 1) : 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clt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3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.debit(1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.credit(1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in T2 (commit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51280" y="3787920"/>
                <a:ext cx="212760" cy="1633320"/>
              </a:xfrm>
              <a:custGeom>
                <a:avLst/>
                <a:gdLst>
                  <a:gd name="textAreaLeft" fmla="*/ 136080 w 212760"/>
                  <a:gd name="textAreaRight" fmla="*/ 213120 w 212760"/>
                  <a:gd name="textAreaTop" fmla="*/ 42480 h 1633320"/>
                  <a:gd name="textAreaBottom" fmla="*/ 1590840 h 163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-2989080" y="3448080"/>
              <a:ext cx="1035324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0" y="2"/>
                  </a:moveTo>
                  <a:arcTo wR="10800" hR="10800" stAng="-5333004" swAng="53330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0" y="2"/>
                  </a:moveTo>
                  <a:arcTo wR="10800" hR="10800" stAng="-5333004" swAng="5333004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51360" y="2841480"/>
            <a:ext cx="3986280" cy="2807640"/>
            <a:chOff x="4851360" y="2841480"/>
            <a:chExt cx="3986280" cy="2807640"/>
          </a:xfrm>
        </p:grpSpPr>
        <p:grpSp>
          <p:nvGrpSpPr>
            <p:cNvPr id="215" name=""/>
            <p:cNvGrpSpPr/>
            <p:nvPr/>
          </p:nvGrpSpPr>
          <p:grpSpPr>
            <a:xfrm>
              <a:off x="5459760" y="2841480"/>
              <a:ext cx="3377880" cy="959760"/>
              <a:chOff x="5459760" y="2841480"/>
              <a:chExt cx="3377880" cy="959760"/>
            </a:xfrm>
          </p:grpSpPr>
          <p:sp>
            <p:nvSpPr>
              <p:cNvPr id="216" name=""/>
              <p:cNvSpPr/>
              <p:nvPr/>
            </p:nvSpPr>
            <p:spPr>
              <a:xfrm>
                <a:off x="5880240" y="2841480"/>
                <a:ext cx="295740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Etat incohérent 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-Début T2 : clt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5, frn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459760" y="3209400"/>
                <a:ext cx="423360" cy="591840"/>
                <a:chOff x="5459760" y="3209400"/>
                <a:chExt cx="423360" cy="591840"/>
              </a:xfrm>
            </p:grpSpPr>
            <p:sp>
              <p:nvSpPr>
                <p:cNvPr id="218" name=""/>
                <p:cNvSpPr/>
                <p:nvPr/>
              </p:nvSpPr>
              <p:spPr>
                <a:xfrm rot="1918200">
                  <a:off x="5632200" y="3184560"/>
                  <a:ext cx="88920" cy="6361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19681800">
                  <a:off x="5621400" y="3188880"/>
                  <a:ext cx="89280" cy="6368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4851360" y="5278320"/>
              <a:ext cx="341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-Fin T2 (commit) : clt</a:t>
              </a:r>
              <a:r>
                <a:rPr b="0" lang="fr-FR" sz="1600" spc="-1" strike="noStrike" baseline="-25000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= 4, frn</a:t>
              </a:r>
              <a:r>
                <a:rPr b="0" lang="fr-FR" sz="1600" spc="-1" strike="noStrike" baseline="-25000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=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1A0D-E09E-4702-9844-B7DE5A3615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CI –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urabilité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es mises à jour validées par une transaction sont durables malgré les pannes potentielles du systèm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8880" y="3086280"/>
            <a:ext cx="40338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Début T1 (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&gt;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5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 T1 (commit)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lt</a:t>
            </a:r>
            <a:r>
              <a:rPr b="0" lang="fr-FR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= 3, frn</a:t>
            </a:r>
            <a:r>
              <a:rPr b="0" lang="fr-FR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09160" y="2873520"/>
            <a:ext cx="0" cy="26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91600" y="54370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440" y="3157560"/>
            <a:ext cx="245880" cy="963720"/>
          </a:xfrm>
          <a:custGeom>
            <a:avLst/>
            <a:gdLst>
              <a:gd name="textAreaLeft" fmla="*/ 157320 w 245880"/>
              <a:gd name="textAreaRight" fmla="*/ 246240 w 245880"/>
              <a:gd name="textAreaTop" fmla="*/ 24840 h 963720"/>
              <a:gd name="textAreaBottom" fmla="*/ 938880 h 9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560" y="4165560"/>
            <a:ext cx="309600" cy="27792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78520" y="4394160"/>
            <a:ext cx="4033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Début T2 (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&gt;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1)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lt</a:t>
            </a:r>
            <a:r>
              <a:rPr b="0" lang="fr-FR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= 3, frn</a:t>
            </a:r>
            <a:r>
              <a:rPr b="0" lang="fr-FR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1080" y="4465800"/>
            <a:ext cx="245880" cy="653760"/>
          </a:xfrm>
          <a:custGeom>
            <a:avLst/>
            <a:gdLst>
              <a:gd name="textAreaLeft" fmla="*/ 157320 w 245880"/>
              <a:gd name="textAreaRight" fmla="*/ 246240 w 245880"/>
              <a:gd name="textAreaTop" fmla="*/ 16920 h 653760"/>
              <a:gd name="textAreaBottom" fmla="*/ 636840 h 65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3B65-3A07-4A66-829A-D15DDD7B3E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Transaction : </a:t>
            </a:r>
            <a:r>
              <a:rPr b="0" i="1" lang="fr-FR" sz="4400" spc="-1" strike="noStrike">
                <a:solidFill>
                  <a:srgbClr val="00007d"/>
                </a:solidFill>
                <a:latin typeface="Arial"/>
              </a:rPr>
              <a:t>commit</a:t>
            </a: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 ou </a:t>
            </a:r>
            <a:r>
              <a:rPr b="0" i="1" lang="fr-FR" sz="4400" spc="-1" strike="noStrike">
                <a:solidFill>
                  <a:srgbClr val="00007d"/>
                </a:solidFill>
                <a:latin typeface="Arial"/>
              </a:rPr>
              <a:t>rollback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70160" y="1906560"/>
            <a:ext cx="3565440" cy="39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BA51-FC68-4997-80D7-5F52D3852A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Hiérarchie transactionnell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Gestionnaire de transac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Générique : indépendant de tout type d’application (banque, réservation de billets d’avion, …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n serveur CORBA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ransaction répartie sur plusieurs si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Initiateur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Démarre une transaction auprès du coordinateur global. (serveur de commerce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Coordinateur global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Coordonne la transaction entre les différents participants jusqu’à sa terminaison (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Transaction Manager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Participants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Sur chaque site participant, un gestionnaire local de transactions gère des ressources locales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Arial"/>
              </a:rPr>
              <a:t>"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recouvrables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Arial"/>
              </a:rPr>
              <a:t>"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, coopère avec le coordinateur global (agences bancaires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F9DD-83C4-47A5-B045-B120E1BCCC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ransaction réparti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33680" y="2071800"/>
            <a:ext cx="463212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9297-307C-497D-85D9-80406650A3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ssource 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recouvrabl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bjet dont il est possible de défaire les modifications tant qu’une transaction n’est pas validée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bjet recouvrabl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bjet persistant : revenir à un état stable précédemment sauvegardé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bjet dont l’action n’a pas encore été effective (envoi différé de mail vers un fournisseur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BAC7-4DB6-46A2-BA08-EE2697D869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ystème transactionne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éfinition d’une transac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opriétés ACI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iérarchie transactionnel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ts recouvrable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Arial"/>
              </a:rPr>
              <a:t>Contrôle de l’atomicité</a:t>
            </a:r>
            <a:br>
              <a:rPr sz="2400"/>
            </a:br>
            <a:r>
              <a:rPr b="0" i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trôle de la concurrence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1AA1-2E43-49C8-99F6-5F56BACE31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ordonner les validation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to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cité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 opération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répartie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Arial"/>
              </a:rPr>
              <a:t>Toutes les mises à jour exécutées sur tous les participant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Arial"/>
              </a:rPr>
              <a:t>Aucune mise à jour n’est exécutée sur aucun des participant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Chaque participant est responsable de la validation (exécution ou non) des mises à jour loca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Arial"/>
              </a:rPr>
              <a:t>Coordonner l’ensemble des validations pour éviter les incohérenc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2315-F21C-480C-ABD7-8FCAF5C52E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rchitecture du projet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62320" y="2066760"/>
            <a:ext cx="5211720" cy="3711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1050480" y="4879800"/>
            <a:ext cx="13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23f34"/>
                </a:solidFill>
                <a:latin typeface="Arial"/>
              </a:rPr>
              <a:t>Sous-système banc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66000" y="2875680"/>
            <a:ext cx="2066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b94d"/>
                </a:solidFill>
                <a:latin typeface="Arial"/>
              </a:rPr>
              <a:t>Serveur de </a:t>
            </a:r>
            <a:br>
              <a:rPr sz="1400"/>
            </a:br>
            <a:r>
              <a:rPr b="1" lang="en-US" sz="1400" spc="-1" strike="noStrike">
                <a:solidFill>
                  <a:srgbClr val="50b94d"/>
                </a:solidFill>
                <a:latin typeface="Arial"/>
              </a:rPr>
              <a:t>commerce électr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7407000" y="2565360"/>
            <a:ext cx="1319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rveurs de fourniss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3666960"/>
            <a:ext cx="144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25"/>
                </a:solidFill>
                <a:latin typeface="Arial"/>
              </a:rPr>
              <a:t>Serveur de parité moné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34400" y="410220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803960" y="509832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788120" y="45554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816200" y="5584320"/>
            <a:ext cx="4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788120" y="30218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93960" y="2371680"/>
            <a:ext cx="240480" cy="2018880"/>
            <a:chOff x="1893960" y="2371680"/>
            <a:chExt cx="240480" cy="2018880"/>
          </a:xfrm>
        </p:grpSpPr>
        <p:sp>
          <p:nvSpPr>
            <p:cNvPr id="121" name=""/>
            <p:cNvSpPr/>
            <p:nvPr/>
          </p:nvSpPr>
          <p:spPr>
            <a:xfrm rot="16200000">
              <a:off x="1776960" y="4060080"/>
              <a:ext cx="44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.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1803600" y="2488680"/>
              <a:ext cx="44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.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6200000">
            <a:off x="8280360" y="2706120"/>
            <a:ext cx="4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.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788120" y="356472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8434-8C3E-4C54-95CE-DE69EB0D40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Validation à deux phases (2PC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ordonner les validations effectuées par les participants d’une transaction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ne transaction : divisée en deux phas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Préparation des mises à jour sur les participant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Si réussite de phase 1 : Intégration effective des mises à jour préparées en phase 1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Si échec de phase 1 : Annulation des mises à jour préparées en phase 1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5C06-13C9-4461-B952-C961CCAECC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Validation à deux phases : pann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Panne du coordinateu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1 : Au redémarrage du coordinateur, envoi d’un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à tous les participa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2 : Au redémarrage du coordinateur, envoi d’un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ou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à tous les participants (selon décision prise en phase 1)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Panne d’un participan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1 : Décision prise par coordinateur es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. Au redémarrage du participant, contact coordinateur, devenir de la transaction (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), aband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2 : Au redémarrage du participant, contact coordinateur, devenir de la transaction (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ou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), validation ou aband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DDA9-825D-42B5-938D-EE47212911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Validation à deux phases : pann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  <a:ea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41440" y="1996920"/>
            <a:ext cx="3661920" cy="1800360"/>
            <a:chOff x="541440" y="1996920"/>
            <a:chExt cx="3661920" cy="1800360"/>
          </a:xfrm>
        </p:grpSpPr>
        <p:sp>
          <p:nvSpPr>
            <p:cNvPr id="250" name=""/>
            <p:cNvSpPr/>
            <p:nvPr/>
          </p:nvSpPr>
          <p:spPr>
            <a:xfrm>
              <a:off x="541440" y="1996920"/>
              <a:ext cx="3661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tat du coordinateur lors de la pa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440" y="2355840"/>
              <a:ext cx="3661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440" y="2716200"/>
              <a:ext cx="3661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P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440" y="3076560"/>
              <a:ext cx="3661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440" y="3436920"/>
              <a:ext cx="3661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LLBAC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203720" y="1996920"/>
            <a:ext cx="5165280" cy="1800360"/>
            <a:chOff x="4203720" y="1996920"/>
            <a:chExt cx="5165280" cy="1800360"/>
          </a:xfrm>
        </p:grpSpPr>
        <p:sp>
          <p:nvSpPr>
            <p:cNvPr id="256" name=""/>
            <p:cNvSpPr/>
            <p:nvPr/>
          </p:nvSpPr>
          <p:spPr>
            <a:xfrm>
              <a:off x="4203720" y="2355840"/>
              <a:ext cx="5165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action oubli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03720" y="1996920"/>
              <a:ext cx="5165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eprise après pa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03720" y="2716200"/>
              <a:ext cx="5165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er à l’état ROLLBACKED (annuler les opéra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03720" y="3076560"/>
              <a:ext cx="5165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rsuivre la vali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03720" y="3436920"/>
              <a:ext cx="5165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rsuivre l’aba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34960" y="5037120"/>
            <a:ext cx="3662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4960" y="5397480"/>
            <a:ext cx="3662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4960" y="5757840"/>
            <a:ext cx="3662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BA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4960" y="3957480"/>
            <a:ext cx="8828280" cy="719280"/>
            <a:chOff x="534960" y="3957480"/>
            <a:chExt cx="8828280" cy="719280"/>
          </a:xfrm>
        </p:grpSpPr>
        <p:sp>
          <p:nvSpPr>
            <p:cNvPr id="265" name=""/>
            <p:cNvSpPr/>
            <p:nvPr/>
          </p:nvSpPr>
          <p:spPr>
            <a:xfrm>
              <a:off x="534960" y="3957480"/>
              <a:ext cx="3662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tat du participant lors de la pa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4960" y="4316400"/>
              <a:ext cx="36622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7240" y="4316400"/>
              <a:ext cx="51660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action oubli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97240" y="3957480"/>
              <a:ext cx="51660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eprise après pa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197240" y="5037120"/>
            <a:ext cx="516600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r à l’état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7240" y="5397480"/>
            <a:ext cx="516600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r à l’état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7240" y="5757840"/>
            <a:ext cx="516600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r à l’état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960" y="4678200"/>
            <a:ext cx="3662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5800" y="4678200"/>
            <a:ext cx="516564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r à l’état ROLLBACKED (annuler les opér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7FB3-0064-44A6-BFCD-77B5B61EE3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Validation à deux phases : Traitement des pann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Panne d’un intervenant (coordinateur ou participant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Action effectuée lors de la reprise dépend de l’état de l’intervenant lors de la pann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ouvoir défaire des opérations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Utilisation de journaux (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logs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crire (log, état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crire (log, infos sur les opérations à effectuer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xécuter (opérations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8A76-1F39-4441-93D9-3ED61C4F04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émarrage de la transa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  <a:ea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535120" y="1920960"/>
            <a:ext cx="478656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DB85-F097-4C23-A991-E27150C0F3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ransaction validé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  <a:ea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336760" y="1922400"/>
            <a:ext cx="5391360" cy="395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C700-DFE0-4075-B7EA-F68AF12DF8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ransaction abandonné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355840" y="1917720"/>
            <a:ext cx="5388120" cy="39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1844-6B5C-445E-A7F6-80D6E72BCB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Interaction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tre le serveur de commerce et le coordinateur global (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begin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tre le coordinateur global et les gestionnaires locaux aux participants (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rol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prepar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éalisées par des RPC (requêtes CORBA)</a:t>
            </a:r>
            <a:br>
              <a:rPr sz="2000"/>
            </a:b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Gestionnaire local : métho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repare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fourni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Retour normal de la méthode : accord validation transaction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xception : pas d’accord de validation ou panne du participant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Identifiant transac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Apparaît explicitement dans appels de méthod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1DA6-DF9B-4651-8344-A5944BB71A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bjets persistants recouvrab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Objet persistant recouvrable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Objet persista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Hérite de la méthod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sav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 : sauvegarde atomique de l’état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Objet recouvrab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Nouvelle méthod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prepar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 : sauvegarde temporaire de l’état en attendant l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sav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 effectué en phase 2 de la validation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Nouvelle méthod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und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 : abandon de l’état temporairement sauvegardé, si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sav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 non effectué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86C4-F29B-4190-8DA5-D5E38E7453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éalisation du 2PC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erveur de commerc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Servle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Bu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begin : connexion avec le serveur de transaction, récupération d'un identifiant de transaction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débit du compte client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crédits des comptes fournisseurs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registrement de la commande dans la base du serveur de commerce électronique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vois de mail aux fournisseurs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envoi d’un mail au client de la preuve d’achat (avec la référence de la commande)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commit : validation de la transaction d'achat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ou rollback : annulation de la transaction d'achat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Contrôle de l'atomicité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F70C-6180-48C8-953A-6688CC67BC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u proje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Extension de eCO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Sous-système bancaire persistan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66"/>
                </a:solidFill>
                <a:latin typeface="Arial"/>
              </a:rPr>
              <a:t>Sous-système bancaire persistant et fiabl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écurisation des communication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fournisseur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6557-2C27-413C-944D-08FA55ACF6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Système transactionnel</a:t>
            </a:r>
            <a:br>
              <a:rPr sz="2400"/>
            </a:b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trôle de l’atomicité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otocole de validation à 2 phases (2PC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Gestion des pannes dans le 2PC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éalisation du 2PC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Contrôle de la concurrence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3547-342E-4E01-81EC-ECF6EE5409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ntrôle de la concurrence : Problématiqu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Transactions concurrent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Accès aux mêmes objets recouvrables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Problème d’incohérence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Ordonnancer les transactions concurrent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T1 avant T2 ou T2 avant T1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3480" y="1990800"/>
            <a:ext cx="403380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Début T1 (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&gt;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5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debit(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credit(2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 T1 (commit) : clt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3, frn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09160" y="1778040"/>
            <a:ext cx="0" cy="26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91600" y="43419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6040" y="2062080"/>
            <a:ext cx="196920" cy="2792520"/>
          </a:xfrm>
          <a:custGeom>
            <a:avLst/>
            <a:gdLst>
              <a:gd name="textAreaLeft" fmla="*/ 126000 w 196920"/>
              <a:gd name="textAreaRight" fmla="*/ 197280 w 196920"/>
              <a:gd name="textAreaTop" fmla="*/ 72720 h 2792520"/>
              <a:gd name="textAreaBottom" fmla="*/ 2719800 h 27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-2989080" y="1944720"/>
            <a:ext cx="12432960" cy="3042720"/>
            <a:chOff x="-2989080" y="1944720"/>
            <a:chExt cx="12432960" cy="3042720"/>
          </a:xfrm>
        </p:grpSpPr>
        <p:grpSp>
          <p:nvGrpSpPr>
            <p:cNvPr id="300" name=""/>
            <p:cNvGrpSpPr/>
            <p:nvPr/>
          </p:nvGrpSpPr>
          <p:grpSpPr>
            <a:xfrm>
              <a:off x="4751280" y="1944720"/>
              <a:ext cx="4692600" cy="3042720"/>
              <a:chOff x="4751280" y="1944720"/>
              <a:chExt cx="4692600" cy="3042720"/>
            </a:xfrm>
          </p:grpSpPr>
          <p:sp>
            <p:nvSpPr>
              <p:cNvPr id="301" name=""/>
              <p:cNvSpPr/>
              <p:nvPr/>
            </p:nvSpPr>
            <p:spPr>
              <a:xfrm>
                <a:off x="4952880" y="1944720"/>
                <a:ext cx="4491000" cy="30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-Début T2 (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-&gt;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, 1) : 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clt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3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.debit(1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.credit(1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in T2 (commit) : clt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2, frn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=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51280" y="2644920"/>
                <a:ext cx="212760" cy="1633320"/>
              </a:xfrm>
              <a:custGeom>
                <a:avLst/>
                <a:gdLst>
                  <a:gd name="textAreaLeft" fmla="*/ 136080 w 212760"/>
                  <a:gd name="textAreaRight" fmla="*/ 213120 w 212760"/>
                  <a:gd name="textAreaTop" fmla="*/ 42480 h 1633320"/>
                  <a:gd name="textAreaBottom" fmla="*/ 1590840 h 163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-2989080" y="2305080"/>
              <a:ext cx="1035324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0" y="2"/>
                  </a:moveTo>
                  <a:arcTo wR="10800" hR="10800" stAng="-5333004" swAng="53330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0" y="2"/>
                  </a:moveTo>
                  <a:arcTo wR="10800" hR="10800" stAng="-5333004" swAng="5333004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51360" y="1746360"/>
            <a:ext cx="3986280" cy="2807280"/>
            <a:chOff x="4851360" y="1746360"/>
            <a:chExt cx="3986280" cy="2807280"/>
          </a:xfrm>
        </p:grpSpPr>
        <p:grpSp>
          <p:nvGrpSpPr>
            <p:cNvPr id="305" name=""/>
            <p:cNvGrpSpPr/>
            <p:nvPr/>
          </p:nvGrpSpPr>
          <p:grpSpPr>
            <a:xfrm>
              <a:off x="5459400" y="1746360"/>
              <a:ext cx="3378240" cy="958680"/>
              <a:chOff x="5459400" y="1746360"/>
              <a:chExt cx="3378240" cy="958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880240" y="1746360"/>
                <a:ext cx="295740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Etat incohérent 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-Début T2 : clt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5, frn</a:t>
                </a:r>
                <a:r>
                  <a:rPr b="0" lang="fr-FR" sz="1600" spc="-1" strike="noStrike" baseline="-25000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0" lang="fr-FR" sz="1600" spc="-1" strike="noStrike">
                    <a:solidFill>
                      <a:srgbClr val="ff0000"/>
                    </a:solidFill>
                    <a:latin typeface="Arial"/>
                  </a:rPr>
                  <a:t> =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5459400" y="2113920"/>
                <a:ext cx="423720" cy="591120"/>
                <a:chOff x="5459400" y="2113920"/>
                <a:chExt cx="423720" cy="591120"/>
              </a:xfrm>
            </p:grpSpPr>
            <p:sp>
              <p:nvSpPr>
                <p:cNvPr id="308" name=""/>
                <p:cNvSpPr/>
                <p:nvPr/>
              </p:nvSpPr>
              <p:spPr>
                <a:xfrm rot="1918200">
                  <a:off x="5632200" y="2089080"/>
                  <a:ext cx="88920" cy="635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rot="19681800">
                  <a:off x="5621040" y="2093400"/>
                  <a:ext cx="89280" cy="6361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4851360" y="4182840"/>
              <a:ext cx="341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-Fin T2 (commit) : clt</a:t>
              </a:r>
              <a:r>
                <a:rPr b="0" lang="fr-FR" sz="1600" spc="-1" strike="noStrike" baseline="-25000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= 4, frn</a:t>
              </a:r>
              <a:r>
                <a:rPr b="0" lang="fr-FR" sz="1600" spc="-1" strike="noStrike" baseline="-25000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=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4C20-B898-4EBE-9818-17069A0C76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rdonnancement total des transactions par estampillag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 chaque transaction est associée une estampille unique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rdre d’accès à un objet recouvrable suivant estampilles croissantes des transactions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i transaction "en retard " (estampille inférieure), transaction abandonné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C9B9-E808-4E33-B8E6-B11D6ACF30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tota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Read (Ti, O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Stamp = O.getLast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trsStamp  = Ti.xid;</a:t>
            </a:r>
            <a:br>
              <a:rPr sz="2000"/>
            </a:b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f (objStamp &lt; trsStamp)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// Read O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.setLastStamp(trsStamp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Ti.rollback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FA30-55D2-4348-9FDE-4BB4FF691F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tota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Write (Ti, O, Val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Stamp = O.getLast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trsStamp  = Ti.xid;</a:t>
            </a:r>
            <a:br>
              <a:rPr sz="2000"/>
            </a:b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f (objStamp &lt; trsStamp)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// Write Val in O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.setLastStamp(trsStamp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Ti.rollback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EF19-1D8E-4BD3-9949-632D2BC924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total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xemple 1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3480" y="2943360"/>
            <a:ext cx="4033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-Début T1 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Read(T1, O) </a:t>
            </a:r>
            <a:r>
              <a:rPr b="0" lang="fr-FR" sz="16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 O_stamp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Write(T1, O, V1) </a:t>
            </a:r>
            <a:r>
              <a:rPr b="0" lang="fr-FR" sz="16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7d"/>
                </a:solidFill>
                <a:latin typeface="Arial"/>
              </a:rPr>
              <a:t>O_stamp &gt; T1_st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Fin T1 (</a:t>
            </a:r>
            <a:r>
              <a:rPr b="1" lang="fr-FR" sz="1600" spc="-1" strike="noStrike">
                <a:solidFill>
                  <a:srgbClr val="00007d"/>
                </a:solidFill>
                <a:latin typeface="Arial"/>
              </a:rPr>
              <a:t>rollback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09160" y="2251080"/>
            <a:ext cx="0" cy="33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91600" y="54687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6040" y="2903400"/>
            <a:ext cx="196920" cy="2792520"/>
          </a:xfrm>
          <a:custGeom>
            <a:avLst/>
            <a:gdLst>
              <a:gd name="textAreaLeft" fmla="*/ 126000 w 196920"/>
              <a:gd name="textAreaRight" fmla="*/ 197280 w 196920"/>
              <a:gd name="textAreaTop" fmla="*/ 72720 h 2792520"/>
              <a:gd name="textAreaBottom" fmla="*/ 2719800 h 27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738520"/>
            <a:ext cx="44910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-Début T2 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Read(T2, O)       </a:t>
            </a:r>
            <a:r>
              <a:rPr b="0" lang="fr-FR" sz="16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 O_stamp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Write(T2, O, V2) </a:t>
            </a:r>
            <a:r>
              <a:rPr b="0" lang="fr-FR" sz="16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 O_stamp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Fin T2 (comm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51280" y="3438360"/>
            <a:ext cx="212760" cy="1633680"/>
          </a:xfrm>
          <a:custGeom>
            <a:avLst/>
            <a:gdLst>
              <a:gd name="textAreaLeft" fmla="*/ 136080 w 212760"/>
              <a:gd name="textAreaRight" fmla="*/ 213120 w 21276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75080" y="2359080"/>
            <a:ext cx="4833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Init: T1_stamp = 100, T2_stamp = 200, O_stamp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804B-C166-4CD3-896B-5B3EB41A43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total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xemple 2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3480" y="2943360"/>
            <a:ext cx="40338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-Début T1 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Read(T1, O) </a:t>
            </a:r>
            <a:r>
              <a:rPr b="0" lang="fr-FR" sz="16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 O_stamp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Read(T1, O, V1) </a:t>
            </a:r>
            <a:r>
              <a:rPr b="0" lang="fr-FR" sz="16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7d"/>
                </a:solidFill>
                <a:latin typeface="Arial"/>
              </a:rPr>
              <a:t>O_stamp &gt; T1_st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Fin T1 (</a:t>
            </a:r>
            <a:r>
              <a:rPr b="1" lang="fr-FR" sz="1600" spc="-1" strike="noStrike">
                <a:solidFill>
                  <a:srgbClr val="00007d"/>
                </a:solidFill>
                <a:latin typeface="Arial"/>
              </a:rPr>
              <a:t>rollback</a:t>
            </a: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09160" y="2251080"/>
            <a:ext cx="0" cy="33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91600" y="54687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6040" y="2903400"/>
            <a:ext cx="196920" cy="2268720"/>
          </a:xfrm>
          <a:custGeom>
            <a:avLst/>
            <a:gdLst>
              <a:gd name="textAreaLeft" fmla="*/ 126000 w 196920"/>
              <a:gd name="textAreaRight" fmla="*/ 197280 w 196920"/>
              <a:gd name="textAreaTop" fmla="*/ 59040 h 2268720"/>
              <a:gd name="textAreaBottom" fmla="*/ 2209680 h 22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2738520"/>
            <a:ext cx="449100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-Début T2 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Read(T2, O)       </a:t>
            </a:r>
            <a:r>
              <a:rPr b="0" lang="fr-FR" sz="16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 O_stamp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Write(T2, O, V2) </a:t>
            </a:r>
            <a:r>
              <a:rPr b="0" lang="fr-FR" sz="16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 O_stamp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Fin T2 (comm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51280" y="3438360"/>
            <a:ext cx="228600" cy="2613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68040 h 2613240"/>
              <a:gd name="textAreaBottom" fmla="*/ 2545200 h 261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5080" y="2359080"/>
            <a:ext cx="4833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Init: T1_stamp = 100, T2_stamp = 200, O_stamp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42BD-B59F-4680-A34A-0C67B5ECCF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total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as nécessaire d’abandonner T1 après T2 si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ction effectuée par T1 est une lectur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ction effectuée par T2 est une lecture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l faut différencier ent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es action permutables (lecture-lecture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t les action non permutables (lecture-écriture,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écriture-lecture, écriture-écriture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ossibilité d’optimiser l’ordonnancement tota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68E5-EAB2-44CD-966C-3757B14660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partie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rdonnancement partiel = 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rdonnancement total 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pas d’abandon si lectures entrecroisé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rdonnancer les actions non permutabl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ux estampilles par objet recouvrabl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ampille de lectur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ampille d’écritur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0F58-E625-49EE-BFDB-2D2D5B8394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partie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Read (Ti, O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ReadStamp = O.getLastRead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WriteStamp = O.getLastWrite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trsStamp           = Ti.xid;</a:t>
            </a:r>
            <a:br>
              <a:rPr sz="2000"/>
            </a:b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f (objWriteStamp &gt; trsStamp)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Ti.rollback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// Read O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.setLastReadStamp(Max(trsStamp, objReadStamp )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E677-67BD-4629-9AF8-54949EA56D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xemple : Ordre d’achat d’un clie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n client envoie un ordre d’achat au serveur de commerce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ébit du compte du client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rédit du compte du fournisseu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tockage de la comman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nsmission de la commande au fournisseu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nvoi d’un e-mail au client avec une clé de preuve d’achat (à utiliser en cas de litige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84840" y="302112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t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-banc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2922480"/>
            <a:ext cx="212760" cy="833400"/>
          </a:xfrm>
          <a:custGeom>
            <a:avLst/>
            <a:gdLst>
              <a:gd name="textAreaLeft" fmla="*/ 0 w 212760"/>
              <a:gd name="textAreaRight" fmla="*/ 76680 w 212760"/>
              <a:gd name="textAreaTop" fmla="*/ 21600 h 833400"/>
              <a:gd name="textAreaBottom" fmla="*/ 81180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F1C7-3F1C-43C8-9F0C-CB15E07E89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lgorithme d’ordonnancement partie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Write (Ti, O, V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ReadStamp = O.getLastRead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objWriteStamp = O.getLastWriteStamp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nt trsStamp           = Ti.xid;</a:t>
            </a:r>
            <a:br>
              <a:rPr sz="2000"/>
            </a:b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f ((objReadStamp &gt; trsStamp) || (objWriteStamp &gt; trsStamp))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Ti.rollback(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// Write V in O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.setLastWriteStamp(trsStamp);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9F0F-B83C-47A7-BE38-102122E3AC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mplantation de l’ordonnancement partie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haque objet recouvrabl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2 nouveaux attributs : estampille de lecture et estampille d’écritu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haque méthode : teste si la transaction courante peut lire/écrire l’objet avant d’exécuter la métho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haque appel de méthode : peut lever une exception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ConcurrencyControlExcep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eut provoquer l’abandon de la transaction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rollback(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Contrôle de la concur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562F-921E-4838-B779-CD238BB0E3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Système transactionnel</a:t>
            </a:r>
            <a:br>
              <a:rPr sz="2400"/>
            </a:b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Contrôle de l’atomicité</a:t>
            </a:r>
            <a:br>
              <a:rPr sz="2400"/>
            </a:b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trôle de la concurrenc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oblématiqu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rdonnancement total et algorithm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rdonnancement partiel et algorithm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mplantation de l’ordonnancement partiel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43E7-CA0C-49AE-964B-BCE7D7E7F1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2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Implantation d’un sous-système bancaire persistant et fiable : Synthès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Hiérarchie transactionnelle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Gestionnaire de transaction : serveur CORBA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nsaction répartie sur plusieurs sit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itiateu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. Démarrage transac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ordinateur global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. Gestionnaire de transac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. Sur chaque site participant, un gestionnaire local de transaction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. Synthè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033C-5012-450C-92EF-1EB4D98327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2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ynthèse : 2PC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ransaction divisée en deux phas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Préparation des mises à jour sur les participant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Si réussite de phase 1 : Intégration effective des mises à jour préparées en phase 1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  <a:ea typeface="Arial"/>
              </a:rPr>
              <a:t>Si échec de phase 1 : Annulation des mises à jour préparées en phase 1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Pouvoir défaire des opérations : Utilisation de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log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crire (log, état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crire (log, infos sur les opérations à effectuer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xécuter (opérations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. Synthè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E11F-F453-435D-936B-E9D341422C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2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ynthèse : 2PC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Interaction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serveur de commerce – coordinateur global (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begin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coordinateur global – gestionnaires locaux (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nrol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repare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commi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ollback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réalisées par des RPC (requêtes CORBA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Gestionnaire local : métho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repare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 fournie (accord validation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Identifiant transac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Apparaît explicitement dans appels de méthodes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Objet persistant recouvrabl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ersistant : hérite de la métho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sav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Recouvrable : nouvelles méthodes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prepare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e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  <a:ea typeface="Arial"/>
              </a:rPr>
              <a:t>undo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. Synthè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06DC-FAD7-489E-ACF5-B0BB4ED07B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2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ynthèse : Ordonnancement partie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haque objet recouvrabl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2 nouveaux attributs : estampille de lecture et estampille d’écritu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haque méthode : teste si la transaction courante peut lire/écrire l’objet avant d’exécuter la métho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haque appel de méthode : peut lever une exception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ConcurrencyControlExcep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eut provoquer l’abandon de la transaction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rollback(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. Synthè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24BF-0BC8-49B8-977D-7343E88D60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2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Synthèse : Servlet Bu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begin : connexion avec le serveur de transaction, récupération d'un identifiant de transaction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débit du compte client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crédits des comptes fournisseur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enregistrement de la commande dans la base du serveur de commerce électronique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envois de mail aux fournisseur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envoi d’un mail au client de la preuve d’achat (avec la référence de la commande)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commit : validation de la transaction d'achat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  <a:ea typeface="Arial"/>
              </a:rPr>
              <a:t>ou rollback : annulation de la transaction d'acha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. Synthè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E631-58B2-4C96-8FA5-ADF961AAF3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rdre d’achat dans un contexte réparti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6080" y="2565360"/>
            <a:ext cx="925560" cy="827280"/>
          </a:xfrm>
          <a:prstGeom prst="cube">
            <a:avLst>
              <a:gd name="adj" fmla="val 17083"/>
            </a:avLst>
          </a:prstGeom>
          <a:solidFill>
            <a:srgbClr val="b0f9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6320" y="2379600"/>
            <a:ext cx="3549600" cy="1800360"/>
          </a:xfrm>
          <a:prstGeom prst="cube">
            <a:avLst>
              <a:gd name="adj" fmla="val 11462"/>
            </a:avLst>
          </a:prstGeom>
          <a:solidFill>
            <a:srgbClr val="b0f9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eur de commerce 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91320" y="2466360"/>
            <a:ext cx="1662120" cy="756720"/>
          </a:xfrm>
          <a:prstGeom prst="cube">
            <a:avLst>
              <a:gd name="adj" fmla="val 15152"/>
            </a:avLst>
          </a:prstGeom>
          <a:solidFill>
            <a:srgbClr val="b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 de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4040" y="4723560"/>
            <a:ext cx="1741680" cy="1068840"/>
          </a:xfrm>
          <a:prstGeom prst="cube">
            <a:avLst>
              <a:gd name="adj" fmla="val 14249"/>
            </a:avLst>
          </a:prstGeom>
          <a:solidFill>
            <a:srgbClr val="ff9d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 de banque 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35400" y="4721400"/>
            <a:ext cx="1740240" cy="1050840"/>
          </a:xfrm>
          <a:prstGeom prst="cube">
            <a:avLst>
              <a:gd name="adj" fmla="val 12796"/>
            </a:avLst>
          </a:prstGeom>
          <a:solidFill>
            <a:srgbClr val="ff9d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 de banque du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2640" y="3149640"/>
            <a:ext cx="934920" cy="718920"/>
          </a:xfrm>
          <a:prstGeom prst="rect">
            <a:avLst/>
          </a:prstGeom>
          <a:solidFill>
            <a:srgbClr val="b0f9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SP / Serv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86080" y="3157560"/>
            <a:ext cx="935280" cy="719280"/>
          </a:xfrm>
          <a:prstGeom prst="rect">
            <a:avLst/>
          </a:prstGeom>
          <a:solidFill>
            <a:srgbClr val="b0f9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84760" y="3138480"/>
            <a:ext cx="585720" cy="539280"/>
          </a:xfrm>
          <a:prstGeom prst="can">
            <a:avLst>
              <a:gd name="adj" fmla="val 25000"/>
            </a:avLst>
          </a:prstGeom>
          <a:solidFill>
            <a:srgbClr val="b0f9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41960" y="343044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59720" y="293832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239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25920" y="4327560"/>
            <a:ext cx="44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0040" y="3141720"/>
            <a:ext cx="44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3680" y="2603520"/>
            <a:ext cx="44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41720" y="2651040"/>
            <a:ext cx="4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4480" y="43480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é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21360" y="4321080"/>
            <a:ext cx="62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é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29080" y="4309920"/>
            <a:ext cx="0" cy="3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9040" y="431640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7720" y="4349880"/>
            <a:ext cx="44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27200" y="3908520"/>
            <a:ext cx="6227640" cy="1371960"/>
            <a:chOff x="727200" y="3908520"/>
            <a:chExt cx="6227640" cy="1371960"/>
          </a:xfrm>
        </p:grpSpPr>
        <p:sp>
          <p:nvSpPr>
            <p:cNvPr id="154" name=""/>
            <p:cNvSpPr/>
            <p:nvPr/>
          </p:nvSpPr>
          <p:spPr>
            <a:xfrm>
              <a:off x="2530440" y="4262400"/>
              <a:ext cx="4424400" cy="3254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7200" y="3908520"/>
              <a:ext cx="1746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6600"/>
                  </a:solidFill>
                  <a:latin typeface="Arial"/>
                </a:rPr>
                <a:t>Transfer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ff6600"/>
                  </a:solidFill>
                  <a:latin typeface="Arial"/>
                </a:rPr>
                <a:t>inter-bancaire </a:t>
              </a:r>
              <a:r>
                <a:rPr b="1" i="1" lang="en-US" sz="1800" spc="-1" strike="noStrike" u="sng">
                  <a:solidFill>
                    <a:srgbClr val="ff6600"/>
                  </a:solidFill>
                  <a:uFillTx/>
                  <a:latin typeface="Arial"/>
                </a:rPr>
                <a:t>fiable</a:t>
              </a:r>
              <a:r>
                <a:rPr b="1" i="1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</a:t>
              </a:r>
              <a:r>
                <a:rPr b="1" i="1" lang="en-US" sz="1800" spc="-1" strike="noStrike">
                  <a:solidFill>
                    <a:srgbClr val="ff6600"/>
                  </a:solidFill>
                  <a:latin typeface="Arial"/>
                </a:rPr>
                <a:t> Opérations indivisi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21D7-6C7F-4169-B5B0-33B11BC01E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pérations indivisibles (atomiques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03360" y="2568600"/>
            <a:ext cx="7199280" cy="1800360"/>
            <a:chOff x="1503360" y="2568600"/>
            <a:chExt cx="7199280" cy="1800360"/>
          </a:xfrm>
        </p:grpSpPr>
        <p:sp>
          <p:nvSpPr>
            <p:cNvPr id="159" name=""/>
            <p:cNvSpPr/>
            <p:nvPr/>
          </p:nvSpPr>
          <p:spPr>
            <a:xfrm>
              <a:off x="1503360" y="292752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28788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3360" y="256860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ébit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64080" y="256860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édit fourn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92752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4080" y="3287880"/>
              <a:ext cx="215892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3360" y="3648240"/>
              <a:ext cx="4319640" cy="720720"/>
              <a:chOff x="1503360" y="3648240"/>
              <a:chExt cx="4319640" cy="720720"/>
            </a:xfrm>
          </p:grpSpPr>
          <p:sp>
            <p:nvSpPr>
              <p:cNvPr id="166" name=""/>
              <p:cNvSpPr/>
              <p:nvPr/>
            </p:nvSpPr>
            <p:spPr>
              <a:xfrm>
                <a:off x="1503360" y="3648240"/>
                <a:ext cx="215892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03360" y="4008600"/>
                <a:ext cx="215892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63720" y="3648240"/>
                <a:ext cx="215928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63720" y="4008600"/>
                <a:ext cx="215928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823000" y="2927520"/>
              <a:ext cx="287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Arial"/>
                </a:rPr>
                <a:t>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3000" y="2568600"/>
              <a:ext cx="287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t inter-banc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3000" y="3287880"/>
              <a:ext cx="287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23000" y="3648240"/>
              <a:ext cx="287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3000" y="4008600"/>
              <a:ext cx="287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n effectu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65360" y="4751280"/>
            <a:ext cx="69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érations effectuées dans le contexte d’un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B538-95BC-4558-8ED6-C3CE2D7ABD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ystème transactionnel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ontrôle de l’atomicité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ontrôle de la concurrence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ynthès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6624-CE88-421B-A127-C5DD4B960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ransa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Une transaction regroupe une suite d’opérations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Une transaction se termine par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Un succès : validation (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commit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) des opération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Un échec : abandon (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abort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rollback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) des opérations, 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our cause 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éfaillance du systèm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iolation de contraintes d’intégrité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rogramme se rétracte avant la fi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E9B9-6429-45E8-B505-C70A8CA471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opriétés ACID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tomicité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équence d’opérations constituant une transaction est indivisible : soit toutes les opérations sont exécutées, soit aucune ne l’es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hérenc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traintes d’intégrité du système vérifiées à la fin d’une transac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vant la fin d’une transaction, les modifications apportées par celle-ci ne sont pas visibles par les autres transactions concurrent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urabilité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es mises à jour validées par une transaction sont durables malgré les pannes potentielles du systèm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Système transactionn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6F86-4CE8-4837-989E-12E89FDFB4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5:12:03Z</dcterms:created>
  <dc:creator>Sara Bouchenak</dc:creator>
  <dc:description/>
  <dc:language>en-US</dc:language>
  <cp:lastModifiedBy>Sara Bouchenak</cp:lastModifiedBy>
  <cp:lastPrinted>1999-03-27T19:11:36Z</cp:lastPrinted>
  <dcterms:modified xsi:type="dcterms:W3CDTF">2005-01-10T12:07:27Z</dcterms:modified>
  <cp:revision>895</cp:revision>
  <dc:subject/>
  <dc:title>Mobilet</dc:title>
</cp:coreProperties>
</file>