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774238"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7" name="PlaceHolder 2"/>
          <p:cNvSpPr>
            <a:spLocks noGrp="1"/>
          </p:cNvSpPr>
          <p:nvPr>
            <p:ph/>
          </p:nvPr>
        </p:nvSpPr>
        <p:spPr>
          <a:xfrm>
            <a:off x="488520" y="1604520"/>
            <a:ext cx="8796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3"/>
          <p:cNvSpPr>
            <a:spLocks noGrp="1"/>
          </p:cNvSpPr>
          <p:nvPr>
            <p:ph/>
          </p:nvPr>
        </p:nvSpPr>
        <p:spPr>
          <a:xfrm>
            <a:off x="488520" y="3682080"/>
            <a:ext cx="8796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0" name="PlaceHolder 2"/>
          <p:cNvSpPr>
            <a:spLocks noGrp="1"/>
          </p:cNvSpPr>
          <p:nvPr>
            <p:ph/>
          </p:nvPr>
        </p:nvSpPr>
        <p:spPr>
          <a:xfrm>
            <a:off x="488520" y="1604520"/>
            <a:ext cx="4292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1" name="PlaceHolder 3"/>
          <p:cNvSpPr>
            <a:spLocks noGrp="1"/>
          </p:cNvSpPr>
          <p:nvPr>
            <p:ph/>
          </p:nvPr>
        </p:nvSpPr>
        <p:spPr>
          <a:xfrm>
            <a:off x="4995720" y="1604520"/>
            <a:ext cx="4292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2" name="PlaceHolder 4"/>
          <p:cNvSpPr>
            <a:spLocks noGrp="1"/>
          </p:cNvSpPr>
          <p:nvPr>
            <p:ph/>
          </p:nvPr>
        </p:nvSpPr>
        <p:spPr>
          <a:xfrm>
            <a:off x="488520" y="3682080"/>
            <a:ext cx="4292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3" name="PlaceHolder 5"/>
          <p:cNvSpPr>
            <a:spLocks noGrp="1"/>
          </p:cNvSpPr>
          <p:nvPr>
            <p:ph/>
          </p:nvPr>
        </p:nvSpPr>
        <p:spPr>
          <a:xfrm>
            <a:off x="4995720" y="3682080"/>
            <a:ext cx="4292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5" name="PlaceHolder 2"/>
          <p:cNvSpPr>
            <a:spLocks noGrp="1"/>
          </p:cNvSpPr>
          <p:nvPr>
            <p:ph/>
          </p:nvPr>
        </p:nvSpPr>
        <p:spPr>
          <a:xfrm>
            <a:off x="488520" y="1604520"/>
            <a:ext cx="283212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6" name="PlaceHolder 3"/>
          <p:cNvSpPr>
            <a:spLocks noGrp="1"/>
          </p:cNvSpPr>
          <p:nvPr>
            <p:ph/>
          </p:nvPr>
        </p:nvSpPr>
        <p:spPr>
          <a:xfrm>
            <a:off x="3462480" y="1604520"/>
            <a:ext cx="283212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7" name="PlaceHolder 4"/>
          <p:cNvSpPr>
            <a:spLocks noGrp="1"/>
          </p:cNvSpPr>
          <p:nvPr>
            <p:ph/>
          </p:nvPr>
        </p:nvSpPr>
        <p:spPr>
          <a:xfrm>
            <a:off x="6436800" y="1604520"/>
            <a:ext cx="283212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8" name="PlaceHolder 5"/>
          <p:cNvSpPr>
            <a:spLocks noGrp="1"/>
          </p:cNvSpPr>
          <p:nvPr>
            <p:ph/>
          </p:nvPr>
        </p:nvSpPr>
        <p:spPr>
          <a:xfrm>
            <a:off x="488520" y="3682080"/>
            <a:ext cx="283212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9" name="PlaceHolder 6"/>
          <p:cNvSpPr>
            <a:spLocks noGrp="1"/>
          </p:cNvSpPr>
          <p:nvPr>
            <p:ph/>
          </p:nvPr>
        </p:nvSpPr>
        <p:spPr>
          <a:xfrm>
            <a:off x="3462480" y="3682080"/>
            <a:ext cx="283212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0" name="PlaceHolder 7"/>
          <p:cNvSpPr>
            <a:spLocks noGrp="1"/>
          </p:cNvSpPr>
          <p:nvPr>
            <p:ph/>
          </p:nvPr>
        </p:nvSpPr>
        <p:spPr>
          <a:xfrm>
            <a:off x="6436800" y="3682080"/>
            <a:ext cx="283212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6" name="PlaceHolder 2"/>
          <p:cNvSpPr>
            <a:spLocks noGrp="1"/>
          </p:cNvSpPr>
          <p:nvPr>
            <p:ph type="subTitle"/>
          </p:nvPr>
        </p:nvSpPr>
        <p:spPr>
          <a:xfrm>
            <a:off x="488520" y="1604520"/>
            <a:ext cx="8796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8" name="PlaceHolder 2"/>
          <p:cNvSpPr>
            <a:spLocks noGrp="1"/>
          </p:cNvSpPr>
          <p:nvPr>
            <p:ph/>
          </p:nvPr>
        </p:nvSpPr>
        <p:spPr>
          <a:xfrm>
            <a:off x="488520" y="1604520"/>
            <a:ext cx="8796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0" name="PlaceHolder 2"/>
          <p:cNvSpPr>
            <a:spLocks noGrp="1"/>
          </p:cNvSpPr>
          <p:nvPr>
            <p:ph/>
          </p:nvPr>
        </p:nvSpPr>
        <p:spPr>
          <a:xfrm>
            <a:off x="488520" y="1604520"/>
            <a:ext cx="4292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3"/>
          <p:cNvSpPr>
            <a:spLocks noGrp="1"/>
          </p:cNvSpPr>
          <p:nvPr>
            <p:ph/>
          </p:nvPr>
        </p:nvSpPr>
        <p:spPr>
          <a:xfrm>
            <a:off x="4995720" y="1604520"/>
            <a:ext cx="4292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88520" y="273600"/>
            <a:ext cx="8796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5" name="PlaceHolder 2"/>
          <p:cNvSpPr>
            <a:spLocks noGrp="1"/>
          </p:cNvSpPr>
          <p:nvPr>
            <p:ph/>
          </p:nvPr>
        </p:nvSpPr>
        <p:spPr>
          <a:xfrm>
            <a:off x="488520" y="1604520"/>
            <a:ext cx="4292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6" name="PlaceHolder 3"/>
          <p:cNvSpPr>
            <a:spLocks noGrp="1"/>
          </p:cNvSpPr>
          <p:nvPr>
            <p:ph/>
          </p:nvPr>
        </p:nvSpPr>
        <p:spPr>
          <a:xfrm>
            <a:off x="4995720" y="1604520"/>
            <a:ext cx="4292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7" name="PlaceHolder 4"/>
          <p:cNvSpPr>
            <a:spLocks noGrp="1"/>
          </p:cNvSpPr>
          <p:nvPr>
            <p:ph/>
          </p:nvPr>
        </p:nvSpPr>
        <p:spPr>
          <a:xfrm>
            <a:off x="488520" y="3682080"/>
            <a:ext cx="4292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9" name="PlaceHolder 2"/>
          <p:cNvSpPr>
            <a:spLocks noGrp="1"/>
          </p:cNvSpPr>
          <p:nvPr>
            <p:ph/>
          </p:nvPr>
        </p:nvSpPr>
        <p:spPr>
          <a:xfrm>
            <a:off x="488520" y="1604520"/>
            <a:ext cx="4292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0" name="PlaceHolder 3"/>
          <p:cNvSpPr>
            <a:spLocks noGrp="1"/>
          </p:cNvSpPr>
          <p:nvPr>
            <p:ph/>
          </p:nvPr>
        </p:nvSpPr>
        <p:spPr>
          <a:xfrm>
            <a:off x="4995720" y="1604520"/>
            <a:ext cx="4292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4"/>
          <p:cNvSpPr>
            <a:spLocks noGrp="1"/>
          </p:cNvSpPr>
          <p:nvPr>
            <p:ph/>
          </p:nvPr>
        </p:nvSpPr>
        <p:spPr>
          <a:xfrm>
            <a:off x="4995720" y="3682080"/>
            <a:ext cx="4292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3" name="PlaceHolder 2"/>
          <p:cNvSpPr>
            <a:spLocks noGrp="1"/>
          </p:cNvSpPr>
          <p:nvPr>
            <p:ph/>
          </p:nvPr>
        </p:nvSpPr>
        <p:spPr>
          <a:xfrm>
            <a:off x="488520" y="1604520"/>
            <a:ext cx="4292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4" name="PlaceHolder 3"/>
          <p:cNvSpPr>
            <a:spLocks noGrp="1"/>
          </p:cNvSpPr>
          <p:nvPr>
            <p:ph/>
          </p:nvPr>
        </p:nvSpPr>
        <p:spPr>
          <a:xfrm>
            <a:off x="4995720" y="1604520"/>
            <a:ext cx="4292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4"/>
          <p:cNvSpPr>
            <a:spLocks noGrp="1"/>
          </p:cNvSpPr>
          <p:nvPr>
            <p:ph/>
          </p:nvPr>
        </p:nvSpPr>
        <p:spPr>
          <a:xfrm>
            <a:off x="488520" y="3682080"/>
            <a:ext cx="8796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0" name=""/>
          <p:cNvGrpSpPr/>
          <p:nvPr/>
        </p:nvGrpSpPr>
        <p:grpSpPr>
          <a:xfrm>
            <a:off x="2081160" y="720720"/>
            <a:ext cx="5628240" cy="5416920"/>
            <a:chOff x="2081160" y="720720"/>
            <a:chExt cx="5628240" cy="5416920"/>
          </a:xfrm>
        </p:grpSpPr>
        <p:sp>
          <p:nvSpPr>
            <p:cNvPr id="1" name=""/>
            <p:cNvSpPr/>
            <p:nvPr/>
          </p:nvSpPr>
          <p:spPr>
            <a:xfrm>
              <a:off x="3849840" y="720720"/>
              <a:ext cx="2091240" cy="5416920"/>
            </a:xfrm>
            <a:custGeom>
              <a:avLst/>
              <a:gdLst/>
              <a:ahLst/>
              <a:rect l="0" t="0" r="r" b="b"/>
              <a:pathLst>
                <a:path w="5809" h="15047">
                  <a:moveTo>
                    <a:pt x="5804" y="2505"/>
                  </a:moveTo>
                  <a:lnTo>
                    <a:pt x="5782" y="2518"/>
                  </a:lnTo>
                  <a:lnTo>
                    <a:pt x="3534" y="2518"/>
                  </a:lnTo>
                  <a:lnTo>
                    <a:pt x="3528" y="2518"/>
                  </a:lnTo>
                  <a:lnTo>
                    <a:pt x="3523" y="2518"/>
                  </a:lnTo>
                  <a:lnTo>
                    <a:pt x="3517" y="2524"/>
                  </a:lnTo>
                  <a:lnTo>
                    <a:pt x="3512" y="2524"/>
                  </a:lnTo>
                  <a:lnTo>
                    <a:pt x="3512" y="2530"/>
                  </a:lnTo>
                  <a:lnTo>
                    <a:pt x="3506" y="2530"/>
                  </a:lnTo>
                  <a:lnTo>
                    <a:pt x="3506" y="3001"/>
                  </a:lnTo>
                  <a:lnTo>
                    <a:pt x="3517" y="3014"/>
                  </a:lnTo>
                  <a:lnTo>
                    <a:pt x="3528" y="3027"/>
                  </a:lnTo>
                  <a:lnTo>
                    <a:pt x="3539" y="3039"/>
                  </a:lnTo>
                  <a:lnTo>
                    <a:pt x="3550" y="3052"/>
                  </a:lnTo>
                  <a:lnTo>
                    <a:pt x="3567" y="3065"/>
                  </a:lnTo>
                  <a:lnTo>
                    <a:pt x="3578" y="3071"/>
                  </a:lnTo>
                  <a:lnTo>
                    <a:pt x="3589" y="3084"/>
                  </a:lnTo>
                  <a:lnTo>
                    <a:pt x="3600" y="3096"/>
                  </a:lnTo>
                  <a:lnTo>
                    <a:pt x="3611" y="3109"/>
                  </a:lnTo>
                  <a:lnTo>
                    <a:pt x="3627" y="3116"/>
                  </a:lnTo>
                  <a:lnTo>
                    <a:pt x="3639" y="3128"/>
                  </a:lnTo>
                  <a:lnTo>
                    <a:pt x="3650" y="3141"/>
                  </a:lnTo>
                  <a:lnTo>
                    <a:pt x="3661" y="3147"/>
                  </a:lnTo>
                  <a:lnTo>
                    <a:pt x="3677" y="3160"/>
                  </a:lnTo>
                  <a:lnTo>
                    <a:pt x="3688" y="3166"/>
                  </a:lnTo>
                  <a:lnTo>
                    <a:pt x="3699" y="3179"/>
                  </a:lnTo>
                  <a:lnTo>
                    <a:pt x="3727" y="3211"/>
                  </a:lnTo>
                  <a:lnTo>
                    <a:pt x="3760" y="3236"/>
                  </a:lnTo>
                  <a:lnTo>
                    <a:pt x="3788" y="3262"/>
                  </a:lnTo>
                  <a:lnTo>
                    <a:pt x="3815" y="3294"/>
                  </a:lnTo>
                  <a:lnTo>
                    <a:pt x="3843" y="3319"/>
                  </a:lnTo>
                  <a:lnTo>
                    <a:pt x="3870" y="3351"/>
                  </a:lnTo>
                  <a:lnTo>
                    <a:pt x="3898" y="3376"/>
                  </a:lnTo>
                  <a:lnTo>
                    <a:pt x="3926" y="3402"/>
                  </a:lnTo>
                  <a:lnTo>
                    <a:pt x="3953" y="3433"/>
                  </a:lnTo>
                  <a:lnTo>
                    <a:pt x="3981" y="3459"/>
                  </a:lnTo>
                  <a:lnTo>
                    <a:pt x="4008" y="3491"/>
                  </a:lnTo>
                  <a:lnTo>
                    <a:pt x="4036" y="3523"/>
                  </a:lnTo>
                  <a:lnTo>
                    <a:pt x="4064" y="3548"/>
                  </a:lnTo>
                  <a:lnTo>
                    <a:pt x="4091" y="3580"/>
                  </a:lnTo>
                  <a:lnTo>
                    <a:pt x="4113" y="3612"/>
                  </a:lnTo>
                  <a:lnTo>
                    <a:pt x="4141" y="3643"/>
                  </a:lnTo>
                  <a:lnTo>
                    <a:pt x="4146" y="3650"/>
                  </a:lnTo>
                  <a:lnTo>
                    <a:pt x="4146" y="3656"/>
                  </a:lnTo>
                  <a:lnTo>
                    <a:pt x="4152" y="3656"/>
                  </a:lnTo>
                  <a:lnTo>
                    <a:pt x="4152" y="3662"/>
                  </a:lnTo>
                  <a:lnTo>
                    <a:pt x="4157" y="3669"/>
                  </a:lnTo>
                  <a:lnTo>
                    <a:pt x="4163" y="3669"/>
                  </a:lnTo>
                  <a:lnTo>
                    <a:pt x="4163" y="3675"/>
                  </a:lnTo>
                  <a:lnTo>
                    <a:pt x="4169" y="3675"/>
                  </a:lnTo>
                  <a:lnTo>
                    <a:pt x="4174" y="3682"/>
                  </a:lnTo>
                  <a:lnTo>
                    <a:pt x="4174" y="3688"/>
                  </a:lnTo>
                  <a:lnTo>
                    <a:pt x="4180" y="3688"/>
                  </a:lnTo>
                  <a:lnTo>
                    <a:pt x="4180" y="3694"/>
                  </a:lnTo>
                  <a:lnTo>
                    <a:pt x="4185" y="3701"/>
                  </a:lnTo>
                  <a:lnTo>
                    <a:pt x="4191" y="3701"/>
                  </a:lnTo>
                  <a:lnTo>
                    <a:pt x="4196" y="3707"/>
                  </a:lnTo>
                  <a:lnTo>
                    <a:pt x="4196" y="3713"/>
                  </a:lnTo>
                  <a:lnTo>
                    <a:pt x="4202" y="3720"/>
                  </a:lnTo>
                  <a:lnTo>
                    <a:pt x="4207" y="3726"/>
                  </a:lnTo>
                  <a:lnTo>
                    <a:pt x="4213" y="3732"/>
                  </a:lnTo>
                  <a:lnTo>
                    <a:pt x="4218" y="3739"/>
                  </a:lnTo>
                  <a:lnTo>
                    <a:pt x="4224" y="3745"/>
                  </a:lnTo>
                  <a:lnTo>
                    <a:pt x="4229" y="3751"/>
                  </a:lnTo>
                  <a:lnTo>
                    <a:pt x="4235" y="3758"/>
                  </a:lnTo>
                  <a:lnTo>
                    <a:pt x="4240" y="3765"/>
                  </a:lnTo>
                  <a:lnTo>
                    <a:pt x="4246" y="3772"/>
                  </a:lnTo>
                  <a:lnTo>
                    <a:pt x="4246" y="3778"/>
                  </a:lnTo>
                  <a:lnTo>
                    <a:pt x="4251" y="3784"/>
                  </a:lnTo>
                  <a:lnTo>
                    <a:pt x="4257" y="3791"/>
                  </a:lnTo>
                  <a:lnTo>
                    <a:pt x="4329" y="3886"/>
                  </a:lnTo>
                  <a:lnTo>
                    <a:pt x="4401" y="3981"/>
                  </a:lnTo>
                  <a:lnTo>
                    <a:pt x="4468" y="4077"/>
                  </a:lnTo>
                  <a:lnTo>
                    <a:pt x="4534" y="4179"/>
                  </a:lnTo>
                  <a:lnTo>
                    <a:pt x="4600" y="4274"/>
                  </a:lnTo>
                  <a:lnTo>
                    <a:pt x="4661" y="4382"/>
                  </a:lnTo>
                  <a:lnTo>
                    <a:pt x="4722" y="4484"/>
                  </a:lnTo>
                  <a:lnTo>
                    <a:pt x="4777" y="4586"/>
                  </a:lnTo>
                  <a:lnTo>
                    <a:pt x="4832" y="4694"/>
                  </a:lnTo>
                  <a:lnTo>
                    <a:pt x="4887" y="4802"/>
                  </a:lnTo>
                  <a:lnTo>
                    <a:pt x="4937" y="4910"/>
                  </a:lnTo>
                  <a:lnTo>
                    <a:pt x="4987" y="5018"/>
                  </a:lnTo>
                  <a:lnTo>
                    <a:pt x="5031" y="5132"/>
                  </a:lnTo>
                  <a:lnTo>
                    <a:pt x="5080" y="5241"/>
                  </a:lnTo>
                  <a:lnTo>
                    <a:pt x="5119" y="5355"/>
                  </a:lnTo>
                  <a:lnTo>
                    <a:pt x="5163" y="5469"/>
                  </a:lnTo>
                  <a:lnTo>
                    <a:pt x="5191" y="5552"/>
                  </a:lnTo>
                  <a:lnTo>
                    <a:pt x="5218" y="5648"/>
                  </a:lnTo>
                  <a:lnTo>
                    <a:pt x="5246" y="5737"/>
                  </a:lnTo>
                  <a:lnTo>
                    <a:pt x="5274" y="5826"/>
                  </a:lnTo>
                  <a:lnTo>
                    <a:pt x="5296" y="5915"/>
                  </a:lnTo>
                  <a:lnTo>
                    <a:pt x="5318" y="6004"/>
                  </a:lnTo>
                  <a:lnTo>
                    <a:pt x="5340" y="6099"/>
                  </a:lnTo>
                  <a:lnTo>
                    <a:pt x="5362" y="6188"/>
                  </a:lnTo>
                  <a:lnTo>
                    <a:pt x="5379" y="6283"/>
                  </a:lnTo>
                  <a:lnTo>
                    <a:pt x="5395" y="6379"/>
                  </a:lnTo>
                  <a:lnTo>
                    <a:pt x="5412" y="6468"/>
                  </a:lnTo>
                  <a:lnTo>
                    <a:pt x="5428" y="6563"/>
                  </a:lnTo>
                  <a:lnTo>
                    <a:pt x="5439" y="6659"/>
                  </a:lnTo>
                  <a:lnTo>
                    <a:pt x="5450" y="6760"/>
                  </a:lnTo>
                  <a:lnTo>
                    <a:pt x="5461" y="6856"/>
                  </a:lnTo>
                  <a:lnTo>
                    <a:pt x="5467" y="6951"/>
                  </a:lnTo>
                  <a:lnTo>
                    <a:pt x="5478" y="7078"/>
                  </a:lnTo>
                  <a:lnTo>
                    <a:pt x="5483" y="7212"/>
                  </a:lnTo>
                  <a:lnTo>
                    <a:pt x="5489" y="7339"/>
                  </a:lnTo>
                  <a:lnTo>
                    <a:pt x="5489" y="7466"/>
                  </a:lnTo>
                  <a:lnTo>
                    <a:pt x="5489" y="7600"/>
                  </a:lnTo>
                  <a:lnTo>
                    <a:pt x="5489" y="7727"/>
                  </a:lnTo>
                  <a:lnTo>
                    <a:pt x="5483" y="7861"/>
                  </a:lnTo>
                  <a:lnTo>
                    <a:pt x="5472" y="7988"/>
                  </a:lnTo>
                  <a:lnTo>
                    <a:pt x="5467" y="8115"/>
                  </a:lnTo>
                  <a:lnTo>
                    <a:pt x="5450" y="8248"/>
                  </a:lnTo>
                  <a:lnTo>
                    <a:pt x="5439" y="8376"/>
                  </a:lnTo>
                  <a:lnTo>
                    <a:pt x="5417" y="8503"/>
                  </a:lnTo>
                  <a:lnTo>
                    <a:pt x="5401" y="8624"/>
                  </a:lnTo>
                  <a:lnTo>
                    <a:pt x="5373" y="8751"/>
                  </a:lnTo>
                  <a:lnTo>
                    <a:pt x="5351" y="8872"/>
                  </a:lnTo>
                  <a:lnTo>
                    <a:pt x="5323" y="8992"/>
                  </a:lnTo>
                  <a:lnTo>
                    <a:pt x="5307" y="9043"/>
                  </a:lnTo>
                  <a:lnTo>
                    <a:pt x="5296" y="9094"/>
                  </a:lnTo>
                  <a:lnTo>
                    <a:pt x="5279" y="9151"/>
                  </a:lnTo>
                  <a:lnTo>
                    <a:pt x="5268" y="9202"/>
                  </a:lnTo>
                  <a:lnTo>
                    <a:pt x="5252" y="9253"/>
                  </a:lnTo>
                  <a:lnTo>
                    <a:pt x="5235" y="9310"/>
                  </a:lnTo>
                  <a:lnTo>
                    <a:pt x="5224" y="9361"/>
                  </a:lnTo>
                  <a:lnTo>
                    <a:pt x="5207" y="9412"/>
                  </a:lnTo>
                  <a:lnTo>
                    <a:pt x="5191" y="9463"/>
                  </a:lnTo>
                  <a:lnTo>
                    <a:pt x="5174" y="9514"/>
                  </a:lnTo>
                  <a:lnTo>
                    <a:pt x="5158" y="9565"/>
                  </a:lnTo>
                  <a:lnTo>
                    <a:pt x="5141" y="9616"/>
                  </a:lnTo>
                  <a:lnTo>
                    <a:pt x="5119" y="9667"/>
                  </a:lnTo>
                  <a:lnTo>
                    <a:pt x="5102" y="9717"/>
                  </a:lnTo>
                  <a:lnTo>
                    <a:pt x="5080" y="9768"/>
                  </a:lnTo>
                  <a:lnTo>
                    <a:pt x="5064" y="9819"/>
                  </a:lnTo>
                  <a:lnTo>
                    <a:pt x="5058" y="9826"/>
                  </a:lnTo>
                  <a:lnTo>
                    <a:pt x="5053" y="9832"/>
                  </a:lnTo>
                  <a:lnTo>
                    <a:pt x="5053" y="9838"/>
                  </a:lnTo>
                  <a:lnTo>
                    <a:pt x="5047" y="9851"/>
                  </a:lnTo>
                  <a:lnTo>
                    <a:pt x="5042" y="9857"/>
                  </a:lnTo>
                  <a:lnTo>
                    <a:pt x="5036" y="9864"/>
                  </a:lnTo>
                  <a:lnTo>
                    <a:pt x="5036" y="9870"/>
                  </a:lnTo>
                  <a:lnTo>
                    <a:pt x="5031" y="9883"/>
                  </a:lnTo>
                  <a:lnTo>
                    <a:pt x="5031" y="9889"/>
                  </a:lnTo>
                  <a:lnTo>
                    <a:pt x="5025" y="9895"/>
                  </a:lnTo>
                  <a:lnTo>
                    <a:pt x="5025" y="9902"/>
                  </a:lnTo>
                  <a:lnTo>
                    <a:pt x="5020" y="9915"/>
                  </a:lnTo>
                  <a:lnTo>
                    <a:pt x="5020" y="9921"/>
                  </a:lnTo>
                  <a:lnTo>
                    <a:pt x="5014" y="9927"/>
                  </a:lnTo>
                  <a:lnTo>
                    <a:pt x="5014" y="9940"/>
                  </a:lnTo>
                  <a:lnTo>
                    <a:pt x="5014" y="9946"/>
                  </a:lnTo>
                  <a:lnTo>
                    <a:pt x="5009" y="9946"/>
                  </a:lnTo>
                  <a:lnTo>
                    <a:pt x="5009" y="9953"/>
                  </a:lnTo>
                  <a:lnTo>
                    <a:pt x="5003" y="9959"/>
                  </a:lnTo>
                  <a:lnTo>
                    <a:pt x="5003" y="9965"/>
                  </a:lnTo>
                  <a:lnTo>
                    <a:pt x="5003" y="9972"/>
                  </a:lnTo>
                  <a:lnTo>
                    <a:pt x="5003" y="9978"/>
                  </a:lnTo>
                  <a:lnTo>
                    <a:pt x="4998" y="9978"/>
                  </a:lnTo>
                  <a:lnTo>
                    <a:pt x="4992" y="9985"/>
                  </a:lnTo>
                  <a:lnTo>
                    <a:pt x="4987" y="9997"/>
                  </a:lnTo>
                  <a:lnTo>
                    <a:pt x="4981" y="10004"/>
                  </a:lnTo>
                  <a:lnTo>
                    <a:pt x="4981" y="10010"/>
                  </a:lnTo>
                  <a:lnTo>
                    <a:pt x="4976" y="10016"/>
                  </a:lnTo>
                  <a:lnTo>
                    <a:pt x="4970" y="10029"/>
                  </a:lnTo>
                  <a:lnTo>
                    <a:pt x="4970" y="10035"/>
                  </a:lnTo>
                  <a:lnTo>
                    <a:pt x="4964" y="10042"/>
                  </a:lnTo>
                  <a:lnTo>
                    <a:pt x="4964" y="10054"/>
                  </a:lnTo>
                  <a:lnTo>
                    <a:pt x="4959" y="10061"/>
                  </a:lnTo>
                  <a:lnTo>
                    <a:pt x="4959" y="10074"/>
                  </a:lnTo>
                  <a:lnTo>
                    <a:pt x="4953" y="10080"/>
                  </a:lnTo>
                  <a:lnTo>
                    <a:pt x="4948" y="10086"/>
                  </a:lnTo>
                  <a:lnTo>
                    <a:pt x="4948" y="10099"/>
                  </a:lnTo>
                  <a:lnTo>
                    <a:pt x="4942" y="10105"/>
                  </a:lnTo>
                  <a:lnTo>
                    <a:pt x="4937" y="10112"/>
                  </a:lnTo>
                  <a:lnTo>
                    <a:pt x="4871" y="10252"/>
                  </a:lnTo>
                  <a:lnTo>
                    <a:pt x="4804" y="10385"/>
                  </a:lnTo>
                  <a:lnTo>
                    <a:pt x="4733" y="10519"/>
                  </a:lnTo>
                  <a:lnTo>
                    <a:pt x="4661" y="10646"/>
                  </a:lnTo>
                  <a:lnTo>
                    <a:pt x="4584" y="10773"/>
                  </a:lnTo>
                  <a:lnTo>
                    <a:pt x="4501" y="10900"/>
                  </a:lnTo>
                  <a:lnTo>
                    <a:pt x="4418" y="11027"/>
                  </a:lnTo>
                  <a:lnTo>
                    <a:pt x="4329" y="11148"/>
                  </a:lnTo>
                  <a:lnTo>
                    <a:pt x="4240" y="11263"/>
                  </a:lnTo>
                  <a:lnTo>
                    <a:pt x="4146" y="11378"/>
                  </a:lnTo>
                  <a:lnTo>
                    <a:pt x="4047" y="11493"/>
                  </a:lnTo>
                  <a:lnTo>
                    <a:pt x="3948" y="11607"/>
                  </a:lnTo>
                  <a:lnTo>
                    <a:pt x="3848" y="11709"/>
                  </a:lnTo>
                  <a:lnTo>
                    <a:pt x="3738" y="11817"/>
                  </a:lnTo>
                  <a:lnTo>
                    <a:pt x="3633" y="11919"/>
                  </a:lnTo>
                  <a:lnTo>
                    <a:pt x="3517" y="12014"/>
                  </a:lnTo>
                  <a:lnTo>
                    <a:pt x="3495" y="12040"/>
                  </a:lnTo>
                  <a:lnTo>
                    <a:pt x="3501" y="12523"/>
                  </a:lnTo>
                  <a:lnTo>
                    <a:pt x="3545" y="12529"/>
                  </a:lnTo>
                  <a:lnTo>
                    <a:pt x="5782" y="12529"/>
                  </a:lnTo>
                  <a:lnTo>
                    <a:pt x="5798" y="12548"/>
                  </a:lnTo>
                  <a:lnTo>
                    <a:pt x="5798" y="15047"/>
                  </a:lnTo>
                  <a:lnTo>
                    <a:pt x="0" y="15047"/>
                  </a:lnTo>
                  <a:lnTo>
                    <a:pt x="5" y="12555"/>
                  </a:lnTo>
                  <a:lnTo>
                    <a:pt x="16" y="12529"/>
                  </a:lnTo>
                  <a:lnTo>
                    <a:pt x="2292" y="12529"/>
                  </a:lnTo>
                  <a:lnTo>
                    <a:pt x="2303" y="12491"/>
                  </a:lnTo>
                  <a:lnTo>
                    <a:pt x="2297" y="12033"/>
                  </a:lnTo>
                  <a:lnTo>
                    <a:pt x="2258" y="12001"/>
                  </a:lnTo>
                  <a:lnTo>
                    <a:pt x="2220" y="11970"/>
                  </a:lnTo>
                  <a:lnTo>
                    <a:pt x="2181" y="11931"/>
                  </a:lnTo>
                  <a:lnTo>
                    <a:pt x="2142" y="11893"/>
                  </a:lnTo>
                  <a:lnTo>
                    <a:pt x="2104" y="11861"/>
                  </a:lnTo>
                  <a:lnTo>
                    <a:pt x="2065" y="11823"/>
                  </a:lnTo>
                  <a:lnTo>
                    <a:pt x="2027" y="11785"/>
                  </a:lnTo>
                  <a:lnTo>
                    <a:pt x="1988" y="11747"/>
                  </a:lnTo>
                  <a:lnTo>
                    <a:pt x="1949" y="11709"/>
                  </a:lnTo>
                  <a:lnTo>
                    <a:pt x="1911" y="11671"/>
                  </a:lnTo>
                  <a:lnTo>
                    <a:pt x="1877" y="11633"/>
                  </a:lnTo>
                  <a:lnTo>
                    <a:pt x="1839" y="11594"/>
                  </a:lnTo>
                  <a:lnTo>
                    <a:pt x="1800" y="11550"/>
                  </a:lnTo>
                  <a:lnTo>
                    <a:pt x="1767" y="11512"/>
                  </a:lnTo>
                  <a:lnTo>
                    <a:pt x="1728" y="11474"/>
                  </a:lnTo>
                  <a:lnTo>
                    <a:pt x="1695" y="11429"/>
                  </a:lnTo>
                  <a:lnTo>
                    <a:pt x="1690" y="11423"/>
                  </a:lnTo>
                  <a:lnTo>
                    <a:pt x="1585" y="11296"/>
                  </a:lnTo>
                  <a:lnTo>
                    <a:pt x="1579" y="11282"/>
                  </a:lnTo>
                  <a:lnTo>
                    <a:pt x="1508" y="11193"/>
                  </a:lnTo>
                  <a:lnTo>
                    <a:pt x="1440" y="11097"/>
                  </a:lnTo>
                  <a:lnTo>
                    <a:pt x="1374" y="11002"/>
                  </a:lnTo>
                  <a:lnTo>
                    <a:pt x="1308" y="10907"/>
                  </a:lnTo>
                  <a:lnTo>
                    <a:pt x="1247" y="10811"/>
                  </a:lnTo>
                  <a:lnTo>
                    <a:pt x="1186" y="10716"/>
                  </a:lnTo>
                  <a:lnTo>
                    <a:pt x="1126" y="10614"/>
                  </a:lnTo>
                  <a:lnTo>
                    <a:pt x="1070" y="10519"/>
                  </a:lnTo>
                  <a:lnTo>
                    <a:pt x="1015" y="10417"/>
                  </a:lnTo>
                  <a:lnTo>
                    <a:pt x="966" y="10315"/>
                  </a:lnTo>
                  <a:lnTo>
                    <a:pt x="916" y="10207"/>
                  </a:lnTo>
                  <a:lnTo>
                    <a:pt x="866" y="10105"/>
                  </a:lnTo>
                  <a:lnTo>
                    <a:pt x="817" y="9997"/>
                  </a:lnTo>
                  <a:lnTo>
                    <a:pt x="778" y="9895"/>
                  </a:lnTo>
                  <a:lnTo>
                    <a:pt x="734" y="9787"/>
                  </a:lnTo>
                  <a:lnTo>
                    <a:pt x="695" y="9679"/>
                  </a:lnTo>
                  <a:lnTo>
                    <a:pt x="684" y="9641"/>
                  </a:lnTo>
                  <a:lnTo>
                    <a:pt x="667" y="9603"/>
                  </a:lnTo>
                  <a:lnTo>
                    <a:pt x="656" y="9565"/>
                  </a:lnTo>
                  <a:lnTo>
                    <a:pt x="645" y="9527"/>
                  </a:lnTo>
                  <a:lnTo>
                    <a:pt x="634" y="9488"/>
                  </a:lnTo>
                  <a:lnTo>
                    <a:pt x="623" y="9450"/>
                  </a:lnTo>
                  <a:lnTo>
                    <a:pt x="607" y="9419"/>
                  </a:lnTo>
                  <a:lnTo>
                    <a:pt x="596" y="9380"/>
                  </a:lnTo>
                  <a:lnTo>
                    <a:pt x="585" y="9342"/>
                  </a:lnTo>
                  <a:lnTo>
                    <a:pt x="574" y="9304"/>
                  </a:lnTo>
                  <a:lnTo>
                    <a:pt x="563" y="9266"/>
                  </a:lnTo>
                  <a:lnTo>
                    <a:pt x="552" y="9228"/>
                  </a:lnTo>
                  <a:lnTo>
                    <a:pt x="541" y="9190"/>
                  </a:lnTo>
                  <a:lnTo>
                    <a:pt x="529" y="9151"/>
                  </a:lnTo>
                  <a:lnTo>
                    <a:pt x="518" y="9113"/>
                  </a:lnTo>
                  <a:lnTo>
                    <a:pt x="507" y="9075"/>
                  </a:lnTo>
                  <a:lnTo>
                    <a:pt x="480" y="8961"/>
                  </a:lnTo>
                  <a:lnTo>
                    <a:pt x="458" y="8846"/>
                  </a:lnTo>
                  <a:lnTo>
                    <a:pt x="430" y="8725"/>
                  </a:lnTo>
                  <a:lnTo>
                    <a:pt x="414" y="8611"/>
                  </a:lnTo>
                  <a:lnTo>
                    <a:pt x="391" y="8490"/>
                  </a:lnTo>
                  <a:lnTo>
                    <a:pt x="375" y="8376"/>
                  </a:lnTo>
                  <a:lnTo>
                    <a:pt x="364" y="8255"/>
                  </a:lnTo>
                  <a:lnTo>
                    <a:pt x="347" y="8134"/>
                  </a:lnTo>
                  <a:lnTo>
                    <a:pt x="336" y="8013"/>
                  </a:lnTo>
                  <a:lnTo>
                    <a:pt x="331" y="7892"/>
                  </a:lnTo>
                  <a:lnTo>
                    <a:pt x="325" y="7771"/>
                  </a:lnTo>
                  <a:lnTo>
                    <a:pt x="320" y="7651"/>
                  </a:lnTo>
                  <a:lnTo>
                    <a:pt x="320" y="7523"/>
                  </a:lnTo>
                  <a:lnTo>
                    <a:pt x="320" y="7396"/>
                  </a:lnTo>
                  <a:lnTo>
                    <a:pt x="325" y="7275"/>
                  </a:lnTo>
                  <a:lnTo>
                    <a:pt x="331" y="7148"/>
                  </a:lnTo>
                  <a:lnTo>
                    <a:pt x="336" y="7066"/>
                  </a:lnTo>
                  <a:lnTo>
                    <a:pt x="342" y="6989"/>
                  </a:lnTo>
                  <a:lnTo>
                    <a:pt x="347" y="6907"/>
                  </a:lnTo>
                  <a:lnTo>
                    <a:pt x="353" y="6830"/>
                  </a:lnTo>
                  <a:lnTo>
                    <a:pt x="364" y="6754"/>
                  </a:lnTo>
                  <a:lnTo>
                    <a:pt x="375" y="6671"/>
                  </a:lnTo>
                  <a:lnTo>
                    <a:pt x="380" y="6595"/>
                  </a:lnTo>
                  <a:lnTo>
                    <a:pt x="397" y="6519"/>
                  </a:lnTo>
                  <a:lnTo>
                    <a:pt x="408" y="6442"/>
                  </a:lnTo>
                  <a:lnTo>
                    <a:pt x="419" y="6366"/>
                  </a:lnTo>
                  <a:lnTo>
                    <a:pt x="436" y="6290"/>
                  </a:lnTo>
                  <a:lnTo>
                    <a:pt x="452" y="6213"/>
                  </a:lnTo>
                  <a:lnTo>
                    <a:pt x="469" y="6137"/>
                  </a:lnTo>
                  <a:lnTo>
                    <a:pt x="485" y="6061"/>
                  </a:lnTo>
                  <a:lnTo>
                    <a:pt x="502" y="5991"/>
                  </a:lnTo>
                  <a:lnTo>
                    <a:pt x="518" y="5915"/>
                  </a:lnTo>
                  <a:lnTo>
                    <a:pt x="552" y="5787"/>
                  </a:lnTo>
                  <a:lnTo>
                    <a:pt x="590" y="5667"/>
                  </a:lnTo>
                  <a:lnTo>
                    <a:pt x="629" y="5546"/>
                  </a:lnTo>
                  <a:lnTo>
                    <a:pt x="667" y="5425"/>
                  </a:lnTo>
                  <a:lnTo>
                    <a:pt x="712" y="5304"/>
                  </a:lnTo>
                  <a:lnTo>
                    <a:pt x="761" y="5190"/>
                  </a:lnTo>
                  <a:lnTo>
                    <a:pt x="811" y="5069"/>
                  </a:lnTo>
                  <a:lnTo>
                    <a:pt x="861" y="4954"/>
                  </a:lnTo>
                  <a:lnTo>
                    <a:pt x="910" y="4840"/>
                  </a:lnTo>
                  <a:lnTo>
                    <a:pt x="966" y="4725"/>
                  </a:lnTo>
                  <a:lnTo>
                    <a:pt x="1026" y="4611"/>
                  </a:lnTo>
                  <a:lnTo>
                    <a:pt x="1087" y="4496"/>
                  </a:lnTo>
                  <a:lnTo>
                    <a:pt x="1148" y="4388"/>
                  </a:lnTo>
                  <a:lnTo>
                    <a:pt x="1214" y="4280"/>
                  </a:lnTo>
                  <a:lnTo>
                    <a:pt x="1286" y="4172"/>
                  </a:lnTo>
                  <a:lnTo>
                    <a:pt x="1352" y="4064"/>
                  </a:lnTo>
                  <a:lnTo>
                    <a:pt x="1380" y="4020"/>
                  </a:lnTo>
                  <a:lnTo>
                    <a:pt x="1413" y="3981"/>
                  </a:lnTo>
                  <a:lnTo>
                    <a:pt x="1440" y="3943"/>
                  </a:lnTo>
                  <a:lnTo>
                    <a:pt x="1469" y="3905"/>
                  </a:lnTo>
                  <a:lnTo>
                    <a:pt x="1502" y="3867"/>
                  </a:lnTo>
                  <a:lnTo>
                    <a:pt x="1530" y="3829"/>
                  </a:lnTo>
                  <a:lnTo>
                    <a:pt x="1563" y="3791"/>
                  </a:lnTo>
                  <a:lnTo>
                    <a:pt x="1590" y="3751"/>
                  </a:lnTo>
                  <a:lnTo>
                    <a:pt x="1624" y="3713"/>
                  </a:lnTo>
                  <a:lnTo>
                    <a:pt x="1651" y="3675"/>
                  </a:lnTo>
                  <a:lnTo>
                    <a:pt x="1684" y="3637"/>
                  </a:lnTo>
                  <a:lnTo>
                    <a:pt x="1717" y="3599"/>
                  </a:lnTo>
                  <a:lnTo>
                    <a:pt x="1751" y="3561"/>
                  </a:lnTo>
                  <a:lnTo>
                    <a:pt x="1778" y="3529"/>
                  </a:lnTo>
                  <a:lnTo>
                    <a:pt x="1811" y="3491"/>
                  </a:lnTo>
                  <a:lnTo>
                    <a:pt x="1844" y="3459"/>
                  </a:lnTo>
                  <a:lnTo>
                    <a:pt x="1861" y="3446"/>
                  </a:lnTo>
                  <a:lnTo>
                    <a:pt x="1872" y="3427"/>
                  </a:lnTo>
                  <a:lnTo>
                    <a:pt x="1883" y="3414"/>
                  </a:lnTo>
                  <a:lnTo>
                    <a:pt x="1900" y="3395"/>
                  </a:lnTo>
                  <a:lnTo>
                    <a:pt x="1911" y="3383"/>
                  </a:lnTo>
                  <a:lnTo>
                    <a:pt x="1927" y="3370"/>
                  </a:lnTo>
                  <a:lnTo>
                    <a:pt x="1938" y="3351"/>
                  </a:lnTo>
                  <a:lnTo>
                    <a:pt x="1955" y="3338"/>
                  </a:lnTo>
                  <a:lnTo>
                    <a:pt x="1966" y="3325"/>
                  </a:lnTo>
                  <a:lnTo>
                    <a:pt x="1982" y="3313"/>
                  </a:lnTo>
                  <a:lnTo>
                    <a:pt x="1999" y="3294"/>
                  </a:lnTo>
                  <a:lnTo>
                    <a:pt x="2010" y="3281"/>
                  </a:lnTo>
                  <a:lnTo>
                    <a:pt x="2027" y="3268"/>
                  </a:lnTo>
                  <a:lnTo>
                    <a:pt x="2043" y="3249"/>
                  </a:lnTo>
                  <a:lnTo>
                    <a:pt x="2054" y="3236"/>
                  </a:lnTo>
                  <a:lnTo>
                    <a:pt x="2071" y="3224"/>
                  </a:lnTo>
                  <a:lnTo>
                    <a:pt x="2082" y="3211"/>
                  </a:lnTo>
                  <a:lnTo>
                    <a:pt x="2098" y="3198"/>
                  </a:lnTo>
                  <a:lnTo>
                    <a:pt x="2109" y="3185"/>
                  </a:lnTo>
                  <a:lnTo>
                    <a:pt x="2126" y="3173"/>
                  </a:lnTo>
                  <a:lnTo>
                    <a:pt x="2142" y="3160"/>
                  </a:lnTo>
                  <a:lnTo>
                    <a:pt x="2154" y="3147"/>
                  </a:lnTo>
                  <a:lnTo>
                    <a:pt x="2170" y="3135"/>
                  </a:lnTo>
                  <a:lnTo>
                    <a:pt x="2181" y="3122"/>
                  </a:lnTo>
                  <a:lnTo>
                    <a:pt x="2198" y="3109"/>
                  </a:lnTo>
                  <a:lnTo>
                    <a:pt x="2214" y="3096"/>
                  </a:lnTo>
                  <a:lnTo>
                    <a:pt x="2225" y="3084"/>
                  </a:lnTo>
                  <a:lnTo>
                    <a:pt x="2242" y="3071"/>
                  </a:lnTo>
                  <a:lnTo>
                    <a:pt x="2253" y="3058"/>
                  </a:lnTo>
                  <a:lnTo>
                    <a:pt x="2269" y="3046"/>
                  </a:lnTo>
                  <a:lnTo>
                    <a:pt x="2286" y="3033"/>
                  </a:lnTo>
                  <a:lnTo>
                    <a:pt x="2303" y="3020"/>
                  </a:lnTo>
                  <a:lnTo>
                    <a:pt x="2314" y="3001"/>
                  </a:lnTo>
                  <a:lnTo>
                    <a:pt x="2308" y="2524"/>
                  </a:lnTo>
                  <a:lnTo>
                    <a:pt x="2297" y="2518"/>
                  </a:lnTo>
                  <a:lnTo>
                    <a:pt x="33" y="2518"/>
                  </a:lnTo>
                  <a:lnTo>
                    <a:pt x="16" y="2499"/>
                  </a:lnTo>
                  <a:lnTo>
                    <a:pt x="27" y="6"/>
                  </a:lnTo>
                  <a:lnTo>
                    <a:pt x="5809" y="0"/>
                  </a:lnTo>
                  <a:lnTo>
                    <a:pt x="5804" y="2505"/>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 name=""/>
            <p:cNvSpPr/>
            <p:nvPr/>
          </p:nvSpPr>
          <p:spPr>
            <a:xfrm>
              <a:off x="3849840" y="720720"/>
              <a:ext cx="2091240" cy="5416920"/>
            </a:xfrm>
            <a:custGeom>
              <a:avLst/>
              <a:gdLst/>
              <a:ahLst/>
              <a:rect l="0" t="0" r="r" b="b"/>
              <a:pathLst>
                <a:path w="5809" h="15047">
                  <a:moveTo>
                    <a:pt x="5804" y="2505"/>
                  </a:moveTo>
                  <a:lnTo>
                    <a:pt x="5782" y="2518"/>
                  </a:lnTo>
                  <a:lnTo>
                    <a:pt x="3534" y="2518"/>
                  </a:lnTo>
                  <a:lnTo>
                    <a:pt x="3528" y="2518"/>
                  </a:lnTo>
                  <a:lnTo>
                    <a:pt x="3523" y="2518"/>
                  </a:lnTo>
                  <a:lnTo>
                    <a:pt x="3517" y="2524"/>
                  </a:lnTo>
                  <a:lnTo>
                    <a:pt x="3512" y="2524"/>
                  </a:lnTo>
                  <a:lnTo>
                    <a:pt x="3512" y="2530"/>
                  </a:lnTo>
                  <a:lnTo>
                    <a:pt x="3506" y="2530"/>
                  </a:lnTo>
                  <a:lnTo>
                    <a:pt x="3506" y="3001"/>
                  </a:lnTo>
                  <a:lnTo>
                    <a:pt x="3517" y="3014"/>
                  </a:lnTo>
                  <a:lnTo>
                    <a:pt x="3528" y="3027"/>
                  </a:lnTo>
                  <a:lnTo>
                    <a:pt x="3539" y="3039"/>
                  </a:lnTo>
                  <a:lnTo>
                    <a:pt x="3550" y="3052"/>
                  </a:lnTo>
                  <a:lnTo>
                    <a:pt x="3567" y="3065"/>
                  </a:lnTo>
                  <a:lnTo>
                    <a:pt x="3578" y="3071"/>
                  </a:lnTo>
                  <a:lnTo>
                    <a:pt x="3589" y="3084"/>
                  </a:lnTo>
                  <a:lnTo>
                    <a:pt x="3600" y="3096"/>
                  </a:lnTo>
                  <a:lnTo>
                    <a:pt x="3611" y="3109"/>
                  </a:lnTo>
                  <a:lnTo>
                    <a:pt x="3627" y="3116"/>
                  </a:lnTo>
                  <a:lnTo>
                    <a:pt x="3639" y="3128"/>
                  </a:lnTo>
                  <a:lnTo>
                    <a:pt x="3650" y="3141"/>
                  </a:lnTo>
                  <a:lnTo>
                    <a:pt x="3661" y="3147"/>
                  </a:lnTo>
                  <a:lnTo>
                    <a:pt x="3677" y="3160"/>
                  </a:lnTo>
                  <a:lnTo>
                    <a:pt x="3688" y="3166"/>
                  </a:lnTo>
                  <a:lnTo>
                    <a:pt x="3699" y="3179"/>
                  </a:lnTo>
                  <a:lnTo>
                    <a:pt x="3727" y="3211"/>
                  </a:lnTo>
                  <a:lnTo>
                    <a:pt x="3760" y="3236"/>
                  </a:lnTo>
                  <a:lnTo>
                    <a:pt x="3788" y="3262"/>
                  </a:lnTo>
                  <a:lnTo>
                    <a:pt x="3815" y="3294"/>
                  </a:lnTo>
                  <a:lnTo>
                    <a:pt x="3843" y="3319"/>
                  </a:lnTo>
                  <a:lnTo>
                    <a:pt x="3870" y="3351"/>
                  </a:lnTo>
                  <a:lnTo>
                    <a:pt x="3898" y="3376"/>
                  </a:lnTo>
                  <a:lnTo>
                    <a:pt x="3926" y="3402"/>
                  </a:lnTo>
                  <a:lnTo>
                    <a:pt x="3953" y="3433"/>
                  </a:lnTo>
                  <a:lnTo>
                    <a:pt x="3981" y="3459"/>
                  </a:lnTo>
                  <a:lnTo>
                    <a:pt x="4008" y="3491"/>
                  </a:lnTo>
                  <a:lnTo>
                    <a:pt x="4036" y="3523"/>
                  </a:lnTo>
                  <a:lnTo>
                    <a:pt x="4064" y="3548"/>
                  </a:lnTo>
                  <a:lnTo>
                    <a:pt x="4091" y="3580"/>
                  </a:lnTo>
                  <a:lnTo>
                    <a:pt x="4113" y="3612"/>
                  </a:lnTo>
                  <a:lnTo>
                    <a:pt x="4141" y="3643"/>
                  </a:lnTo>
                  <a:lnTo>
                    <a:pt x="4146" y="3650"/>
                  </a:lnTo>
                  <a:lnTo>
                    <a:pt x="4146" y="3656"/>
                  </a:lnTo>
                  <a:lnTo>
                    <a:pt x="4152" y="3656"/>
                  </a:lnTo>
                  <a:lnTo>
                    <a:pt x="4152" y="3662"/>
                  </a:lnTo>
                  <a:lnTo>
                    <a:pt x="4157" y="3669"/>
                  </a:lnTo>
                  <a:lnTo>
                    <a:pt x="4163" y="3669"/>
                  </a:lnTo>
                  <a:lnTo>
                    <a:pt x="4163" y="3675"/>
                  </a:lnTo>
                  <a:lnTo>
                    <a:pt x="4169" y="3675"/>
                  </a:lnTo>
                  <a:lnTo>
                    <a:pt x="4174" y="3682"/>
                  </a:lnTo>
                  <a:lnTo>
                    <a:pt x="4174" y="3688"/>
                  </a:lnTo>
                  <a:lnTo>
                    <a:pt x="4180" y="3688"/>
                  </a:lnTo>
                  <a:lnTo>
                    <a:pt x="4180" y="3694"/>
                  </a:lnTo>
                  <a:lnTo>
                    <a:pt x="4185" y="3701"/>
                  </a:lnTo>
                  <a:lnTo>
                    <a:pt x="4191" y="3701"/>
                  </a:lnTo>
                  <a:lnTo>
                    <a:pt x="4196" y="3707"/>
                  </a:lnTo>
                  <a:lnTo>
                    <a:pt x="4196" y="3713"/>
                  </a:lnTo>
                  <a:lnTo>
                    <a:pt x="4202" y="3720"/>
                  </a:lnTo>
                  <a:lnTo>
                    <a:pt x="4207" y="3726"/>
                  </a:lnTo>
                  <a:lnTo>
                    <a:pt x="4213" y="3732"/>
                  </a:lnTo>
                  <a:lnTo>
                    <a:pt x="4218" y="3739"/>
                  </a:lnTo>
                  <a:lnTo>
                    <a:pt x="4224" y="3745"/>
                  </a:lnTo>
                  <a:lnTo>
                    <a:pt x="4229" y="3751"/>
                  </a:lnTo>
                  <a:lnTo>
                    <a:pt x="4235" y="3758"/>
                  </a:lnTo>
                  <a:lnTo>
                    <a:pt x="4240" y="3765"/>
                  </a:lnTo>
                  <a:lnTo>
                    <a:pt x="4246" y="3772"/>
                  </a:lnTo>
                  <a:lnTo>
                    <a:pt x="4246" y="3778"/>
                  </a:lnTo>
                  <a:lnTo>
                    <a:pt x="4251" y="3784"/>
                  </a:lnTo>
                  <a:lnTo>
                    <a:pt x="4257" y="3791"/>
                  </a:lnTo>
                  <a:lnTo>
                    <a:pt x="4329" y="3886"/>
                  </a:lnTo>
                  <a:lnTo>
                    <a:pt x="4401" y="3981"/>
                  </a:lnTo>
                  <a:lnTo>
                    <a:pt x="4468" y="4077"/>
                  </a:lnTo>
                  <a:lnTo>
                    <a:pt x="4534" y="4179"/>
                  </a:lnTo>
                  <a:lnTo>
                    <a:pt x="4600" y="4274"/>
                  </a:lnTo>
                  <a:lnTo>
                    <a:pt x="4661" y="4382"/>
                  </a:lnTo>
                  <a:lnTo>
                    <a:pt x="4722" y="4484"/>
                  </a:lnTo>
                  <a:lnTo>
                    <a:pt x="4777" y="4586"/>
                  </a:lnTo>
                  <a:lnTo>
                    <a:pt x="4832" y="4694"/>
                  </a:lnTo>
                  <a:lnTo>
                    <a:pt x="4887" y="4802"/>
                  </a:lnTo>
                  <a:lnTo>
                    <a:pt x="4937" y="4910"/>
                  </a:lnTo>
                  <a:lnTo>
                    <a:pt x="4987" y="5018"/>
                  </a:lnTo>
                  <a:lnTo>
                    <a:pt x="5031" y="5132"/>
                  </a:lnTo>
                  <a:lnTo>
                    <a:pt x="5080" y="5241"/>
                  </a:lnTo>
                  <a:lnTo>
                    <a:pt x="5119" y="5355"/>
                  </a:lnTo>
                  <a:lnTo>
                    <a:pt x="5163" y="5469"/>
                  </a:lnTo>
                  <a:lnTo>
                    <a:pt x="5191" y="5552"/>
                  </a:lnTo>
                  <a:lnTo>
                    <a:pt x="5218" y="5648"/>
                  </a:lnTo>
                  <a:lnTo>
                    <a:pt x="5246" y="5737"/>
                  </a:lnTo>
                  <a:lnTo>
                    <a:pt x="5274" y="5826"/>
                  </a:lnTo>
                  <a:lnTo>
                    <a:pt x="5296" y="5915"/>
                  </a:lnTo>
                  <a:lnTo>
                    <a:pt x="5318" y="6004"/>
                  </a:lnTo>
                  <a:lnTo>
                    <a:pt x="5340" y="6099"/>
                  </a:lnTo>
                  <a:lnTo>
                    <a:pt x="5362" y="6188"/>
                  </a:lnTo>
                  <a:lnTo>
                    <a:pt x="5379" y="6283"/>
                  </a:lnTo>
                  <a:lnTo>
                    <a:pt x="5395" y="6379"/>
                  </a:lnTo>
                  <a:lnTo>
                    <a:pt x="5412" y="6468"/>
                  </a:lnTo>
                  <a:lnTo>
                    <a:pt x="5428" y="6563"/>
                  </a:lnTo>
                  <a:lnTo>
                    <a:pt x="5439" y="6659"/>
                  </a:lnTo>
                  <a:lnTo>
                    <a:pt x="5450" y="6760"/>
                  </a:lnTo>
                  <a:lnTo>
                    <a:pt x="5461" y="6856"/>
                  </a:lnTo>
                  <a:lnTo>
                    <a:pt x="5467" y="6951"/>
                  </a:lnTo>
                  <a:lnTo>
                    <a:pt x="5478" y="7078"/>
                  </a:lnTo>
                  <a:lnTo>
                    <a:pt x="5483" y="7212"/>
                  </a:lnTo>
                  <a:lnTo>
                    <a:pt x="5489" y="7339"/>
                  </a:lnTo>
                  <a:lnTo>
                    <a:pt x="5489" y="7466"/>
                  </a:lnTo>
                  <a:lnTo>
                    <a:pt x="5489" y="7600"/>
                  </a:lnTo>
                  <a:lnTo>
                    <a:pt x="5489" y="7727"/>
                  </a:lnTo>
                  <a:lnTo>
                    <a:pt x="5483" y="7861"/>
                  </a:lnTo>
                  <a:lnTo>
                    <a:pt x="5472" y="7988"/>
                  </a:lnTo>
                  <a:lnTo>
                    <a:pt x="5467" y="8115"/>
                  </a:lnTo>
                  <a:lnTo>
                    <a:pt x="5450" y="8248"/>
                  </a:lnTo>
                  <a:lnTo>
                    <a:pt x="5439" y="8376"/>
                  </a:lnTo>
                  <a:lnTo>
                    <a:pt x="5417" y="8503"/>
                  </a:lnTo>
                  <a:lnTo>
                    <a:pt x="5401" y="8624"/>
                  </a:lnTo>
                  <a:lnTo>
                    <a:pt x="5373" y="8751"/>
                  </a:lnTo>
                  <a:lnTo>
                    <a:pt x="5351" y="8872"/>
                  </a:lnTo>
                  <a:lnTo>
                    <a:pt x="5323" y="8992"/>
                  </a:lnTo>
                  <a:lnTo>
                    <a:pt x="5307" y="9043"/>
                  </a:lnTo>
                  <a:lnTo>
                    <a:pt x="5296" y="9094"/>
                  </a:lnTo>
                  <a:lnTo>
                    <a:pt x="5279" y="9151"/>
                  </a:lnTo>
                  <a:lnTo>
                    <a:pt x="5268" y="9202"/>
                  </a:lnTo>
                  <a:lnTo>
                    <a:pt x="5252" y="9253"/>
                  </a:lnTo>
                  <a:lnTo>
                    <a:pt x="5235" y="9310"/>
                  </a:lnTo>
                  <a:lnTo>
                    <a:pt x="5224" y="9361"/>
                  </a:lnTo>
                  <a:lnTo>
                    <a:pt x="5207" y="9412"/>
                  </a:lnTo>
                  <a:lnTo>
                    <a:pt x="5191" y="9463"/>
                  </a:lnTo>
                  <a:lnTo>
                    <a:pt x="5174" y="9514"/>
                  </a:lnTo>
                  <a:lnTo>
                    <a:pt x="5158" y="9565"/>
                  </a:lnTo>
                  <a:lnTo>
                    <a:pt x="5141" y="9616"/>
                  </a:lnTo>
                  <a:lnTo>
                    <a:pt x="5119" y="9667"/>
                  </a:lnTo>
                  <a:lnTo>
                    <a:pt x="5102" y="9717"/>
                  </a:lnTo>
                  <a:lnTo>
                    <a:pt x="5080" y="9768"/>
                  </a:lnTo>
                  <a:lnTo>
                    <a:pt x="5064" y="9819"/>
                  </a:lnTo>
                  <a:lnTo>
                    <a:pt x="5058" y="9826"/>
                  </a:lnTo>
                  <a:lnTo>
                    <a:pt x="5053" y="9832"/>
                  </a:lnTo>
                  <a:lnTo>
                    <a:pt x="5053" y="9838"/>
                  </a:lnTo>
                  <a:lnTo>
                    <a:pt x="5047" y="9851"/>
                  </a:lnTo>
                  <a:lnTo>
                    <a:pt x="5042" y="9857"/>
                  </a:lnTo>
                  <a:lnTo>
                    <a:pt x="5036" y="9864"/>
                  </a:lnTo>
                  <a:lnTo>
                    <a:pt x="5036" y="9870"/>
                  </a:lnTo>
                  <a:lnTo>
                    <a:pt x="5031" y="9883"/>
                  </a:lnTo>
                  <a:lnTo>
                    <a:pt x="5031" y="9889"/>
                  </a:lnTo>
                  <a:lnTo>
                    <a:pt x="5025" y="9895"/>
                  </a:lnTo>
                  <a:lnTo>
                    <a:pt x="5025" y="9902"/>
                  </a:lnTo>
                  <a:lnTo>
                    <a:pt x="5020" y="9915"/>
                  </a:lnTo>
                  <a:lnTo>
                    <a:pt x="5020" y="9921"/>
                  </a:lnTo>
                  <a:lnTo>
                    <a:pt x="5014" y="9927"/>
                  </a:lnTo>
                  <a:lnTo>
                    <a:pt x="5014" y="9940"/>
                  </a:lnTo>
                  <a:lnTo>
                    <a:pt x="5014" y="9946"/>
                  </a:lnTo>
                  <a:lnTo>
                    <a:pt x="5009" y="9946"/>
                  </a:lnTo>
                  <a:lnTo>
                    <a:pt x="5009" y="9953"/>
                  </a:lnTo>
                  <a:lnTo>
                    <a:pt x="5003" y="9959"/>
                  </a:lnTo>
                  <a:lnTo>
                    <a:pt x="5003" y="9965"/>
                  </a:lnTo>
                  <a:lnTo>
                    <a:pt x="5003" y="9972"/>
                  </a:lnTo>
                  <a:lnTo>
                    <a:pt x="5003" y="9978"/>
                  </a:lnTo>
                  <a:lnTo>
                    <a:pt x="4998" y="9978"/>
                  </a:lnTo>
                  <a:lnTo>
                    <a:pt x="4992" y="9985"/>
                  </a:lnTo>
                  <a:lnTo>
                    <a:pt x="4987" y="9997"/>
                  </a:lnTo>
                  <a:lnTo>
                    <a:pt x="4981" y="10004"/>
                  </a:lnTo>
                  <a:lnTo>
                    <a:pt x="4981" y="10010"/>
                  </a:lnTo>
                  <a:lnTo>
                    <a:pt x="4976" y="10016"/>
                  </a:lnTo>
                  <a:lnTo>
                    <a:pt x="4970" y="10029"/>
                  </a:lnTo>
                  <a:lnTo>
                    <a:pt x="4970" y="10035"/>
                  </a:lnTo>
                  <a:lnTo>
                    <a:pt x="4964" y="10042"/>
                  </a:lnTo>
                  <a:lnTo>
                    <a:pt x="4964" y="10054"/>
                  </a:lnTo>
                  <a:lnTo>
                    <a:pt x="4959" y="10061"/>
                  </a:lnTo>
                  <a:lnTo>
                    <a:pt x="4959" y="10074"/>
                  </a:lnTo>
                  <a:lnTo>
                    <a:pt x="4953" y="10080"/>
                  </a:lnTo>
                  <a:lnTo>
                    <a:pt x="4948" y="10086"/>
                  </a:lnTo>
                  <a:lnTo>
                    <a:pt x="4948" y="10099"/>
                  </a:lnTo>
                  <a:lnTo>
                    <a:pt x="4942" y="10105"/>
                  </a:lnTo>
                  <a:lnTo>
                    <a:pt x="4937" y="10112"/>
                  </a:lnTo>
                  <a:lnTo>
                    <a:pt x="4871" y="10252"/>
                  </a:lnTo>
                  <a:lnTo>
                    <a:pt x="4804" y="10385"/>
                  </a:lnTo>
                  <a:lnTo>
                    <a:pt x="4733" y="10519"/>
                  </a:lnTo>
                  <a:lnTo>
                    <a:pt x="4661" y="10646"/>
                  </a:lnTo>
                  <a:lnTo>
                    <a:pt x="4584" y="10773"/>
                  </a:lnTo>
                  <a:lnTo>
                    <a:pt x="4501" y="10900"/>
                  </a:lnTo>
                  <a:lnTo>
                    <a:pt x="4418" y="11027"/>
                  </a:lnTo>
                  <a:lnTo>
                    <a:pt x="4329" y="11148"/>
                  </a:lnTo>
                  <a:lnTo>
                    <a:pt x="4240" y="11263"/>
                  </a:lnTo>
                  <a:lnTo>
                    <a:pt x="4146" y="11378"/>
                  </a:lnTo>
                  <a:lnTo>
                    <a:pt x="4047" y="11493"/>
                  </a:lnTo>
                  <a:lnTo>
                    <a:pt x="3948" y="11607"/>
                  </a:lnTo>
                  <a:lnTo>
                    <a:pt x="3848" y="11709"/>
                  </a:lnTo>
                  <a:lnTo>
                    <a:pt x="3738" y="11817"/>
                  </a:lnTo>
                  <a:lnTo>
                    <a:pt x="3633" y="11919"/>
                  </a:lnTo>
                  <a:lnTo>
                    <a:pt x="3517" y="12014"/>
                  </a:lnTo>
                  <a:lnTo>
                    <a:pt x="3495" y="12040"/>
                  </a:lnTo>
                  <a:lnTo>
                    <a:pt x="3501" y="12523"/>
                  </a:lnTo>
                  <a:lnTo>
                    <a:pt x="3545" y="12529"/>
                  </a:lnTo>
                  <a:lnTo>
                    <a:pt x="5782" y="12529"/>
                  </a:lnTo>
                  <a:lnTo>
                    <a:pt x="5798" y="12548"/>
                  </a:lnTo>
                  <a:lnTo>
                    <a:pt x="5798" y="15047"/>
                  </a:lnTo>
                  <a:lnTo>
                    <a:pt x="0" y="15047"/>
                  </a:lnTo>
                  <a:lnTo>
                    <a:pt x="5" y="12555"/>
                  </a:lnTo>
                  <a:lnTo>
                    <a:pt x="16" y="12529"/>
                  </a:lnTo>
                  <a:lnTo>
                    <a:pt x="2292" y="12529"/>
                  </a:lnTo>
                  <a:lnTo>
                    <a:pt x="2303" y="12491"/>
                  </a:lnTo>
                  <a:lnTo>
                    <a:pt x="2297" y="12033"/>
                  </a:lnTo>
                  <a:lnTo>
                    <a:pt x="2258" y="12001"/>
                  </a:lnTo>
                  <a:lnTo>
                    <a:pt x="2220" y="11970"/>
                  </a:lnTo>
                  <a:lnTo>
                    <a:pt x="2181" y="11931"/>
                  </a:lnTo>
                  <a:lnTo>
                    <a:pt x="2142" y="11893"/>
                  </a:lnTo>
                  <a:lnTo>
                    <a:pt x="2104" y="11861"/>
                  </a:lnTo>
                  <a:lnTo>
                    <a:pt x="2065" y="11823"/>
                  </a:lnTo>
                  <a:lnTo>
                    <a:pt x="2027" y="11785"/>
                  </a:lnTo>
                  <a:lnTo>
                    <a:pt x="1988" y="11747"/>
                  </a:lnTo>
                  <a:lnTo>
                    <a:pt x="1949" y="11709"/>
                  </a:lnTo>
                  <a:lnTo>
                    <a:pt x="1911" y="11671"/>
                  </a:lnTo>
                  <a:lnTo>
                    <a:pt x="1877" y="11633"/>
                  </a:lnTo>
                  <a:lnTo>
                    <a:pt x="1839" y="11594"/>
                  </a:lnTo>
                  <a:lnTo>
                    <a:pt x="1800" y="11550"/>
                  </a:lnTo>
                  <a:lnTo>
                    <a:pt x="1767" y="11512"/>
                  </a:lnTo>
                  <a:lnTo>
                    <a:pt x="1728" y="11474"/>
                  </a:lnTo>
                  <a:lnTo>
                    <a:pt x="1695" y="11429"/>
                  </a:lnTo>
                  <a:lnTo>
                    <a:pt x="1690" y="11423"/>
                  </a:lnTo>
                  <a:lnTo>
                    <a:pt x="1585" y="11296"/>
                  </a:lnTo>
                  <a:lnTo>
                    <a:pt x="1579" y="11282"/>
                  </a:lnTo>
                  <a:lnTo>
                    <a:pt x="1508" y="11193"/>
                  </a:lnTo>
                  <a:lnTo>
                    <a:pt x="1440" y="11097"/>
                  </a:lnTo>
                  <a:lnTo>
                    <a:pt x="1374" y="11002"/>
                  </a:lnTo>
                  <a:lnTo>
                    <a:pt x="1308" y="10907"/>
                  </a:lnTo>
                  <a:lnTo>
                    <a:pt x="1247" y="10811"/>
                  </a:lnTo>
                  <a:lnTo>
                    <a:pt x="1186" y="10716"/>
                  </a:lnTo>
                  <a:lnTo>
                    <a:pt x="1126" y="10614"/>
                  </a:lnTo>
                  <a:lnTo>
                    <a:pt x="1070" y="10519"/>
                  </a:lnTo>
                  <a:lnTo>
                    <a:pt x="1015" y="10417"/>
                  </a:lnTo>
                  <a:lnTo>
                    <a:pt x="966" y="10315"/>
                  </a:lnTo>
                  <a:lnTo>
                    <a:pt x="916" y="10207"/>
                  </a:lnTo>
                  <a:lnTo>
                    <a:pt x="866" y="10105"/>
                  </a:lnTo>
                  <a:lnTo>
                    <a:pt x="817" y="9997"/>
                  </a:lnTo>
                  <a:lnTo>
                    <a:pt x="778" y="9895"/>
                  </a:lnTo>
                  <a:lnTo>
                    <a:pt x="734" y="9787"/>
                  </a:lnTo>
                  <a:lnTo>
                    <a:pt x="695" y="9679"/>
                  </a:lnTo>
                  <a:lnTo>
                    <a:pt x="684" y="9641"/>
                  </a:lnTo>
                  <a:lnTo>
                    <a:pt x="667" y="9603"/>
                  </a:lnTo>
                  <a:lnTo>
                    <a:pt x="656" y="9565"/>
                  </a:lnTo>
                  <a:lnTo>
                    <a:pt x="645" y="9527"/>
                  </a:lnTo>
                  <a:lnTo>
                    <a:pt x="634" y="9488"/>
                  </a:lnTo>
                  <a:lnTo>
                    <a:pt x="623" y="9450"/>
                  </a:lnTo>
                  <a:lnTo>
                    <a:pt x="607" y="9419"/>
                  </a:lnTo>
                  <a:lnTo>
                    <a:pt x="596" y="9380"/>
                  </a:lnTo>
                  <a:lnTo>
                    <a:pt x="585" y="9342"/>
                  </a:lnTo>
                  <a:lnTo>
                    <a:pt x="574" y="9304"/>
                  </a:lnTo>
                  <a:lnTo>
                    <a:pt x="563" y="9266"/>
                  </a:lnTo>
                  <a:lnTo>
                    <a:pt x="552" y="9228"/>
                  </a:lnTo>
                  <a:lnTo>
                    <a:pt x="541" y="9190"/>
                  </a:lnTo>
                  <a:lnTo>
                    <a:pt x="529" y="9151"/>
                  </a:lnTo>
                  <a:lnTo>
                    <a:pt x="518" y="9113"/>
                  </a:lnTo>
                  <a:lnTo>
                    <a:pt x="507" y="9075"/>
                  </a:lnTo>
                  <a:lnTo>
                    <a:pt x="480" y="8961"/>
                  </a:lnTo>
                  <a:lnTo>
                    <a:pt x="458" y="8846"/>
                  </a:lnTo>
                  <a:lnTo>
                    <a:pt x="430" y="8725"/>
                  </a:lnTo>
                  <a:lnTo>
                    <a:pt x="414" y="8611"/>
                  </a:lnTo>
                  <a:lnTo>
                    <a:pt x="391" y="8490"/>
                  </a:lnTo>
                  <a:lnTo>
                    <a:pt x="375" y="8376"/>
                  </a:lnTo>
                  <a:lnTo>
                    <a:pt x="364" y="8255"/>
                  </a:lnTo>
                  <a:lnTo>
                    <a:pt x="347" y="8134"/>
                  </a:lnTo>
                  <a:lnTo>
                    <a:pt x="336" y="8013"/>
                  </a:lnTo>
                  <a:lnTo>
                    <a:pt x="331" y="7892"/>
                  </a:lnTo>
                  <a:lnTo>
                    <a:pt x="325" y="7771"/>
                  </a:lnTo>
                  <a:lnTo>
                    <a:pt x="320" y="7651"/>
                  </a:lnTo>
                  <a:lnTo>
                    <a:pt x="320" y="7523"/>
                  </a:lnTo>
                  <a:lnTo>
                    <a:pt x="320" y="7396"/>
                  </a:lnTo>
                  <a:lnTo>
                    <a:pt x="325" y="7275"/>
                  </a:lnTo>
                  <a:lnTo>
                    <a:pt x="331" y="7148"/>
                  </a:lnTo>
                  <a:lnTo>
                    <a:pt x="336" y="7066"/>
                  </a:lnTo>
                  <a:lnTo>
                    <a:pt x="342" y="6989"/>
                  </a:lnTo>
                  <a:lnTo>
                    <a:pt x="347" y="6907"/>
                  </a:lnTo>
                  <a:lnTo>
                    <a:pt x="353" y="6830"/>
                  </a:lnTo>
                  <a:lnTo>
                    <a:pt x="364" y="6754"/>
                  </a:lnTo>
                  <a:lnTo>
                    <a:pt x="375" y="6671"/>
                  </a:lnTo>
                  <a:lnTo>
                    <a:pt x="380" y="6595"/>
                  </a:lnTo>
                  <a:lnTo>
                    <a:pt x="397" y="6519"/>
                  </a:lnTo>
                  <a:lnTo>
                    <a:pt x="408" y="6442"/>
                  </a:lnTo>
                  <a:lnTo>
                    <a:pt x="419" y="6366"/>
                  </a:lnTo>
                  <a:lnTo>
                    <a:pt x="436" y="6290"/>
                  </a:lnTo>
                  <a:lnTo>
                    <a:pt x="452" y="6213"/>
                  </a:lnTo>
                  <a:lnTo>
                    <a:pt x="469" y="6137"/>
                  </a:lnTo>
                  <a:lnTo>
                    <a:pt x="485" y="6061"/>
                  </a:lnTo>
                  <a:lnTo>
                    <a:pt x="502" y="5991"/>
                  </a:lnTo>
                  <a:lnTo>
                    <a:pt x="518" y="5915"/>
                  </a:lnTo>
                  <a:lnTo>
                    <a:pt x="552" y="5787"/>
                  </a:lnTo>
                  <a:lnTo>
                    <a:pt x="590" y="5667"/>
                  </a:lnTo>
                  <a:lnTo>
                    <a:pt x="629" y="5546"/>
                  </a:lnTo>
                  <a:lnTo>
                    <a:pt x="667" y="5425"/>
                  </a:lnTo>
                  <a:lnTo>
                    <a:pt x="712" y="5304"/>
                  </a:lnTo>
                  <a:lnTo>
                    <a:pt x="761" y="5190"/>
                  </a:lnTo>
                  <a:lnTo>
                    <a:pt x="811" y="5069"/>
                  </a:lnTo>
                  <a:lnTo>
                    <a:pt x="861" y="4954"/>
                  </a:lnTo>
                  <a:lnTo>
                    <a:pt x="910" y="4840"/>
                  </a:lnTo>
                  <a:lnTo>
                    <a:pt x="966" y="4725"/>
                  </a:lnTo>
                  <a:lnTo>
                    <a:pt x="1026" y="4611"/>
                  </a:lnTo>
                  <a:lnTo>
                    <a:pt x="1087" y="4496"/>
                  </a:lnTo>
                  <a:lnTo>
                    <a:pt x="1148" y="4388"/>
                  </a:lnTo>
                  <a:lnTo>
                    <a:pt x="1214" y="4280"/>
                  </a:lnTo>
                  <a:lnTo>
                    <a:pt x="1286" y="4172"/>
                  </a:lnTo>
                  <a:lnTo>
                    <a:pt x="1352" y="4064"/>
                  </a:lnTo>
                  <a:lnTo>
                    <a:pt x="1380" y="4020"/>
                  </a:lnTo>
                  <a:lnTo>
                    <a:pt x="1413" y="3981"/>
                  </a:lnTo>
                  <a:lnTo>
                    <a:pt x="1440" y="3943"/>
                  </a:lnTo>
                  <a:lnTo>
                    <a:pt x="1469" y="3905"/>
                  </a:lnTo>
                  <a:lnTo>
                    <a:pt x="1502" y="3867"/>
                  </a:lnTo>
                  <a:lnTo>
                    <a:pt x="1530" y="3829"/>
                  </a:lnTo>
                  <a:lnTo>
                    <a:pt x="1563" y="3791"/>
                  </a:lnTo>
                  <a:lnTo>
                    <a:pt x="1590" y="3751"/>
                  </a:lnTo>
                  <a:lnTo>
                    <a:pt x="1624" y="3713"/>
                  </a:lnTo>
                  <a:lnTo>
                    <a:pt x="1651" y="3675"/>
                  </a:lnTo>
                  <a:lnTo>
                    <a:pt x="1684" y="3637"/>
                  </a:lnTo>
                  <a:lnTo>
                    <a:pt x="1717" y="3599"/>
                  </a:lnTo>
                  <a:lnTo>
                    <a:pt x="1751" y="3561"/>
                  </a:lnTo>
                  <a:lnTo>
                    <a:pt x="1778" y="3529"/>
                  </a:lnTo>
                  <a:lnTo>
                    <a:pt x="1811" y="3491"/>
                  </a:lnTo>
                  <a:lnTo>
                    <a:pt x="1844" y="3459"/>
                  </a:lnTo>
                  <a:lnTo>
                    <a:pt x="1861" y="3446"/>
                  </a:lnTo>
                  <a:lnTo>
                    <a:pt x="1872" y="3427"/>
                  </a:lnTo>
                  <a:lnTo>
                    <a:pt x="1883" y="3414"/>
                  </a:lnTo>
                  <a:lnTo>
                    <a:pt x="1900" y="3395"/>
                  </a:lnTo>
                  <a:lnTo>
                    <a:pt x="1911" y="3383"/>
                  </a:lnTo>
                  <a:lnTo>
                    <a:pt x="1927" y="3370"/>
                  </a:lnTo>
                  <a:lnTo>
                    <a:pt x="1938" y="3351"/>
                  </a:lnTo>
                  <a:lnTo>
                    <a:pt x="1955" y="3338"/>
                  </a:lnTo>
                  <a:lnTo>
                    <a:pt x="1966" y="3325"/>
                  </a:lnTo>
                  <a:lnTo>
                    <a:pt x="1982" y="3313"/>
                  </a:lnTo>
                  <a:lnTo>
                    <a:pt x="1999" y="3294"/>
                  </a:lnTo>
                  <a:lnTo>
                    <a:pt x="2010" y="3281"/>
                  </a:lnTo>
                  <a:lnTo>
                    <a:pt x="2027" y="3268"/>
                  </a:lnTo>
                  <a:lnTo>
                    <a:pt x="2043" y="3249"/>
                  </a:lnTo>
                  <a:lnTo>
                    <a:pt x="2054" y="3236"/>
                  </a:lnTo>
                  <a:lnTo>
                    <a:pt x="2071" y="3224"/>
                  </a:lnTo>
                  <a:lnTo>
                    <a:pt x="2082" y="3211"/>
                  </a:lnTo>
                  <a:lnTo>
                    <a:pt x="2098" y="3198"/>
                  </a:lnTo>
                  <a:lnTo>
                    <a:pt x="2109" y="3185"/>
                  </a:lnTo>
                  <a:lnTo>
                    <a:pt x="2126" y="3173"/>
                  </a:lnTo>
                  <a:lnTo>
                    <a:pt x="2142" y="3160"/>
                  </a:lnTo>
                  <a:lnTo>
                    <a:pt x="2154" y="3147"/>
                  </a:lnTo>
                  <a:lnTo>
                    <a:pt x="2170" y="3135"/>
                  </a:lnTo>
                  <a:lnTo>
                    <a:pt x="2181" y="3122"/>
                  </a:lnTo>
                  <a:lnTo>
                    <a:pt x="2198" y="3109"/>
                  </a:lnTo>
                  <a:lnTo>
                    <a:pt x="2214" y="3096"/>
                  </a:lnTo>
                  <a:lnTo>
                    <a:pt x="2225" y="3084"/>
                  </a:lnTo>
                  <a:lnTo>
                    <a:pt x="2242" y="3071"/>
                  </a:lnTo>
                  <a:lnTo>
                    <a:pt x="2253" y="3058"/>
                  </a:lnTo>
                  <a:lnTo>
                    <a:pt x="2269" y="3046"/>
                  </a:lnTo>
                  <a:lnTo>
                    <a:pt x="2286" y="3033"/>
                  </a:lnTo>
                  <a:lnTo>
                    <a:pt x="2303" y="3020"/>
                  </a:lnTo>
                  <a:lnTo>
                    <a:pt x="2314" y="3001"/>
                  </a:lnTo>
                  <a:lnTo>
                    <a:pt x="2308" y="2524"/>
                  </a:lnTo>
                  <a:lnTo>
                    <a:pt x="2297" y="2518"/>
                  </a:lnTo>
                  <a:lnTo>
                    <a:pt x="33" y="2518"/>
                  </a:lnTo>
                  <a:lnTo>
                    <a:pt x="16" y="2499"/>
                  </a:lnTo>
                  <a:lnTo>
                    <a:pt x="27" y="6"/>
                  </a:lnTo>
                  <a:lnTo>
                    <a:pt x="5809" y="0"/>
                  </a:lnTo>
                  <a:lnTo>
                    <a:pt x="5804" y="2505"/>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 name=""/>
            <p:cNvSpPr/>
            <p:nvPr/>
          </p:nvSpPr>
          <p:spPr>
            <a:xfrm>
              <a:off x="6008760" y="720720"/>
              <a:ext cx="1421280" cy="900360"/>
            </a:xfrm>
            <a:custGeom>
              <a:avLst/>
              <a:gdLst/>
              <a:ahLst/>
              <a:rect l="0" t="0" r="r" b="b"/>
              <a:pathLst>
                <a:path w="3948" h="2501">
                  <a:moveTo>
                    <a:pt x="711" y="63"/>
                  </a:moveTo>
                  <a:lnTo>
                    <a:pt x="722" y="69"/>
                  </a:lnTo>
                  <a:lnTo>
                    <a:pt x="733" y="76"/>
                  </a:lnTo>
                  <a:lnTo>
                    <a:pt x="744" y="76"/>
                  </a:lnTo>
                  <a:lnTo>
                    <a:pt x="760" y="82"/>
                  </a:lnTo>
                  <a:lnTo>
                    <a:pt x="771" y="82"/>
                  </a:lnTo>
                  <a:lnTo>
                    <a:pt x="788" y="82"/>
                  </a:lnTo>
                  <a:lnTo>
                    <a:pt x="799" y="82"/>
                  </a:lnTo>
                  <a:lnTo>
                    <a:pt x="815" y="82"/>
                  </a:lnTo>
                  <a:lnTo>
                    <a:pt x="826" y="89"/>
                  </a:lnTo>
                  <a:lnTo>
                    <a:pt x="843" y="89"/>
                  </a:lnTo>
                  <a:lnTo>
                    <a:pt x="854" y="89"/>
                  </a:lnTo>
                  <a:lnTo>
                    <a:pt x="865" y="95"/>
                  </a:lnTo>
                  <a:lnTo>
                    <a:pt x="881" y="95"/>
                  </a:lnTo>
                  <a:lnTo>
                    <a:pt x="892" y="101"/>
                  </a:lnTo>
                  <a:lnTo>
                    <a:pt x="903" y="108"/>
                  </a:lnTo>
                  <a:lnTo>
                    <a:pt x="915" y="114"/>
                  </a:lnTo>
                  <a:lnTo>
                    <a:pt x="920" y="114"/>
                  </a:lnTo>
                  <a:lnTo>
                    <a:pt x="931" y="114"/>
                  </a:lnTo>
                  <a:lnTo>
                    <a:pt x="937" y="120"/>
                  </a:lnTo>
                  <a:lnTo>
                    <a:pt x="942" y="120"/>
                  </a:lnTo>
                  <a:lnTo>
                    <a:pt x="948" y="120"/>
                  </a:lnTo>
                  <a:lnTo>
                    <a:pt x="953" y="120"/>
                  </a:lnTo>
                  <a:lnTo>
                    <a:pt x="964" y="120"/>
                  </a:lnTo>
                  <a:lnTo>
                    <a:pt x="970" y="127"/>
                  </a:lnTo>
                  <a:lnTo>
                    <a:pt x="975" y="127"/>
                  </a:lnTo>
                  <a:lnTo>
                    <a:pt x="981" y="127"/>
                  </a:lnTo>
                  <a:lnTo>
                    <a:pt x="993" y="127"/>
                  </a:lnTo>
                  <a:lnTo>
                    <a:pt x="998" y="133"/>
                  </a:lnTo>
                  <a:lnTo>
                    <a:pt x="1004" y="133"/>
                  </a:lnTo>
                  <a:lnTo>
                    <a:pt x="1009" y="139"/>
                  </a:lnTo>
                  <a:lnTo>
                    <a:pt x="1015" y="139"/>
                  </a:lnTo>
                  <a:lnTo>
                    <a:pt x="1020" y="146"/>
                  </a:lnTo>
                  <a:lnTo>
                    <a:pt x="1037" y="146"/>
                  </a:lnTo>
                  <a:lnTo>
                    <a:pt x="1048" y="146"/>
                  </a:lnTo>
                  <a:lnTo>
                    <a:pt x="1064" y="146"/>
                  </a:lnTo>
                  <a:lnTo>
                    <a:pt x="1075" y="152"/>
                  </a:lnTo>
                  <a:lnTo>
                    <a:pt x="1086" y="152"/>
                  </a:lnTo>
                  <a:lnTo>
                    <a:pt x="1103" y="159"/>
                  </a:lnTo>
                  <a:lnTo>
                    <a:pt x="1114" y="165"/>
                  </a:lnTo>
                  <a:lnTo>
                    <a:pt x="1125" y="171"/>
                  </a:lnTo>
                  <a:lnTo>
                    <a:pt x="1142" y="171"/>
                  </a:lnTo>
                  <a:lnTo>
                    <a:pt x="1153" y="178"/>
                  </a:lnTo>
                  <a:lnTo>
                    <a:pt x="1164" y="184"/>
                  </a:lnTo>
                  <a:lnTo>
                    <a:pt x="1180" y="184"/>
                  </a:lnTo>
                  <a:lnTo>
                    <a:pt x="1191" y="190"/>
                  </a:lnTo>
                  <a:lnTo>
                    <a:pt x="1208" y="190"/>
                  </a:lnTo>
                  <a:lnTo>
                    <a:pt x="1219" y="197"/>
                  </a:lnTo>
                  <a:lnTo>
                    <a:pt x="1235" y="197"/>
                  </a:lnTo>
                  <a:lnTo>
                    <a:pt x="1241" y="203"/>
                  </a:lnTo>
                  <a:lnTo>
                    <a:pt x="1246" y="203"/>
                  </a:lnTo>
                  <a:lnTo>
                    <a:pt x="1252" y="209"/>
                  </a:lnTo>
                  <a:lnTo>
                    <a:pt x="1263" y="209"/>
                  </a:lnTo>
                  <a:lnTo>
                    <a:pt x="1268" y="216"/>
                  </a:lnTo>
                  <a:lnTo>
                    <a:pt x="1279" y="216"/>
                  </a:lnTo>
                  <a:lnTo>
                    <a:pt x="1285" y="216"/>
                  </a:lnTo>
                  <a:lnTo>
                    <a:pt x="1290" y="216"/>
                  </a:lnTo>
                  <a:lnTo>
                    <a:pt x="1301" y="216"/>
                  </a:lnTo>
                  <a:lnTo>
                    <a:pt x="1307" y="222"/>
                  </a:lnTo>
                  <a:lnTo>
                    <a:pt x="1318" y="222"/>
                  </a:lnTo>
                  <a:lnTo>
                    <a:pt x="1323" y="229"/>
                  </a:lnTo>
                  <a:lnTo>
                    <a:pt x="1329" y="229"/>
                  </a:lnTo>
                  <a:lnTo>
                    <a:pt x="1340" y="235"/>
                  </a:lnTo>
                  <a:lnTo>
                    <a:pt x="1345" y="235"/>
                  </a:lnTo>
                  <a:lnTo>
                    <a:pt x="1351" y="241"/>
                  </a:lnTo>
                  <a:lnTo>
                    <a:pt x="1390" y="260"/>
                  </a:lnTo>
                  <a:lnTo>
                    <a:pt x="1428" y="273"/>
                  </a:lnTo>
                  <a:lnTo>
                    <a:pt x="1467" y="286"/>
                  </a:lnTo>
                  <a:lnTo>
                    <a:pt x="1505" y="299"/>
                  </a:lnTo>
                  <a:lnTo>
                    <a:pt x="1544" y="318"/>
                  </a:lnTo>
                  <a:lnTo>
                    <a:pt x="1582" y="330"/>
                  </a:lnTo>
                  <a:lnTo>
                    <a:pt x="1621" y="349"/>
                  </a:lnTo>
                  <a:lnTo>
                    <a:pt x="1660" y="362"/>
                  </a:lnTo>
                  <a:lnTo>
                    <a:pt x="1698" y="381"/>
                  </a:lnTo>
                  <a:lnTo>
                    <a:pt x="1737" y="400"/>
                  </a:lnTo>
                  <a:lnTo>
                    <a:pt x="1775" y="419"/>
                  </a:lnTo>
                  <a:lnTo>
                    <a:pt x="1814" y="438"/>
                  </a:lnTo>
                  <a:lnTo>
                    <a:pt x="1847" y="458"/>
                  </a:lnTo>
                  <a:lnTo>
                    <a:pt x="1886" y="477"/>
                  </a:lnTo>
                  <a:lnTo>
                    <a:pt x="1924" y="496"/>
                  </a:lnTo>
                  <a:lnTo>
                    <a:pt x="1963" y="515"/>
                  </a:lnTo>
                  <a:lnTo>
                    <a:pt x="1996" y="534"/>
                  </a:lnTo>
                  <a:lnTo>
                    <a:pt x="2029" y="553"/>
                  </a:lnTo>
                  <a:lnTo>
                    <a:pt x="2062" y="572"/>
                  </a:lnTo>
                  <a:lnTo>
                    <a:pt x="2095" y="591"/>
                  </a:lnTo>
                  <a:lnTo>
                    <a:pt x="2128" y="604"/>
                  </a:lnTo>
                  <a:lnTo>
                    <a:pt x="2161" y="629"/>
                  </a:lnTo>
                  <a:lnTo>
                    <a:pt x="2194" y="648"/>
                  </a:lnTo>
                  <a:lnTo>
                    <a:pt x="2227" y="668"/>
                  </a:lnTo>
                  <a:lnTo>
                    <a:pt x="2260" y="687"/>
                  </a:lnTo>
                  <a:lnTo>
                    <a:pt x="2294" y="706"/>
                  </a:lnTo>
                  <a:lnTo>
                    <a:pt x="2327" y="731"/>
                  </a:lnTo>
                  <a:lnTo>
                    <a:pt x="2360" y="750"/>
                  </a:lnTo>
                  <a:lnTo>
                    <a:pt x="2387" y="776"/>
                  </a:lnTo>
                  <a:lnTo>
                    <a:pt x="2420" y="795"/>
                  </a:lnTo>
                  <a:lnTo>
                    <a:pt x="2453" y="820"/>
                  </a:lnTo>
                  <a:lnTo>
                    <a:pt x="2486" y="839"/>
                  </a:lnTo>
                  <a:lnTo>
                    <a:pt x="2514" y="858"/>
                  </a:lnTo>
                  <a:lnTo>
                    <a:pt x="2536" y="877"/>
                  </a:lnTo>
                  <a:lnTo>
                    <a:pt x="2564" y="903"/>
                  </a:lnTo>
                  <a:lnTo>
                    <a:pt x="2591" y="922"/>
                  </a:lnTo>
                  <a:lnTo>
                    <a:pt x="2619" y="941"/>
                  </a:lnTo>
                  <a:lnTo>
                    <a:pt x="2646" y="967"/>
                  </a:lnTo>
                  <a:lnTo>
                    <a:pt x="2674" y="986"/>
                  </a:lnTo>
                  <a:lnTo>
                    <a:pt x="2696" y="1005"/>
                  </a:lnTo>
                  <a:lnTo>
                    <a:pt x="2724" y="1030"/>
                  </a:lnTo>
                  <a:lnTo>
                    <a:pt x="2751" y="1049"/>
                  </a:lnTo>
                  <a:lnTo>
                    <a:pt x="2779" y="1075"/>
                  </a:lnTo>
                  <a:lnTo>
                    <a:pt x="2801" y="1094"/>
                  </a:lnTo>
                  <a:lnTo>
                    <a:pt x="2828" y="1119"/>
                  </a:lnTo>
                  <a:lnTo>
                    <a:pt x="2856" y="1138"/>
                  </a:lnTo>
                  <a:lnTo>
                    <a:pt x="2883" y="1164"/>
                  </a:lnTo>
                  <a:lnTo>
                    <a:pt x="2911" y="1183"/>
                  </a:lnTo>
                  <a:lnTo>
                    <a:pt x="2984" y="1254"/>
                  </a:lnTo>
                  <a:lnTo>
                    <a:pt x="3055" y="1330"/>
                  </a:lnTo>
                  <a:lnTo>
                    <a:pt x="3132" y="1400"/>
                  </a:lnTo>
                  <a:lnTo>
                    <a:pt x="3199" y="1477"/>
                  </a:lnTo>
                  <a:lnTo>
                    <a:pt x="3270" y="1553"/>
                  </a:lnTo>
                  <a:lnTo>
                    <a:pt x="3342" y="1636"/>
                  </a:lnTo>
                  <a:lnTo>
                    <a:pt x="3408" y="1718"/>
                  </a:lnTo>
                  <a:lnTo>
                    <a:pt x="3474" y="1801"/>
                  </a:lnTo>
                  <a:lnTo>
                    <a:pt x="3540" y="1884"/>
                  </a:lnTo>
                  <a:lnTo>
                    <a:pt x="3601" y="1966"/>
                  </a:lnTo>
                  <a:lnTo>
                    <a:pt x="3667" y="2055"/>
                  </a:lnTo>
                  <a:lnTo>
                    <a:pt x="3728" y="2138"/>
                  </a:lnTo>
                  <a:lnTo>
                    <a:pt x="3783" y="2227"/>
                  </a:lnTo>
                  <a:lnTo>
                    <a:pt x="3843" y="2316"/>
                  </a:lnTo>
                  <a:lnTo>
                    <a:pt x="3899" y="2412"/>
                  </a:lnTo>
                  <a:lnTo>
                    <a:pt x="3948" y="2501"/>
                  </a:lnTo>
                  <a:lnTo>
                    <a:pt x="11" y="2501"/>
                  </a:lnTo>
                  <a:lnTo>
                    <a:pt x="0" y="2494"/>
                  </a:lnTo>
                  <a:lnTo>
                    <a:pt x="5" y="0"/>
                  </a:lnTo>
                  <a:lnTo>
                    <a:pt x="49" y="6"/>
                  </a:lnTo>
                  <a:lnTo>
                    <a:pt x="93" y="6"/>
                  </a:lnTo>
                  <a:lnTo>
                    <a:pt x="137" y="6"/>
                  </a:lnTo>
                  <a:lnTo>
                    <a:pt x="181" y="6"/>
                  </a:lnTo>
                  <a:lnTo>
                    <a:pt x="225" y="12"/>
                  </a:lnTo>
                  <a:lnTo>
                    <a:pt x="270" y="12"/>
                  </a:lnTo>
                  <a:lnTo>
                    <a:pt x="314" y="12"/>
                  </a:lnTo>
                  <a:lnTo>
                    <a:pt x="358" y="19"/>
                  </a:lnTo>
                  <a:lnTo>
                    <a:pt x="402" y="19"/>
                  </a:lnTo>
                  <a:lnTo>
                    <a:pt x="446" y="25"/>
                  </a:lnTo>
                  <a:lnTo>
                    <a:pt x="490" y="31"/>
                  </a:lnTo>
                  <a:lnTo>
                    <a:pt x="534" y="31"/>
                  </a:lnTo>
                  <a:lnTo>
                    <a:pt x="578" y="38"/>
                  </a:lnTo>
                  <a:lnTo>
                    <a:pt x="622" y="50"/>
                  </a:lnTo>
                  <a:lnTo>
                    <a:pt x="666" y="57"/>
                  </a:lnTo>
                  <a:lnTo>
                    <a:pt x="711" y="63"/>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 name=""/>
            <p:cNvSpPr/>
            <p:nvPr/>
          </p:nvSpPr>
          <p:spPr>
            <a:xfrm>
              <a:off x="6008760" y="720720"/>
              <a:ext cx="1421280" cy="900360"/>
            </a:xfrm>
            <a:custGeom>
              <a:avLst/>
              <a:gdLst/>
              <a:ahLst/>
              <a:rect l="0" t="0" r="r" b="b"/>
              <a:pathLst>
                <a:path w="3948" h="2501">
                  <a:moveTo>
                    <a:pt x="711" y="63"/>
                  </a:moveTo>
                  <a:lnTo>
                    <a:pt x="722" y="69"/>
                  </a:lnTo>
                  <a:lnTo>
                    <a:pt x="733" y="76"/>
                  </a:lnTo>
                  <a:lnTo>
                    <a:pt x="744" y="76"/>
                  </a:lnTo>
                  <a:lnTo>
                    <a:pt x="760" y="82"/>
                  </a:lnTo>
                  <a:lnTo>
                    <a:pt x="771" y="82"/>
                  </a:lnTo>
                  <a:lnTo>
                    <a:pt x="788" y="82"/>
                  </a:lnTo>
                  <a:lnTo>
                    <a:pt x="799" y="82"/>
                  </a:lnTo>
                  <a:lnTo>
                    <a:pt x="815" y="82"/>
                  </a:lnTo>
                  <a:lnTo>
                    <a:pt x="826" y="89"/>
                  </a:lnTo>
                  <a:lnTo>
                    <a:pt x="843" y="89"/>
                  </a:lnTo>
                  <a:lnTo>
                    <a:pt x="854" y="89"/>
                  </a:lnTo>
                  <a:lnTo>
                    <a:pt x="865" y="95"/>
                  </a:lnTo>
                  <a:lnTo>
                    <a:pt x="881" y="95"/>
                  </a:lnTo>
                  <a:lnTo>
                    <a:pt x="892" y="101"/>
                  </a:lnTo>
                  <a:lnTo>
                    <a:pt x="903" y="108"/>
                  </a:lnTo>
                  <a:lnTo>
                    <a:pt x="915" y="114"/>
                  </a:lnTo>
                  <a:lnTo>
                    <a:pt x="920" y="114"/>
                  </a:lnTo>
                  <a:lnTo>
                    <a:pt x="931" y="114"/>
                  </a:lnTo>
                  <a:lnTo>
                    <a:pt x="937" y="120"/>
                  </a:lnTo>
                  <a:lnTo>
                    <a:pt x="942" y="120"/>
                  </a:lnTo>
                  <a:lnTo>
                    <a:pt x="948" y="120"/>
                  </a:lnTo>
                  <a:lnTo>
                    <a:pt x="953" y="120"/>
                  </a:lnTo>
                  <a:lnTo>
                    <a:pt x="964" y="120"/>
                  </a:lnTo>
                  <a:lnTo>
                    <a:pt x="970" y="127"/>
                  </a:lnTo>
                  <a:lnTo>
                    <a:pt x="975" y="127"/>
                  </a:lnTo>
                  <a:lnTo>
                    <a:pt x="981" y="127"/>
                  </a:lnTo>
                  <a:lnTo>
                    <a:pt x="993" y="127"/>
                  </a:lnTo>
                  <a:lnTo>
                    <a:pt x="998" y="133"/>
                  </a:lnTo>
                  <a:lnTo>
                    <a:pt x="1004" y="133"/>
                  </a:lnTo>
                  <a:lnTo>
                    <a:pt x="1009" y="139"/>
                  </a:lnTo>
                  <a:lnTo>
                    <a:pt x="1015" y="139"/>
                  </a:lnTo>
                  <a:lnTo>
                    <a:pt x="1020" y="146"/>
                  </a:lnTo>
                  <a:lnTo>
                    <a:pt x="1037" y="146"/>
                  </a:lnTo>
                  <a:lnTo>
                    <a:pt x="1048" y="146"/>
                  </a:lnTo>
                  <a:lnTo>
                    <a:pt x="1064" y="146"/>
                  </a:lnTo>
                  <a:lnTo>
                    <a:pt x="1075" y="152"/>
                  </a:lnTo>
                  <a:lnTo>
                    <a:pt x="1086" y="152"/>
                  </a:lnTo>
                  <a:lnTo>
                    <a:pt x="1103" y="159"/>
                  </a:lnTo>
                  <a:lnTo>
                    <a:pt x="1114" y="165"/>
                  </a:lnTo>
                  <a:lnTo>
                    <a:pt x="1125" y="171"/>
                  </a:lnTo>
                  <a:lnTo>
                    <a:pt x="1142" y="171"/>
                  </a:lnTo>
                  <a:lnTo>
                    <a:pt x="1153" y="178"/>
                  </a:lnTo>
                  <a:lnTo>
                    <a:pt x="1164" y="184"/>
                  </a:lnTo>
                  <a:lnTo>
                    <a:pt x="1180" y="184"/>
                  </a:lnTo>
                  <a:lnTo>
                    <a:pt x="1191" y="190"/>
                  </a:lnTo>
                  <a:lnTo>
                    <a:pt x="1208" y="190"/>
                  </a:lnTo>
                  <a:lnTo>
                    <a:pt x="1219" y="197"/>
                  </a:lnTo>
                  <a:lnTo>
                    <a:pt x="1235" y="197"/>
                  </a:lnTo>
                  <a:lnTo>
                    <a:pt x="1241" y="203"/>
                  </a:lnTo>
                  <a:lnTo>
                    <a:pt x="1246" y="203"/>
                  </a:lnTo>
                  <a:lnTo>
                    <a:pt x="1252" y="209"/>
                  </a:lnTo>
                  <a:lnTo>
                    <a:pt x="1263" y="209"/>
                  </a:lnTo>
                  <a:lnTo>
                    <a:pt x="1268" y="216"/>
                  </a:lnTo>
                  <a:lnTo>
                    <a:pt x="1279" y="216"/>
                  </a:lnTo>
                  <a:lnTo>
                    <a:pt x="1285" y="216"/>
                  </a:lnTo>
                  <a:lnTo>
                    <a:pt x="1290" y="216"/>
                  </a:lnTo>
                  <a:lnTo>
                    <a:pt x="1301" y="216"/>
                  </a:lnTo>
                  <a:lnTo>
                    <a:pt x="1307" y="222"/>
                  </a:lnTo>
                  <a:lnTo>
                    <a:pt x="1318" y="222"/>
                  </a:lnTo>
                  <a:lnTo>
                    <a:pt x="1323" y="229"/>
                  </a:lnTo>
                  <a:lnTo>
                    <a:pt x="1329" y="229"/>
                  </a:lnTo>
                  <a:lnTo>
                    <a:pt x="1340" y="235"/>
                  </a:lnTo>
                  <a:lnTo>
                    <a:pt x="1345" y="235"/>
                  </a:lnTo>
                  <a:lnTo>
                    <a:pt x="1351" y="241"/>
                  </a:lnTo>
                  <a:lnTo>
                    <a:pt x="1390" y="260"/>
                  </a:lnTo>
                  <a:lnTo>
                    <a:pt x="1428" y="273"/>
                  </a:lnTo>
                  <a:lnTo>
                    <a:pt x="1467" y="286"/>
                  </a:lnTo>
                  <a:lnTo>
                    <a:pt x="1505" y="299"/>
                  </a:lnTo>
                  <a:lnTo>
                    <a:pt x="1544" y="318"/>
                  </a:lnTo>
                  <a:lnTo>
                    <a:pt x="1582" y="330"/>
                  </a:lnTo>
                  <a:lnTo>
                    <a:pt x="1621" y="349"/>
                  </a:lnTo>
                  <a:lnTo>
                    <a:pt x="1660" y="362"/>
                  </a:lnTo>
                  <a:lnTo>
                    <a:pt x="1698" y="381"/>
                  </a:lnTo>
                  <a:lnTo>
                    <a:pt x="1737" y="400"/>
                  </a:lnTo>
                  <a:lnTo>
                    <a:pt x="1775" y="419"/>
                  </a:lnTo>
                  <a:lnTo>
                    <a:pt x="1814" y="438"/>
                  </a:lnTo>
                  <a:lnTo>
                    <a:pt x="1847" y="458"/>
                  </a:lnTo>
                  <a:lnTo>
                    <a:pt x="1886" y="477"/>
                  </a:lnTo>
                  <a:lnTo>
                    <a:pt x="1924" y="496"/>
                  </a:lnTo>
                  <a:lnTo>
                    <a:pt x="1963" y="515"/>
                  </a:lnTo>
                  <a:lnTo>
                    <a:pt x="1996" y="534"/>
                  </a:lnTo>
                  <a:lnTo>
                    <a:pt x="2029" y="553"/>
                  </a:lnTo>
                  <a:lnTo>
                    <a:pt x="2062" y="572"/>
                  </a:lnTo>
                  <a:lnTo>
                    <a:pt x="2095" y="591"/>
                  </a:lnTo>
                  <a:lnTo>
                    <a:pt x="2128" y="604"/>
                  </a:lnTo>
                  <a:lnTo>
                    <a:pt x="2161" y="629"/>
                  </a:lnTo>
                  <a:lnTo>
                    <a:pt x="2194" y="648"/>
                  </a:lnTo>
                  <a:lnTo>
                    <a:pt x="2227" y="668"/>
                  </a:lnTo>
                  <a:lnTo>
                    <a:pt x="2260" y="687"/>
                  </a:lnTo>
                  <a:lnTo>
                    <a:pt x="2294" y="706"/>
                  </a:lnTo>
                  <a:lnTo>
                    <a:pt x="2327" y="731"/>
                  </a:lnTo>
                  <a:lnTo>
                    <a:pt x="2360" y="750"/>
                  </a:lnTo>
                  <a:lnTo>
                    <a:pt x="2387" y="776"/>
                  </a:lnTo>
                  <a:lnTo>
                    <a:pt x="2420" y="795"/>
                  </a:lnTo>
                  <a:lnTo>
                    <a:pt x="2453" y="820"/>
                  </a:lnTo>
                  <a:lnTo>
                    <a:pt x="2486" y="839"/>
                  </a:lnTo>
                  <a:lnTo>
                    <a:pt x="2514" y="858"/>
                  </a:lnTo>
                  <a:lnTo>
                    <a:pt x="2536" y="877"/>
                  </a:lnTo>
                  <a:lnTo>
                    <a:pt x="2564" y="903"/>
                  </a:lnTo>
                  <a:lnTo>
                    <a:pt x="2591" y="922"/>
                  </a:lnTo>
                  <a:lnTo>
                    <a:pt x="2619" y="941"/>
                  </a:lnTo>
                  <a:lnTo>
                    <a:pt x="2646" y="967"/>
                  </a:lnTo>
                  <a:lnTo>
                    <a:pt x="2674" y="986"/>
                  </a:lnTo>
                  <a:lnTo>
                    <a:pt x="2696" y="1005"/>
                  </a:lnTo>
                  <a:lnTo>
                    <a:pt x="2724" y="1030"/>
                  </a:lnTo>
                  <a:lnTo>
                    <a:pt x="2751" y="1049"/>
                  </a:lnTo>
                  <a:lnTo>
                    <a:pt x="2779" y="1075"/>
                  </a:lnTo>
                  <a:lnTo>
                    <a:pt x="2801" y="1094"/>
                  </a:lnTo>
                  <a:lnTo>
                    <a:pt x="2828" y="1119"/>
                  </a:lnTo>
                  <a:lnTo>
                    <a:pt x="2856" y="1138"/>
                  </a:lnTo>
                  <a:lnTo>
                    <a:pt x="2883" y="1164"/>
                  </a:lnTo>
                  <a:lnTo>
                    <a:pt x="2911" y="1183"/>
                  </a:lnTo>
                  <a:lnTo>
                    <a:pt x="2984" y="1254"/>
                  </a:lnTo>
                  <a:lnTo>
                    <a:pt x="3055" y="1330"/>
                  </a:lnTo>
                  <a:lnTo>
                    <a:pt x="3132" y="1400"/>
                  </a:lnTo>
                  <a:lnTo>
                    <a:pt x="3199" y="1477"/>
                  </a:lnTo>
                  <a:lnTo>
                    <a:pt x="3270" y="1553"/>
                  </a:lnTo>
                  <a:lnTo>
                    <a:pt x="3342" y="1636"/>
                  </a:lnTo>
                  <a:lnTo>
                    <a:pt x="3408" y="1718"/>
                  </a:lnTo>
                  <a:lnTo>
                    <a:pt x="3474" y="1801"/>
                  </a:lnTo>
                  <a:lnTo>
                    <a:pt x="3540" y="1884"/>
                  </a:lnTo>
                  <a:lnTo>
                    <a:pt x="3601" y="1966"/>
                  </a:lnTo>
                  <a:lnTo>
                    <a:pt x="3667" y="2055"/>
                  </a:lnTo>
                  <a:lnTo>
                    <a:pt x="3728" y="2138"/>
                  </a:lnTo>
                  <a:lnTo>
                    <a:pt x="3783" y="2227"/>
                  </a:lnTo>
                  <a:lnTo>
                    <a:pt x="3843" y="2316"/>
                  </a:lnTo>
                  <a:lnTo>
                    <a:pt x="3899" y="2412"/>
                  </a:lnTo>
                  <a:lnTo>
                    <a:pt x="3948" y="2501"/>
                  </a:lnTo>
                  <a:lnTo>
                    <a:pt x="11" y="2501"/>
                  </a:lnTo>
                  <a:lnTo>
                    <a:pt x="0" y="2494"/>
                  </a:lnTo>
                  <a:lnTo>
                    <a:pt x="5" y="0"/>
                  </a:lnTo>
                  <a:lnTo>
                    <a:pt x="49" y="6"/>
                  </a:lnTo>
                  <a:lnTo>
                    <a:pt x="93" y="6"/>
                  </a:lnTo>
                  <a:lnTo>
                    <a:pt x="137" y="6"/>
                  </a:lnTo>
                  <a:lnTo>
                    <a:pt x="181" y="6"/>
                  </a:lnTo>
                  <a:lnTo>
                    <a:pt x="225" y="12"/>
                  </a:lnTo>
                  <a:lnTo>
                    <a:pt x="270" y="12"/>
                  </a:lnTo>
                  <a:lnTo>
                    <a:pt x="314" y="12"/>
                  </a:lnTo>
                  <a:lnTo>
                    <a:pt x="358" y="19"/>
                  </a:lnTo>
                  <a:lnTo>
                    <a:pt x="402" y="19"/>
                  </a:lnTo>
                  <a:lnTo>
                    <a:pt x="446" y="25"/>
                  </a:lnTo>
                  <a:lnTo>
                    <a:pt x="490" y="31"/>
                  </a:lnTo>
                  <a:lnTo>
                    <a:pt x="534" y="31"/>
                  </a:lnTo>
                  <a:lnTo>
                    <a:pt x="578" y="38"/>
                  </a:lnTo>
                  <a:lnTo>
                    <a:pt x="622" y="50"/>
                  </a:lnTo>
                  <a:lnTo>
                    <a:pt x="666" y="57"/>
                  </a:lnTo>
                  <a:lnTo>
                    <a:pt x="711" y="63"/>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 name=""/>
            <p:cNvSpPr/>
            <p:nvPr/>
          </p:nvSpPr>
          <p:spPr>
            <a:xfrm>
              <a:off x="2360520" y="723960"/>
              <a:ext cx="1432440" cy="902160"/>
            </a:xfrm>
            <a:custGeom>
              <a:avLst/>
              <a:gdLst/>
              <a:ahLst/>
              <a:rect l="0" t="0" r="r" b="b"/>
              <a:pathLst>
                <a:path w="3979" h="2506">
                  <a:moveTo>
                    <a:pt x="3951" y="2506"/>
                  </a:moveTo>
                  <a:lnTo>
                    <a:pt x="0" y="2500"/>
                  </a:lnTo>
                  <a:lnTo>
                    <a:pt x="27" y="2449"/>
                  </a:lnTo>
                  <a:lnTo>
                    <a:pt x="55" y="2398"/>
                  </a:lnTo>
                  <a:lnTo>
                    <a:pt x="82" y="2354"/>
                  </a:lnTo>
                  <a:lnTo>
                    <a:pt x="116" y="2303"/>
                  </a:lnTo>
                  <a:lnTo>
                    <a:pt x="143" y="2252"/>
                  </a:lnTo>
                  <a:lnTo>
                    <a:pt x="176" y="2207"/>
                  </a:lnTo>
                  <a:lnTo>
                    <a:pt x="209" y="2157"/>
                  </a:lnTo>
                  <a:lnTo>
                    <a:pt x="243" y="2112"/>
                  </a:lnTo>
                  <a:lnTo>
                    <a:pt x="276" y="2061"/>
                  </a:lnTo>
                  <a:lnTo>
                    <a:pt x="309" y="2017"/>
                  </a:lnTo>
                  <a:lnTo>
                    <a:pt x="342" y="1972"/>
                  </a:lnTo>
                  <a:lnTo>
                    <a:pt x="375" y="1921"/>
                  </a:lnTo>
                  <a:lnTo>
                    <a:pt x="414" y="1876"/>
                  </a:lnTo>
                  <a:lnTo>
                    <a:pt x="447" y="1831"/>
                  </a:lnTo>
                  <a:lnTo>
                    <a:pt x="480" y="1787"/>
                  </a:lnTo>
                  <a:lnTo>
                    <a:pt x="513" y="1736"/>
                  </a:lnTo>
                  <a:lnTo>
                    <a:pt x="618" y="1615"/>
                  </a:lnTo>
                  <a:lnTo>
                    <a:pt x="723" y="1494"/>
                  </a:lnTo>
                  <a:lnTo>
                    <a:pt x="834" y="1380"/>
                  </a:lnTo>
                  <a:lnTo>
                    <a:pt x="944" y="1272"/>
                  </a:lnTo>
                  <a:lnTo>
                    <a:pt x="1061" y="1164"/>
                  </a:lnTo>
                  <a:lnTo>
                    <a:pt x="1177" y="1062"/>
                  </a:lnTo>
                  <a:lnTo>
                    <a:pt x="1299" y="967"/>
                  </a:lnTo>
                  <a:lnTo>
                    <a:pt x="1420" y="871"/>
                  </a:lnTo>
                  <a:lnTo>
                    <a:pt x="1547" y="782"/>
                  </a:lnTo>
                  <a:lnTo>
                    <a:pt x="1674" y="700"/>
                  </a:lnTo>
                  <a:lnTo>
                    <a:pt x="1801" y="616"/>
                  </a:lnTo>
                  <a:lnTo>
                    <a:pt x="1929" y="540"/>
                  </a:lnTo>
                  <a:lnTo>
                    <a:pt x="2061" y="470"/>
                  </a:lnTo>
                  <a:lnTo>
                    <a:pt x="2194" y="406"/>
                  </a:lnTo>
                  <a:lnTo>
                    <a:pt x="2326" y="343"/>
                  </a:lnTo>
                  <a:lnTo>
                    <a:pt x="2464" y="292"/>
                  </a:lnTo>
                  <a:lnTo>
                    <a:pt x="2470" y="286"/>
                  </a:lnTo>
                  <a:lnTo>
                    <a:pt x="2475" y="279"/>
                  </a:lnTo>
                  <a:lnTo>
                    <a:pt x="2486" y="279"/>
                  </a:lnTo>
                  <a:lnTo>
                    <a:pt x="2492" y="279"/>
                  </a:lnTo>
                  <a:lnTo>
                    <a:pt x="2498" y="273"/>
                  </a:lnTo>
                  <a:lnTo>
                    <a:pt x="2509" y="273"/>
                  </a:lnTo>
                  <a:lnTo>
                    <a:pt x="2514" y="273"/>
                  </a:lnTo>
                  <a:lnTo>
                    <a:pt x="2520" y="273"/>
                  </a:lnTo>
                  <a:lnTo>
                    <a:pt x="2531" y="267"/>
                  </a:lnTo>
                  <a:lnTo>
                    <a:pt x="2536" y="267"/>
                  </a:lnTo>
                  <a:lnTo>
                    <a:pt x="2542" y="267"/>
                  </a:lnTo>
                  <a:lnTo>
                    <a:pt x="2553" y="260"/>
                  </a:lnTo>
                  <a:lnTo>
                    <a:pt x="2558" y="260"/>
                  </a:lnTo>
                  <a:lnTo>
                    <a:pt x="2564" y="254"/>
                  </a:lnTo>
                  <a:lnTo>
                    <a:pt x="2575" y="254"/>
                  </a:lnTo>
                  <a:lnTo>
                    <a:pt x="2580" y="247"/>
                  </a:lnTo>
                  <a:lnTo>
                    <a:pt x="2586" y="247"/>
                  </a:lnTo>
                  <a:lnTo>
                    <a:pt x="2591" y="241"/>
                  </a:lnTo>
                  <a:lnTo>
                    <a:pt x="2597" y="241"/>
                  </a:lnTo>
                  <a:lnTo>
                    <a:pt x="2602" y="241"/>
                  </a:lnTo>
                  <a:lnTo>
                    <a:pt x="2608" y="235"/>
                  </a:lnTo>
                  <a:lnTo>
                    <a:pt x="2614" y="235"/>
                  </a:lnTo>
                  <a:lnTo>
                    <a:pt x="2619" y="235"/>
                  </a:lnTo>
                  <a:lnTo>
                    <a:pt x="2625" y="228"/>
                  </a:lnTo>
                  <a:lnTo>
                    <a:pt x="2630" y="228"/>
                  </a:lnTo>
                  <a:lnTo>
                    <a:pt x="2636" y="228"/>
                  </a:lnTo>
                  <a:lnTo>
                    <a:pt x="2641" y="222"/>
                  </a:lnTo>
                  <a:lnTo>
                    <a:pt x="2647" y="222"/>
                  </a:lnTo>
                  <a:lnTo>
                    <a:pt x="2652" y="216"/>
                  </a:lnTo>
                  <a:lnTo>
                    <a:pt x="2658" y="216"/>
                  </a:lnTo>
                  <a:lnTo>
                    <a:pt x="2663" y="209"/>
                  </a:lnTo>
                  <a:lnTo>
                    <a:pt x="2669" y="209"/>
                  </a:lnTo>
                  <a:lnTo>
                    <a:pt x="2680" y="209"/>
                  </a:lnTo>
                  <a:lnTo>
                    <a:pt x="2696" y="203"/>
                  </a:lnTo>
                  <a:lnTo>
                    <a:pt x="2707" y="203"/>
                  </a:lnTo>
                  <a:lnTo>
                    <a:pt x="2724" y="197"/>
                  </a:lnTo>
                  <a:lnTo>
                    <a:pt x="2735" y="197"/>
                  </a:lnTo>
                  <a:lnTo>
                    <a:pt x="2752" y="190"/>
                  </a:lnTo>
                  <a:lnTo>
                    <a:pt x="2763" y="190"/>
                  </a:lnTo>
                  <a:lnTo>
                    <a:pt x="2774" y="184"/>
                  </a:lnTo>
                  <a:lnTo>
                    <a:pt x="2790" y="184"/>
                  </a:lnTo>
                  <a:lnTo>
                    <a:pt x="2801" y="178"/>
                  </a:lnTo>
                  <a:lnTo>
                    <a:pt x="2818" y="171"/>
                  </a:lnTo>
                  <a:lnTo>
                    <a:pt x="2829" y="171"/>
                  </a:lnTo>
                  <a:lnTo>
                    <a:pt x="2840" y="165"/>
                  </a:lnTo>
                  <a:lnTo>
                    <a:pt x="2857" y="158"/>
                  </a:lnTo>
                  <a:lnTo>
                    <a:pt x="2868" y="152"/>
                  </a:lnTo>
                  <a:lnTo>
                    <a:pt x="2879" y="152"/>
                  </a:lnTo>
                  <a:lnTo>
                    <a:pt x="2901" y="146"/>
                  </a:lnTo>
                  <a:lnTo>
                    <a:pt x="2923" y="139"/>
                  </a:lnTo>
                  <a:lnTo>
                    <a:pt x="2945" y="133"/>
                  </a:lnTo>
                  <a:lnTo>
                    <a:pt x="2967" y="127"/>
                  </a:lnTo>
                  <a:lnTo>
                    <a:pt x="2990" y="120"/>
                  </a:lnTo>
                  <a:lnTo>
                    <a:pt x="3012" y="120"/>
                  </a:lnTo>
                  <a:lnTo>
                    <a:pt x="3034" y="108"/>
                  </a:lnTo>
                  <a:lnTo>
                    <a:pt x="3056" y="108"/>
                  </a:lnTo>
                  <a:lnTo>
                    <a:pt x="3079" y="101"/>
                  </a:lnTo>
                  <a:lnTo>
                    <a:pt x="3101" y="95"/>
                  </a:lnTo>
                  <a:lnTo>
                    <a:pt x="3123" y="89"/>
                  </a:lnTo>
                  <a:lnTo>
                    <a:pt x="3145" y="82"/>
                  </a:lnTo>
                  <a:lnTo>
                    <a:pt x="3167" y="82"/>
                  </a:lnTo>
                  <a:lnTo>
                    <a:pt x="3189" y="76"/>
                  </a:lnTo>
                  <a:lnTo>
                    <a:pt x="3211" y="76"/>
                  </a:lnTo>
                  <a:lnTo>
                    <a:pt x="3239" y="69"/>
                  </a:lnTo>
                  <a:lnTo>
                    <a:pt x="3272" y="63"/>
                  </a:lnTo>
                  <a:lnTo>
                    <a:pt x="3305" y="63"/>
                  </a:lnTo>
                  <a:lnTo>
                    <a:pt x="3344" y="57"/>
                  </a:lnTo>
                  <a:lnTo>
                    <a:pt x="3377" y="50"/>
                  </a:lnTo>
                  <a:lnTo>
                    <a:pt x="3410" y="44"/>
                  </a:lnTo>
                  <a:lnTo>
                    <a:pt x="3443" y="38"/>
                  </a:lnTo>
                  <a:lnTo>
                    <a:pt x="3476" y="31"/>
                  </a:lnTo>
                  <a:lnTo>
                    <a:pt x="3515" y="25"/>
                  </a:lnTo>
                  <a:lnTo>
                    <a:pt x="3548" y="19"/>
                  </a:lnTo>
                  <a:lnTo>
                    <a:pt x="3581" y="19"/>
                  </a:lnTo>
                  <a:lnTo>
                    <a:pt x="3614" y="12"/>
                  </a:lnTo>
                  <a:lnTo>
                    <a:pt x="3648" y="6"/>
                  </a:lnTo>
                  <a:lnTo>
                    <a:pt x="3686" y="6"/>
                  </a:lnTo>
                  <a:lnTo>
                    <a:pt x="3719" y="0"/>
                  </a:lnTo>
                  <a:lnTo>
                    <a:pt x="3758" y="0"/>
                  </a:lnTo>
                  <a:lnTo>
                    <a:pt x="3797" y="0"/>
                  </a:lnTo>
                  <a:lnTo>
                    <a:pt x="3979" y="0"/>
                  </a:lnTo>
                  <a:lnTo>
                    <a:pt x="3979" y="25"/>
                  </a:lnTo>
                  <a:lnTo>
                    <a:pt x="3979" y="108"/>
                  </a:lnTo>
                  <a:lnTo>
                    <a:pt x="3979" y="228"/>
                  </a:lnTo>
                  <a:lnTo>
                    <a:pt x="3979" y="387"/>
                  </a:lnTo>
                  <a:lnTo>
                    <a:pt x="3979" y="578"/>
                  </a:lnTo>
                  <a:lnTo>
                    <a:pt x="3979" y="789"/>
                  </a:lnTo>
                  <a:lnTo>
                    <a:pt x="3979" y="1018"/>
                  </a:lnTo>
                  <a:lnTo>
                    <a:pt x="3979" y="1247"/>
                  </a:lnTo>
                  <a:lnTo>
                    <a:pt x="3974" y="1482"/>
                  </a:lnTo>
                  <a:lnTo>
                    <a:pt x="3974" y="1704"/>
                  </a:lnTo>
                  <a:lnTo>
                    <a:pt x="3974" y="1921"/>
                  </a:lnTo>
                  <a:lnTo>
                    <a:pt x="3968" y="2106"/>
                  </a:lnTo>
                  <a:lnTo>
                    <a:pt x="3962" y="2265"/>
                  </a:lnTo>
                  <a:lnTo>
                    <a:pt x="3962" y="2392"/>
                  </a:lnTo>
                  <a:lnTo>
                    <a:pt x="3957" y="2474"/>
                  </a:lnTo>
                  <a:lnTo>
                    <a:pt x="3951" y="2506"/>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 name=""/>
            <p:cNvSpPr/>
            <p:nvPr/>
          </p:nvSpPr>
          <p:spPr>
            <a:xfrm>
              <a:off x="2360520" y="723960"/>
              <a:ext cx="1432440" cy="902160"/>
            </a:xfrm>
            <a:custGeom>
              <a:avLst/>
              <a:gdLst/>
              <a:ahLst/>
              <a:rect l="0" t="0" r="r" b="b"/>
              <a:pathLst>
                <a:path w="3979" h="2506">
                  <a:moveTo>
                    <a:pt x="3951" y="2506"/>
                  </a:moveTo>
                  <a:lnTo>
                    <a:pt x="0" y="2500"/>
                  </a:lnTo>
                  <a:lnTo>
                    <a:pt x="27" y="2449"/>
                  </a:lnTo>
                  <a:lnTo>
                    <a:pt x="55" y="2398"/>
                  </a:lnTo>
                  <a:lnTo>
                    <a:pt x="82" y="2354"/>
                  </a:lnTo>
                  <a:lnTo>
                    <a:pt x="116" y="2303"/>
                  </a:lnTo>
                  <a:lnTo>
                    <a:pt x="143" y="2252"/>
                  </a:lnTo>
                  <a:lnTo>
                    <a:pt x="176" y="2207"/>
                  </a:lnTo>
                  <a:lnTo>
                    <a:pt x="209" y="2157"/>
                  </a:lnTo>
                  <a:lnTo>
                    <a:pt x="243" y="2112"/>
                  </a:lnTo>
                  <a:lnTo>
                    <a:pt x="276" y="2061"/>
                  </a:lnTo>
                  <a:lnTo>
                    <a:pt x="309" y="2017"/>
                  </a:lnTo>
                  <a:lnTo>
                    <a:pt x="342" y="1972"/>
                  </a:lnTo>
                  <a:lnTo>
                    <a:pt x="375" y="1921"/>
                  </a:lnTo>
                  <a:lnTo>
                    <a:pt x="414" y="1876"/>
                  </a:lnTo>
                  <a:lnTo>
                    <a:pt x="447" y="1831"/>
                  </a:lnTo>
                  <a:lnTo>
                    <a:pt x="480" y="1787"/>
                  </a:lnTo>
                  <a:lnTo>
                    <a:pt x="513" y="1736"/>
                  </a:lnTo>
                  <a:lnTo>
                    <a:pt x="618" y="1615"/>
                  </a:lnTo>
                  <a:lnTo>
                    <a:pt x="723" y="1494"/>
                  </a:lnTo>
                  <a:lnTo>
                    <a:pt x="834" y="1380"/>
                  </a:lnTo>
                  <a:lnTo>
                    <a:pt x="944" y="1272"/>
                  </a:lnTo>
                  <a:lnTo>
                    <a:pt x="1061" y="1164"/>
                  </a:lnTo>
                  <a:lnTo>
                    <a:pt x="1177" y="1062"/>
                  </a:lnTo>
                  <a:lnTo>
                    <a:pt x="1299" y="967"/>
                  </a:lnTo>
                  <a:lnTo>
                    <a:pt x="1420" y="871"/>
                  </a:lnTo>
                  <a:lnTo>
                    <a:pt x="1547" y="782"/>
                  </a:lnTo>
                  <a:lnTo>
                    <a:pt x="1674" y="700"/>
                  </a:lnTo>
                  <a:lnTo>
                    <a:pt x="1801" y="616"/>
                  </a:lnTo>
                  <a:lnTo>
                    <a:pt x="1929" y="540"/>
                  </a:lnTo>
                  <a:lnTo>
                    <a:pt x="2061" y="470"/>
                  </a:lnTo>
                  <a:lnTo>
                    <a:pt x="2194" y="406"/>
                  </a:lnTo>
                  <a:lnTo>
                    <a:pt x="2326" y="343"/>
                  </a:lnTo>
                  <a:lnTo>
                    <a:pt x="2464" y="292"/>
                  </a:lnTo>
                  <a:lnTo>
                    <a:pt x="2470" y="286"/>
                  </a:lnTo>
                  <a:lnTo>
                    <a:pt x="2475" y="279"/>
                  </a:lnTo>
                  <a:lnTo>
                    <a:pt x="2486" y="279"/>
                  </a:lnTo>
                  <a:lnTo>
                    <a:pt x="2492" y="279"/>
                  </a:lnTo>
                  <a:lnTo>
                    <a:pt x="2498" y="273"/>
                  </a:lnTo>
                  <a:lnTo>
                    <a:pt x="2509" y="273"/>
                  </a:lnTo>
                  <a:lnTo>
                    <a:pt x="2514" y="273"/>
                  </a:lnTo>
                  <a:lnTo>
                    <a:pt x="2520" y="273"/>
                  </a:lnTo>
                  <a:lnTo>
                    <a:pt x="2531" y="267"/>
                  </a:lnTo>
                  <a:lnTo>
                    <a:pt x="2536" y="267"/>
                  </a:lnTo>
                  <a:lnTo>
                    <a:pt x="2542" y="267"/>
                  </a:lnTo>
                  <a:lnTo>
                    <a:pt x="2553" y="260"/>
                  </a:lnTo>
                  <a:lnTo>
                    <a:pt x="2558" y="260"/>
                  </a:lnTo>
                  <a:lnTo>
                    <a:pt x="2564" y="254"/>
                  </a:lnTo>
                  <a:lnTo>
                    <a:pt x="2575" y="254"/>
                  </a:lnTo>
                  <a:lnTo>
                    <a:pt x="2580" y="247"/>
                  </a:lnTo>
                  <a:lnTo>
                    <a:pt x="2586" y="247"/>
                  </a:lnTo>
                  <a:lnTo>
                    <a:pt x="2591" y="241"/>
                  </a:lnTo>
                  <a:lnTo>
                    <a:pt x="2597" y="241"/>
                  </a:lnTo>
                  <a:lnTo>
                    <a:pt x="2602" y="241"/>
                  </a:lnTo>
                  <a:lnTo>
                    <a:pt x="2608" y="235"/>
                  </a:lnTo>
                  <a:lnTo>
                    <a:pt x="2614" y="235"/>
                  </a:lnTo>
                  <a:lnTo>
                    <a:pt x="2619" y="235"/>
                  </a:lnTo>
                  <a:lnTo>
                    <a:pt x="2625" y="228"/>
                  </a:lnTo>
                  <a:lnTo>
                    <a:pt x="2630" y="228"/>
                  </a:lnTo>
                  <a:lnTo>
                    <a:pt x="2636" y="228"/>
                  </a:lnTo>
                  <a:lnTo>
                    <a:pt x="2641" y="222"/>
                  </a:lnTo>
                  <a:lnTo>
                    <a:pt x="2647" y="222"/>
                  </a:lnTo>
                  <a:lnTo>
                    <a:pt x="2652" y="216"/>
                  </a:lnTo>
                  <a:lnTo>
                    <a:pt x="2658" y="216"/>
                  </a:lnTo>
                  <a:lnTo>
                    <a:pt x="2663" y="209"/>
                  </a:lnTo>
                  <a:lnTo>
                    <a:pt x="2669" y="209"/>
                  </a:lnTo>
                  <a:lnTo>
                    <a:pt x="2680" y="209"/>
                  </a:lnTo>
                  <a:lnTo>
                    <a:pt x="2696" y="203"/>
                  </a:lnTo>
                  <a:lnTo>
                    <a:pt x="2707" y="203"/>
                  </a:lnTo>
                  <a:lnTo>
                    <a:pt x="2724" y="197"/>
                  </a:lnTo>
                  <a:lnTo>
                    <a:pt x="2735" y="197"/>
                  </a:lnTo>
                  <a:lnTo>
                    <a:pt x="2752" y="190"/>
                  </a:lnTo>
                  <a:lnTo>
                    <a:pt x="2763" y="190"/>
                  </a:lnTo>
                  <a:lnTo>
                    <a:pt x="2774" y="184"/>
                  </a:lnTo>
                  <a:lnTo>
                    <a:pt x="2790" y="184"/>
                  </a:lnTo>
                  <a:lnTo>
                    <a:pt x="2801" y="178"/>
                  </a:lnTo>
                  <a:lnTo>
                    <a:pt x="2818" y="171"/>
                  </a:lnTo>
                  <a:lnTo>
                    <a:pt x="2829" y="171"/>
                  </a:lnTo>
                  <a:lnTo>
                    <a:pt x="2840" y="165"/>
                  </a:lnTo>
                  <a:lnTo>
                    <a:pt x="2857" y="158"/>
                  </a:lnTo>
                  <a:lnTo>
                    <a:pt x="2868" y="152"/>
                  </a:lnTo>
                  <a:lnTo>
                    <a:pt x="2879" y="152"/>
                  </a:lnTo>
                  <a:lnTo>
                    <a:pt x="2901" y="146"/>
                  </a:lnTo>
                  <a:lnTo>
                    <a:pt x="2923" y="139"/>
                  </a:lnTo>
                  <a:lnTo>
                    <a:pt x="2945" y="133"/>
                  </a:lnTo>
                  <a:lnTo>
                    <a:pt x="2967" y="127"/>
                  </a:lnTo>
                  <a:lnTo>
                    <a:pt x="2990" y="120"/>
                  </a:lnTo>
                  <a:lnTo>
                    <a:pt x="3012" y="120"/>
                  </a:lnTo>
                  <a:lnTo>
                    <a:pt x="3034" y="108"/>
                  </a:lnTo>
                  <a:lnTo>
                    <a:pt x="3056" y="108"/>
                  </a:lnTo>
                  <a:lnTo>
                    <a:pt x="3079" y="101"/>
                  </a:lnTo>
                  <a:lnTo>
                    <a:pt x="3101" y="95"/>
                  </a:lnTo>
                  <a:lnTo>
                    <a:pt x="3123" y="89"/>
                  </a:lnTo>
                  <a:lnTo>
                    <a:pt x="3145" y="82"/>
                  </a:lnTo>
                  <a:lnTo>
                    <a:pt x="3167" y="82"/>
                  </a:lnTo>
                  <a:lnTo>
                    <a:pt x="3189" y="76"/>
                  </a:lnTo>
                  <a:lnTo>
                    <a:pt x="3211" y="76"/>
                  </a:lnTo>
                  <a:lnTo>
                    <a:pt x="3239" y="69"/>
                  </a:lnTo>
                  <a:lnTo>
                    <a:pt x="3272" y="63"/>
                  </a:lnTo>
                  <a:lnTo>
                    <a:pt x="3305" y="63"/>
                  </a:lnTo>
                  <a:lnTo>
                    <a:pt x="3344" y="57"/>
                  </a:lnTo>
                  <a:lnTo>
                    <a:pt x="3377" y="50"/>
                  </a:lnTo>
                  <a:lnTo>
                    <a:pt x="3410" y="44"/>
                  </a:lnTo>
                  <a:lnTo>
                    <a:pt x="3443" y="38"/>
                  </a:lnTo>
                  <a:lnTo>
                    <a:pt x="3476" y="31"/>
                  </a:lnTo>
                  <a:lnTo>
                    <a:pt x="3515" y="25"/>
                  </a:lnTo>
                  <a:lnTo>
                    <a:pt x="3548" y="19"/>
                  </a:lnTo>
                  <a:lnTo>
                    <a:pt x="3581" y="19"/>
                  </a:lnTo>
                  <a:lnTo>
                    <a:pt x="3614" y="12"/>
                  </a:lnTo>
                  <a:lnTo>
                    <a:pt x="3648" y="6"/>
                  </a:lnTo>
                  <a:lnTo>
                    <a:pt x="3686" y="6"/>
                  </a:lnTo>
                  <a:lnTo>
                    <a:pt x="3719" y="0"/>
                  </a:lnTo>
                  <a:lnTo>
                    <a:pt x="3758" y="0"/>
                  </a:lnTo>
                  <a:lnTo>
                    <a:pt x="3797" y="0"/>
                  </a:lnTo>
                  <a:lnTo>
                    <a:pt x="3979" y="0"/>
                  </a:lnTo>
                  <a:lnTo>
                    <a:pt x="3979" y="25"/>
                  </a:lnTo>
                  <a:lnTo>
                    <a:pt x="3979" y="108"/>
                  </a:lnTo>
                  <a:lnTo>
                    <a:pt x="3979" y="228"/>
                  </a:lnTo>
                  <a:lnTo>
                    <a:pt x="3979" y="387"/>
                  </a:lnTo>
                  <a:lnTo>
                    <a:pt x="3979" y="578"/>
                  </a:lnTo>
                  <a:lnTo>
                    <a:pt x="3979" y="789"/>
                  </a:lnTo>
                  <a:lnTo>
                    <a:pt x="3979" y="1018"/>
                  </a:lnTo>
                  <a:lnTo>
                    <a:pt x="3979" y="1247"/>
                  </a:lnTo>
                  <a:lnTo>
                    <a:pt x="3974" y="1482"/>
                  </a:lnTo>
                  <a:lnTo>
                    <a:pt x="3974" y="1704"/>
                  </a:lnTo>
                  <a:lnTo>
                    <a:pt x="3974" y="1921"/>
                  </a:lnTo>
                  <a:lnTo>
                    <a:pt x="3968" y="2106"/>
                  </a:lnTo>
                  <a:lnTo>
                    <a:pt x="3962" y="2265"/>
                  </a:lnTo>
                  <a:lnTo>
                    <a:pt x="3962" y="2392"/>
                  </a:lnTo>
                  <a:lnTo>
                    <a:pt x="3957" y="2474"/>
                  </a:lnTo>
                  <a:lnTo>
                    <a:pt x="3951" y="2506"/>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 name=""/>
            <p:cNvSpPr/>
            <p:nvPr/>
          </p:nvSpPr>
          <p:spPr>
            <a:xfrm>
              <a:off x="5187960" y="1703520"/>
              <a:ext cx="2521440" cy="1111680"/>
            </a:xfrm>
            <a:custGeom>
              <a:avLst/>
              <a:gdLst/>
              <a:ahLst/>
              <a:rect l="0" t="0" r="r" b="b"/>
              <a:pathLst>
                <a:path w="7004" h="3088">
                  <a:moveTo>
                    <a:pt x="6354" y="0"/>
                  </a:moveTo>
                  <a:lnTo>
                    <a:pt x="6370" y="25"/>
                  </a:lnTo>
                  <a:lnTo>
                    <a:pt x="6381" y="57"/>
                  </a:lnTo>
                  <a:lnTo>
                    <a:pt x="6398" y="89"/>
                  </a:lnTo>
                  <a:lnTo>
                    <a:pt x="6409" y="115"/>
                  </a:lnTo>
                  <a:lnTo>
                    <a:pt x="6425" y="146"/>
                  </a:lnTo>
                  <a:lnTo>
                    <a:pt x="6436" y="172"/>
                  </a:lnTo>
                  <a:lnTo>
                    <a:pt x="6453" y="204"/>
                  </a:lnTo>
                  <a:lnTo>
                    <a:pt x="6464" y="230"/>
                  </a:lnTo>
                  <a:lnTo>
                    <a:pt x="6480" y="262"/>
                  </a:lnTo>
                  <a:lnTo>
                    <a:pt x="6491" y="293"/>
                  </a:lnTo>
                  <a:lnTo>
                    <a:pt x="6502" y="319"/>
                  </a:lnTo>
                  <a:lnTo>
                    <a:pt x="6519" y="351"/>
                  </a:lnTo>
                  <a:lnTo>
                    <a:pt x="6530" y="377"/>
                  </a:lnTo>
                  <a:lnTo>
                    <a:pt x="6541" y="409"/>
                  </a:lnTo>
                  <a:lnTo>
                    <a:pt x="6552" y="440"/>
                  </a:lnTo>
                  <a:lnTo>
                    <a:pt x="6569" y="472"/>
                  </a:lnTo>
                  <a:lnTo>
                    <a:pt x="6591" y="530"/>
                  </a:lnTo>
                  <a:lnTo>
                    <a:pt x="6613" y="594"/>
                  </a:lnTo>
                  <a:lnTo>
                    <a:pt x="6635" y="658"/>
                  </a:lnTo>
                  <a:lnTo>
                    <a:pt x="6657" y="722"/>
                  </a:lnTo>
                  <a:lnTo>
                    <a:pt x="6679" y="787"/>
                  </a:lnTo>
                  <a:lnTo>
                    <a:pt x="6701" y="857"/>
                  </a:lnTo>
                  <a:lnTo>
                    <a:pt x="6723" y="921"/>
                  </a:lnTo>
                  <a:lnTo>
                    <a:pt x="6739" y="985"/>
                  </a:lnTo>
                  <a:lnTo>
                    <a:pt x="6762" y="1049"/>
                  </a:lnTo>
                  <a:lnTo>
                    <a:pt x="6778" y="1119"/>
                  </a:lnTo>
                  <a:lnTo>
                    <a:pt x="6795" y="1183"/>
                  </a:lnTo>
                  <a:lnTo>
                    <a:pt x="6811" y="1247"/>
                  </a:lnTo>
                  <a:lnTo>
                    <a:pt x="6828" y="1317"/>
                  </a:lnTo>
                  <a:lnTo>
                    <a:pt x="6844" y="1381"/>
                  </a:lnTo>
                  <a:lnTo>
                    <a:pt x="6861" y="1451"/>
                  </a:lnTo>
                  <a:lnTo>
                    <a:pt x="6877" y="1515"/>
                  </a:lnTo>
                  <a:lnTo>
                    <a:pt x="6877" y="1534"/>
                  </a:lnTo>
                  <a:lnTo>
                    <a:pt x="6883" y="1553"/>
                  </a:lnTo>
                  <a:lnTo>
                    <a:pt x="6883" y="1573"/>
                  </a:lnTo>
                  <a:lnTo>
                    <a:pt x="6888" y="1592"/>
                  </a:lnTo>
                  <a:lnTo>
                    <a:pt x="6894" y="1611"/>
                  </a:lnTo>
                  <a:lnTo>
                    <a:pt x="6894" y="1630"/>
                  </a:lnTo>
                  <a:lnTo>
                    <a:pt x="6899" y="1649"/>
                  </a:lnTo>
                  <a:lnTo>
                    <a:pt x="6905" y="1669"/>
                  </a:lnTo>
                  <a:lnTo>
                    <a:pt x="6910" y="1688"/>
                  </a:lnTo>
                  <a:lnTo>
                    <a:pt x="6910" y="1707"/>
                  </a:lnTo>
                  <a:lnTo>
                    <a:pt x="6916" y="1726"/>
                  </a:lnTo>
                  <a:lnTo>
                    <a:pt x="6921" y="1745"/>
                  </a:lnTo>
                  <a:lnTo>
                    <a:pt x="6921" y="1764"/>
                  </a:lnTo>
                  <a:lnTo>
                    <a:pt x="6927" y="1790"/>
                  </a:lnTo>
                  <a:lnTo>
                    <a:pt x="6932" y="1809"/>
                  </a:lnTo>
                  <a:lnTo>
                    <a:pt x="6932" y="1828"/>
                  </a:lnTo>
                  <a:lnTo>
                    <a:pt x="6938" y="1867"/>
                  </a:lnTo>
                  <a:lnTo>
                    <a:pt x="6943" y="1905"/>
                  </a:lnTo>
                  <a:lnTo>
                    <a:pt x="6949" y="1950"/>
                  </a:lnTo>
                  <a:lnTo>
                    <a:pt x="6955" y="1994"/>
                  </a:lnTo>
                  <a:lnTo>
                    <a:pt x="6960" y="2033"/>
                  </a:lnTo>
                  <a:lnTo>
                    <a:pt x="6966" y="2078"/>
                  </a:lnTo>
                  <a:lnTo>
                    <a:pt x="6971" y="2116"/>
                  </a:lnTo>
                  <a:lnTo>
                    <a:pt x="6977" y="2161"/>
                  </a:lnTo>
                  <a:lnTo>
                    <a:pt x="6977" y="2205"/>
                  </a:lnTo>
                  <a:lnTo>
                    <a:pt x="6982" y="2244"/>
                  </a:lnTo>
                  <a:lnTo>
                    <a:pt x="6988" y="2288"/>
                  </a:lnTo>
                  <a:lnTo>
                    <a:pt x="6988" y="2334"/>
                  </a:lnTo>
                  <a:lnTo>
                    <a:pt x="6993" y="2379"/>
                  </a:lnTo>
                  <a:lnTo>
                    <a:pt x="6993" y="2417"/>
                  </a:lnTo>
                  <a:lnTo>
                    <a:pt x="6993" y="2462"/>
                  </a:lnTo>
                  <a:lnTo>
                    <a:pt x="6993" y="2507"/>
                  </a:lnTo>
                  <a:lnTo>
                    <a:pt x="6999" y="2539"/>
                  </a:lnTo>
                  <a:lnTo>
                    <a:pt x="6999" y="2577"/>
                  </a:lnTo>
                  <a:lnTo>
                    <a:pt x="6999" y="2615"/>
                  </a:lnTo>
                  <a:lnTo>
                    <a:pt x="6999" y="2647"/>
                  </a:lnTo>
                  <a:lnTo>
                    <a:pt x="6999" y="2686"/>
                  </a:lnTo>
                  <a:lnTo>
                    <a:pt x="6999" y="2718"/>
                  </a:lnTo>
                  <a:lnTo>
                    <a:pt x="6999" y="2756"/>
                  </a:lnTo>
                  <a:lnTo>
                    <a:pt x="6999" y="2788"/>
                  </a:lnTo>
                  <a:lnTo>
                    <a:pt x="6999" y="2826"/>
                  </a:lnTo>
                  <a:lnTo>
                    <a:pt x="6999" y="2865"/>
                  </a:lnTo>
                  <a:lnTo>
                    <a:pt x="6999" y="2897"/>
                  </a:lnTo>
                  <a:lnTo>
                    <a:pt x="6999" y="2935"/>
                  </a:lnTo>
                  <a:lnTo>
                    <a:pt x="6999" y="2973"/>
                  </a:lnTo>
                  <a:lnTo>
                    <a:pt x="7004" y="3005"/>
                  </a:lnTo>
                  <a:lnTo>
                    <a:pt x="7004" y="3044"/>
                  </a:lnTo>
                  <a:lnTo>
                    <a:pt x="7004" y="3082"/>
                  </a:lnTo>
                  <a:lnTo>
                    <a:pt x="1759" y="3088"/>
                  </a:lnTo>
                  <a:lnTo>
                    <a:pt x="1747" y="3082"/>
                  </a:lnTo>
                  <a:lnTo>
                    <a:pt x="1698" y="2909"/>
                  </a:lnTo>
                  <a:lnTo>
                    <a:pt x="1643" y="2737"/>
                  </a:lnTo>
                  <a:lnTo>
                    <a:pt x="1588" y="2564"/>
                  </a:lnTo>
                  <a:lnTo>
                    <a:pt x="1527" y="2398"/>
                  </a:lnTo>
                  <a:lnTo>
                    <a:pt x="1455" y="2231"/>
                  </a:lnTo>
                  <a:lnTo>
                    <a:pt x="1383" y="2065"/>
                  </a:lnTo>
                  <a:lnTo>
                    <a:pt x="1306" y="1905"/>
                  </a:lnTo>
                  <a:lnTo>
                    <a:pt x="1224" y="1745"/>
                  </a:lnTo>
                  <a:lnTo>
                    <a:pt x="1141" y="1585"/>
                  </a:lnTo>
                  <a:lnTo>
                    <a:pt x="1047" y="1432"/>
                  </a:lnTo>
                  <a:lnTo>
                    <a:pt x="953" y="1285"/>
                  </a:lnTo>
                  <a:lnTo>
                    <a:pt x="854" y="1138"/>
                  </a:lnTo>
                  <a:lnTo>
                    <a:pt x="749" y="991"/>
                  </a:lnTo>
                  <a:lnTo>
                    <a:pt x="639" y="850"/>
                  </a:lnTo>
                  <a:lnTo>
                    <a:pt x="523" y="715"/>
                  </a:lnTo>
                  <a:lnTo>
                    <a:pt x="408" y="581"/>
                  </a:lnTo>
                  <a:lnTo>
                    <a:pt x="380" y="556"/>
                  </a:lnTo>
                  <a:lnTo>
                    <a:pt x="358" y="530"/>
                  </a:lnTo>
                  <a:lnTo>
                    <a:pt x="330" y="504"/>
                  </a:lnTo>
                  <a:lnTo>
                    <a:pt x="308" y="479"/>
                  </a:lnTo>
                  <a:lnTo>
                    <a:pt x="281" y="453"/>
                  </a:lnTo>
                  <a:lnTo>
                    <a:pt x="259" y="428"/>
                  </a:lnTo>
                  <a:lnTo>
                    <a:pt x="231" y="402"/>
                  </a:lnTo>
                  <a:lnTo>
                    <a:pt x="209" y="377"/>
                  </a:lnTo>
                  <a:lnTo>
                    <a:pt x="181" y="351"/>
                  </a:lnTo>
                  <a:lnTo>
                    <a:pt x="154" y="325"/>
                  </a:lnTo>
                  <a:lnTo>
                    <a:pt x="132" y="300"/>
                  </a:lnTo>
                  <a:lnTo>
                    <a:pt x="104" y="274"/>
                  </a:lnTo>
                  <a:lnTo>
                    <a:pt x="77" y="255"/>
                  </a:lnTo>
                  <a:lnTo>
                    <a:pt x="49" y="230"/>
                  </a:lnTo>
                  <a:lnTo>
                    <a:pt x="27" y="204"/>
                  </a:lnTo>
                  <a:lnTo>
                    <a:pt x="0" y="178"/>
                  </a:lnTo>
                  <a:lnTo>
                    <a:pt x="0" y="6"/>
                  </a:lnTo>
                  <a:lnTo>
                    <a:pt x="6354"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 name=""/>
            <p:cNvSpPr/>
            <p:nvPr/>
          </p:nvSpPr>
          <p:spPr>
            <a:xfrm>
              <a:off x="5187960" y="1703520"/>
              <a:ext cx="2521440" cy="1111680"/>
            </a:xfrm>
            <a:custGeom>
              <a:avLst/>
              <a:gdLst/>
              <a:ahLst/>
              <a:rect l="0" t="0" r="r" b="b"/>
              <a:pathLst>
                <a:path w="7004" h="3088">
                  <a:moveTo>
                    <a:pt x="6354" y="0"/>
                  </a:moveTo>
                  <a:lnTo>
                    <a:pt x="6370" y="25"/>
                  </a:lnTo>
                  <a:lnTo>
                    <a:pt x="6381" y="57"/>
                  </a:lnTo>
                  <a:lnTo>
                    <a:pt x="6398" y="89"/>
                  </a:lnTo>
                  <a:lnTo>
                    <a:pt x="6409" y="115"/>
                  </a:lnTo>
                  <a:lnTo>
                    <a:pt x="6425" y="146"/>
                  </a:lnTo>
                  <a:lnTo>
                    <a:pt x="6436" y="172"/>
                  </a:lnTo>
                  <a:lnTo>
                    <a:pt x="6453" y="204"/>
                  </a:lnTo>
                  <a:lnTo>
                    <a:pt x="6464" y="230"/>
                  </a:lnTo>
                  <a:lnTo>
                    <a:pt x="6480" y="262"/>
                  </a:lnTo>
                  <a:lnTo>
                    <a:pt x="6491" y="293"/>
                  </a:lnTo>
                  <a:lnTo>
                    <a:pt x="6502" y="319"/>
                  </a:lnTo>
                  <a:lnTo>
                    <a:pt x="6519" y="351"/>
                  </a:lnTo>
                  <a:lnTo>
                    <a:pt x="6530" y="377"/>
                  </a:lnTo>
                  <a:lnTo>
                    <a:pt x="6541" y="409"/>
                  </a:lnTo>
                  <a:lnTo>
                    <a:pt x="6552" y="440"/>
                  </a:lnTo>
                  <a:lnTo>
                    <a:pt x="6569" y="472"/>
                  </a:lnTo>
                  <a:lnTo>
                    <a:pt x="6591" y="530"/>
                  </a:lnTo>
                  <a:lnTo>
                    <a:pt x="6613" y="594"/>
                  </a:lnTo>
                  <a:lnTo>
                    <a:pt x="6635" y="658"/>
                  </a:lnTo>
                  <a:lnTo>
                    <a:pt x="6657" y="722"/>
                  </a:lnTo>
                  <a:lnTo>
                    <a:pt x="6679" y="787"/>
                  </a:lnTo>
                  <a:lnTo>
                    <a:pt x="6701" y="857"/>
                  </a:lnTo>
                  <a:lnTo>
                    <a:pt x="6723" y="921"/>
                  </a:lnTo>
                  <a:lnTo>
                    <a:pt x="6739" y="985"/>
                  </a:lnTo>
                  <a:lnTo>
                    <a:pt x="6762" y="1049"/>
                  </a:lnTo>
                  <a:lnTo>
                    <a:pt x="6778" y="1119"/>
                  </a:lnTo>
                  <a:lnTo>
                    <a:pt x="6795" y="1183"/>
                  </a:lnTo>
                  <a:lnTo>
                    <a:pt x="6811" y="1247"/>
                  </a:lnTo>
                  <a:lnTo>
                    <a:pt x="6828" y="1317"/>
                  </a:lnTo>
                  <a:lnTo>
                    <a:pt x="6844" y="1381"/>
                  </a:lnTo>
                  <a:lnTo>
                    <a:pt x="6861" y="1451"/>
                  </a:lnTo>
                  <a:lnTo>
                    <a:pt x="6877" y="1515"/>
                  </a:lnTo>
                  <a:lnTo>
                    <a:pt x="6877" y="1534"/>
                  </a:lnTo>
                  <a:lnTo>
                    <a:pt x="6883" y="1553"/>
                  </a:lnTo>
                  <a:lnTo>
                    <a:pt x="6883" y="1573"/>
                  </a:lnTo>
                  <a:lnTo>
                    <a:pt x="6888" y="1592"/>
                  </a:lnTo>
                  <a:lnTo>
                    <a:pt x="6894" y="1611"/>
                  </a:lnTo>
                  <a:lnTo>
                    <a:pt x="6894" y="1630"/>
                  </a:lnTo>
                  <a:lnTo>
                    <a:pt x="6899" y="1649"/>
                  </a:lnTo>
                  <a:lnTo>
                    <a:pt x="6905" y="1669"/>
                  </a:lnTo>
                  <a:lnTo>
                    <a:pt x="6910" y="1688"/>
                  </a:lnTo>
                  <a:lnTo>
                    <a:pt x="6910" y="1707"/>
                  </a:lnTo>
                  <a:lnTo>
                    <a:pt x="6916" y="1726"/>
                  </a:lnTo>
                  <a:lnTo>
                    <a:pt x="6921" y="1745"/>
                  </a:lnTo>
                  <a:lnTo>
                    <a:pt x="6921" y="1764"/>
                  </a:lnTo>
                  <a:lnTo>
                    <a:pt x="6927" y="1790"/>
                  </a:lnTo>
                  <a:lnTo>
                    <a:pt x="6932" y="1809"/>
                  </a:lnTo>
                  <a:lnTo>
                    <a:pt x="6932" y="1828"/>
                  </a:lnTo>
                  <a:lnTo>
                    <a:pt x="6938" y="1867"/>
                  </a:lnTo>
                  <a:lnTo>
                    <a:pt x="6943" y="1905"/>
                  </a:lnTo>
                  <a:lnTo>
                    <a:pt x="6949" y="1950"/>
                  </a:lnTo>
                  <a:lnTo>
                    <a:pt x="6955" y="1994"/>
                  </a:lnTo>
                  <a:lnTo>
                    <a:pt x="6960" y="2033"/>
                  </a:lnTo>
                  <a:lnTo>
                    <a:pt x="6966" y="2078"/>
                  </a:lnTo>
                  <a:lnTo>
                    <a:pt x="6971" y="2116"/>
                  </a:lnTo>
                  <a:lnTo>
                    <a:pt x="6977" y="2161"/>
                  </a:lnTo>
                  <a:lnTo>
                    <a:pt x="6977" y="2205"/>
                  </a:lnTo>
                  <a:lnTo>
                    <a:pt x="6982" y="2244"/>
                  </a:lnTo>
                  <a:lnTo>
                    <a:pt x="6988" y="2288"/>
                  </a:lnTo>
                  <a:lnTo>
                    <a:pt x="6988" y="2334"/>
                  </a:lnTo>
                  <a:lnTo>
                    <a:pt x="6993" y="2379"/>
                  </a:lnTo>
                  <a:lnTo>
                    <a:pt x="6993" y="2417"/>
                  </a:lnTo>
                  <a:lnTo>
                    <a:pt x="6993" y="2462"/>
                  </a:lnTo>
                  <a:lnTo>
                    <a:pt x="6993" y="2507"/>
                  </a:lnTo>
                  <a:lnTo>
                    <a:pt x="6999" y="2539"/>
                  </a:lnTo>
                  <a:lnTo>
                    <a:pt x="6999" y="2577"/>
                  </a:lnTo>
                  <a:lnTo>
                    <a:pt x="6999" y="2615"/>
                  </a:lnTo>
                  <a:lnTo>
                    <a:pt x="6999" y="2647"/>
                  </a:lnTo>
                  <a:lnTo>
                    <a:pt x="6999" y="2686"/>
                  </a:lnTo>
                  <a:lnTo>
                    <a:pt x="6999" y="2718"/>
                  </a:lnTo>
                  <a:lnTo>
                    <a:pt x="6999" y="2756"/>
                  </a:lnTo>
                  <a:lnTo>
                    <a:pt x="6999" y="2788"/>
                  </a:lnTo>
                  <a:lnTo>
                    <a:pt x="6999" y="2826"/>
                  </a:lnTo>
                  <a:lnTo>
                    <a:pt x="6999" y="2865"/>
                  </a:lnTo>
                  <a:lnTo>
                    <a:pt x="6999" y="2897"/>
                  </a:lnTo>
                  <a:lnTo>
                    <a:pt x="6999" y="2935"/>
                  </a:lnTo>
                  <a:lnTo>
                    <a:pt x="6999" y="2973"/>
                  </a:lnTo>
                  <a:lnTo>
                    <a:pt x="7004" y="3005"/>
                  </a:lnTo>
                  <a:lnTo>
                    <a:pt x="7004" y="3044"/>
                  </a:lnTo>
                  <a:lnTo>
                    <a:pt x="7004" y="3082"/>
                  </a:lnTo>
                  <a:lnTo>
                    <a:pt x="1759" y="3088"/>
                  </a:lnTo>
                  <a:lnTo>
                    <a:pt x="1747" y="3082"/>
                  </a:lnTo>
                  <a:lnTo>
                    <a:pt x="1698" y="2909"/>
                  </a:lnTo>
                  <a:lnTo>
                    <a:pt x="1643" y="2737"/>
                  </a:lnTo>
                  <a:lnTo>
                    <a:pt x="1588" y="2564"/>
                  </a:lnTo>
                  <a:lnTo>
                    <a:pt x="1527" y="2398"/>
                  </a:lnTo>
                  <a:lnTo>
                    <a:pt x="1455" y="2231"/>
                  </a:lnTo>
                  <a:lnTo>
                    <a:pt x="1383" y="2065"/>
                  </a:lnTo>
                  <a:lnTo>
                    <a:pt x="1306" y="1905"/>
                  </a:lnTo>
                  <a:lnTo>
                    <a:pt x="1224" y="1745"/>
                  </a:lnTo>
                  <a:lnTo>
                    <a:pt x="1141" y="1585"/>
                  </a:lnTo>
                  <a:lnTo>
                    <a:pt x="1047" y="1432"/>
                  </a:lnTo>
                  <a:lnTo>
                    <a:pt x="953" y="1285"/>
                  </a:lnTo>
                  <a:lnTo>
                    <a:pt x="854" y="1138"/>
                  </a:lnTo>
                  <a:lnTo>
                    <a:pt x="749" y="991"/>
                  </a:lnTo>
                  <a:lnTo>
                    <a:pt x="639" y="850"/>
                  </a:lnTo>
                  <a:lnTo>
                    <a:pt x="523" y="715"/>
                  </a:lnTo>
                  <a:lnTo>
                    <a:pt x="408" y="581"/>
                  </a:lnTo>
                  <a:lnTo>
                    <a:pt x="380" y="556"/>
                  </a:lnTo>
                  <a:lnTo>
                    <a:pt x="358" y="530"/>
                  </a:lnTo>
                  <a:lnTo>
                    <a:pt x="330" y="504"/>
                  </a:lnTo>
                  <a:lnTo>
                    <a:pt x="308" y="479"/>
                  </a:lnTo>
                  <a:lnTo>
                    <a:pt x="281" y="453"/>
                  </a:lnTo>
                  <a:lnTo>
                    <a:pt x="259" y="428"/>
                  </a:lnTo>
                  <a:lnTo>
                    <a:pt x="231" y="402"/>
                  </a:lnTo>
                  <a:lnTo>
                    <a:pt x="209" y="377"/>
                  </a:lnTo>
                  <a:lnTo>
                    <a:pt x="181" y="351"/>
                  </a:lnTo>
                  <a:lnTo>
                    <a:pt x="154" y="325"/>
                  </a:lnTo>
                  <a:lnTo>
                    <a:pt x="132" y="300"/>
                  </a:lnTo>
                  <a:lnTo>
                    <a:pt x="104" y="274"/>
                  </a:lnTo>
                  <a:lnTo>
                    <a:pt x="77" y="255"/>
                  </a:lnTo>
                  <a:lnTo>
                    <a:pt x="49" y="230"/>
                  </a:lnTo>
                  <a:lnTo>
                    <a:pt x="27" y="204"/>
                  </a:lnTo>
                  <a:lnTo>
                    <a:pt x="0" y="178"/>
                  </a:lnTo>
                  <a:lnTo>
                    <a:pt x="0" y="6"/>
                  </a:lnTo>
                  <a:lnTo>
                    <a:pt x="6354"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 name=""/>
            <p:cNvSpPr/>
            <p:nvPr/>
          </p:nvSpPr>
          <p:spPr>
            <a:xfrm>
              <a:off x="2081160" y="1706400"/>
              <a:ext cx="2527560" cy="1108440"/>
            </a:xfrm>
            <a:custGeom>
              <a:avLst/>
              <a:gdLst/>
              <a:ahLst/>
              <a:rect l="0" t="0" r="r" b="b"/>
              <a:pathLst>
                <a:path w="7021" h="3079">
                  <a:moveTo>
                    <a:pt x="7015" y="6"/>
                  </a:moveTo>
                  <a:lnTo>
                    <a:pt x="7021" y="172"/>
                  </a:lnTo>
                  <a:lnTo>
                    <a:pt x="6982" y="210"/>
                  </a:lnTo>
                  <a:lnTo>
                    <a:pt x="6944" y="242"/>
                  </a:lnTo>
                  <a:lnTo>
                    <a:pt x="6905" y="274"/>
                  </a:lnTo>
                  <a:lnTo>
                    <a:pt x="6872" y="312"/>
                  </a:lnTo>
                  <a:lnTo>
                    <a:pt x="6833" y="344"/>
                  </a:lnTo>
                  <a:lnTo>
                    <a:pt x="6795" y="382"/>
                  </a:lnTo>
                  <a:lnTo>
                    <a:pt x="6762" y="420"/>
                  </a:lnTo>
                  <a:lnTo>
                    <a:pt x="6723" y="452"/>
                  </a:lnTo>
                  <a:lnTo>
                    <a:pt x="6690" y="490"/>
                  </a:lnTo>
                  <a:lnTo>
                    <a:pt x="6651" y="528"/>
                  </a:lnTo>
                  <a:lnTo>
                    <a:pt x="6618" y="567"/>
                  </a:lnTo>
                  <a:lnTo>
                    <a:pt x="6580" y="605"/>
                  </a:lnTo>
                  <a:lnTo>
                    <a:pt x="6547" y="643"/>
                  </a:lnTo>
                  <a:lnTo>
                    <a:pt x="6513" y="681"/>
                  </a:lnTo>
                  <a:lnTo>
                    <a:pt x="6480" y="720"/>
                  </a:lnTo>
                  <a:lnTo>
                    <a:pt x="6447" y="758"/>
                  </a:lnTo>
                  <a:lnTo>
                    <a:pt x="6436" y="772"/>
                  </a:lnTo>
                  <a:lnTo>
                    <a:pt x="6431" y="778"/>
                  </a:lnTo>
                  <a:lnTo>
                    <a:pt x="6425" y="791"/>
                  </a:lnTo>
                  <a:lnTo>
                    <a:pt x="6414" y="797"/>
                  </a:lnTo>
                  <a:lnTo>
                    <a:pt x="6409" y="810"/>
                  </a:lnTo>
                  <a:lnTo>
                    <a:pt x="6403" y="816"/>
                  </a:lnTo>
                  <a:lnTo>
                    <a:pt x="6392" y="829"/>
                  </a:lnTo>
                  <a:lnTo>
                    <a:pt x="6387" y="835"/>
                  </a:lnTo>
                  <a:lnTo>
                    <a:pt x="6376" y="848"/>
                  </a:lnTo>
                  <a:lnTo>
                    <a:pt x="6370" y="854"/>
                  </a:lnTo>
                  <a:lnTo>
                    <a:pt x="6359" y="861"/>
                  </a:lnTo>
                  <a:lnTo>
                    <a:pt x="6353" y="874"/>
                  </a:lnTo>
                  <a:lnTo>
                    <a:pt x="6342" y="880"/>
                  </a:lnTo>
                  <a:lnTo>
                    <a:pt x="6337" y="893"/>
                  </a:lnTo>
                  <a:lnTo>
                    <a:pt x="6331" y="905"/>
                  </a:lnTo>
                  <a:lnTo>
                    <a:pt x="6326" y="912"/>
                  </a:lnTo>
                  <a:lnTo>
                    <a:pt x="6238" y="1026"/>
                  </a:lnTo>
                  <a:lnTo>
                    <a:pt x="6149" y="1148"/>
                  </a:lnTo>
                  <a:lnTo>
                    <a:pt x="6067" y="1269"/>
                  </a:lnTo>
                  <a:lnTo>
                    <a:pt x="5990" y="1390"/>
                  </a:lnTo>
                  <a:lnTo>
                    <a:pt x="5912" y="1511"/>
                  </a:lnTo>
                  <a:lnTo>
                    <a:pt x="5841" y="1638"/>
                  </a:lnTo>
                  <a:lnTo>
                    <a:pt x="5774" y="1766"/>
                  </a:lnTo>
                  <a:lnTo>
                    <a:pt x="5708" y="1893"/>
                  </a:lnTo>
                  <a:lnTo>
                    <a:pt x="5642" y="2027"/>
                  </a:lnTo>
                  <a:lnTo>
                    <a:pt x="5581" y="2154"/>
                  </a:lnTo>
                  <a:lnTo>
                    <a:pt x="5526" y="2295"/>
                  </a:lnTo>
                  <a:lnTo>
                    <a:pt x="5471" y="2429"/>
                  </a:lnTo>
                  <a:lnTo>
                    <a:pt x="5421" y="2563"/>
                  </a:lnTo>
                  <a:lnTo>
                    <a:pt x="5372" y="2704"/>
                  </a:lnTo>
                  <a:lnTo>
                    <a:pt x="5333" y="2844"/>
                  </a:lnTo>
                  <a:lnTo>
                    <a:pt x="5289" y="2984"/>
                  </a:lnTo>
                  <a:lnTo>
                    <a:pt x="5289" y="2990"/>
                  </a:lnTo>
                  <a:lnTo>
                    <a:pt x="5284" y="2997"/>
                  </a:lnTo>
                  <a:lnTo>
                    <a:pt x="5284" y="3003"/>
                  </a:lnTo>
                  <a:lnTo>
                    <a:pt x="5278" y="3009"/>
                  </a:lnTo>
                  <a:lnTo>
                    <a:pt x="5278" y="3016"/>
                  </a:lnTo>
                  <a:lnTo>
                    <a:pt x="5278" y="3022"/>
                  </a:lnTo>
                  <a:lnTo>
                    <a:pt x="5278" y="3029"/>
                  </a:lnTo>
                  <a:lnTo>
                    <a:pt x="5278" y="3035"/>
                  </a:lnTo>
                  <a:lnTo>
                    <a:pt x="5273" y="3048"/>
                  </a:lnTo>
                  <a:lnTo>
                    <a:pt x="5273" y="3060"/>
                  </a:lnTo>
                  <a:lnTo>
                    <a:pt x="5267" y="3060"/>
                  </a:lnTo>
                  <a:lnTo>
                    <a:pt x="5267" y="3067"/>
                  </a:lnTo>
                  <a:lnTo>
                    <a:pt x="5262" y="3073"/>
                  </a:lnTo>
                  <a:lnTo>
                    <a:pt x="5256" y="3079"/>
                  </a:lnTo>
                  <a:lnTo>
                    <a:pt x="5251" y="3079"/>
                  </a:lnTo>
                  <a:lnTo>
                    <a:pt x="0" y="3073"/>
                  </a:lnTo>
                  <a:lnTo>
                    <a:pt x="0" y="2946"/>
                  </a:lnTo>
                  <a:lnTo>
                    <a:pt x="0" y="2812"/>
                  </a:lnTo>
                  <a:lnTo>
                    <a:pt x="0" y="2678"/>
                  </a:lnTo>
                  <a:lnTo>
                    <a:pt x="5" y="2551"/>
                  </a:lnTo>
                  <a:lnTo>
                    <a:pt x="16" y="2417"/>
                  </a:lnTo>
                  <a:lnTo>
                    <a:pt x="22" y="2282"/>
                  </a:lnTo>
                  <a:lnTo>
                    <a:pt x="38" y="2154"/>
                  </a:lnTo>
                  <a:lnTo>
                    <a:pt x="49" y="2027"/>
                  </a:lnTo>
                  <a:lnTo>
                    <a:pt x="66" y="1900"/>
                  </a:lnTo>
                  <a:lnTo>
                    <a:pt x="88" y="1772"/>
                  </a:lnTo>
                  <a:lnTo>
                    <a:pt x="104" y="1645"/>
                  </a:lnTo>
                  <a:lnTo>
                    <a:pt x="132" y="1517"/>
                  </a:lnTo>
                  <a:lnTo>
                    <a:pt x="154" y="1396"/>
                  </a:lnTo>
                  <a:lnTo>
                    <a:pt x="187" y="1275"/>
                  </a:lnTo>
                  <a:lnTo>
                    <a:pt x="215" y="1148"/>
                  </a:lnTo>
                  <a:lnTo>
                    <a:pt x="253" y="1033"/>
                  </a:lnTo>
                  <a:lnTo>
                    <a:pt x="264" y="988"/>
                  </a:lnTo>
                  <a:lnTo>
                    <a:pt x="275" y="944"/>
                  </a:lnTo>
                  <a:lnTo>
                    <a:pt x="292" y="899"/>
                  </a:lnTo>
                  <a:lnTo>
                    <a:pt x="303" y="854"/>
                  </a:lnTo>
                  <a:lnTo>
                    <a:pt x="319" y="810"/>
                  </a:lnTo>
                  <a:lnTo>
                    <a:pt x="336" y="772"/>
                  </a:lnTo>
                  <a:lnTo>
                    <a:pt x="352" y="726"/>
                  </a:lnTo>
                  <a:lnTo>
                    <a:pt x="363" y="681"/>
                  </a:lnTo>
                  <a:lnTo>
                    <a:pt x="380" y="637"/>
                  </a:lnTo>
                  <a:lnTo>
                    <a:pt x="397" y="592"/>
                  </a:lnTo>
                  <a:lnTo>
                    <a:pt x="413" y="554"/>
                  </a:lnTo>
                  <a:lnTo>
                    <a:pt x="430" y="509"/>
                  </a:lnTo>
                  <a:lnTo>
                    <a:pt x="446" y="465"/>
                  </a:lnTo>
                  <a:lnTo>
                    <a:pt x="463" y="426"/>
                  </a:lnTo>
                  <a:lnTo>
                    <a:pt x="485" y="382"/>
                  </a:lnTo>
                  <a:lnTo>
                    <a:pt x="501" y="337"/>
                  </a:lnTo>
                  <a:lnTo>
                    <a:pt x="512" y="318"/>
                  </a:lnTo>
                  <a:lnTo>
                    <a:pt x="518" y="299"/>
                  </a:lnTo>
                  <a:lnTo>
                    <a:pt x="529" y="274"/>
                  </a:lnTo>
                  <a:lnTo>
                    <a:pt x="540" y="254"/>
                  </a:lnTo>
                  <a:lnTo>
                    <a:pt x="545" y="235"/>
                  </a:lnTo>
                  <a:lnTo>
                    <a:pt x="556" y="210"/>
                  </a:lnTo>
                  <a:lnTo>
                    <a:pt x="568" y="191"/>
                  </a:lnTo>
                  <a:lnTo>
                    <a:pt x="579" y="172"/>
                  </a:lnTo>
                  <a:lnTo>
                    <a:pt x="590" y="146"/>
                  </a:lnTo>
                  <a:lnTo>
                    <a:pt x="601" y="127"/>
                  </a:lnTo>
                  <a:lnTo>
                    <a:pt x="606" y="108"/>
                  </a:lnTo>
                  <a:lnTo>
                    <a:pt x="617" y="82"/>
                  </a:lnTo>
                  <a:lnTo>
                    <a:pt x="628" y="63"/>
                  </a:lnTo>
                  <a:lnTo>
                    <a:pt x="634" y="44"/>
                  </a:lnTo>
                  <a:lnTo>
                    <a:pt x="645" y="19"/>
                  </a:lnTo>
                  <a:lnTo>
                    <a:pt x="656" y="0"/>
                  </a:lnTo>
                  <a:lnTo>
                    <a:pt x="7015" y="6"/>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 name=""/>
            <p:cNvSpPr/>
            <p:nvPr/>
          </p:nvSpPr>
          <p:spPr>
            <a:xfrm>
              <a:off x="2081160" y="1706400"/>
              <a:ext cx="2527560" cy="1108440"/>
            </a:xfrm>
            <a:custGeom>
              <a:avLst/>
              <a:gdLst/>
              <a:ahLst/>
              <a:rect l="0" t="0" r="r" b="b"/>
              <a:pathLst>
                <a:path w="7021" h="3079">
                  <a:moveTo>
                    <a:pt x="7015" y="6"/>
                  </a:moveTo>
                  <a:lnTo>
                    <a:pt x="7021" y="172"/>
                  </a:lnTo>
                  <a:lnTo>
                    <a:pt x="6982" y="210"/>
                  </a:lnTo>
                  <a:lnTo>
                    <a:pt x="6944" y="242"/>
                  </a:lnTo>
                  <a:lnTo>
                    <a:pt x="6905" y="274"/>
                  </a:lnTo>
                  <a:lnTo>
                    <a:pt x="6872" y="312"/>
                  </a:lnTo>
                  <a:lnTo>
                    <a:pt x="6833" y="344"/>
                  </a:lnTo>
                  <a:lnTo>
                    <a:pt x="6795" y="382"/>
                  </a:lnTo>
                  <a:lnTo>
                    <a:pt x="6762" y="420"/>
                  </a:lnTo>
                  <a:lnTo>
                    <a:pt x="6723" y="452"/>
                  </a:lnTo>
                  <a:lnTo>
                    <a:pt x="6690" y="490"/>
                  </a:lnTo>
                  <a:lnTo>
                    <a:pt x="6651" y="528"/>
                  </a:lnTo>
                  <a:lnTo>
                    <a:pt x="6618" y="567"/>
                  </a:lnTo>
                  <a:lnTo>
                    <a:pt x="6580" y="605"/>
                  </a:lnTo>
                  <a:lnTo>
                    <a:pt x="6547" y="643"/>
                  </a:lnTo>
                  <a:lnTo>
                    <a:pt x="6513" y="681"/>
                  </a:lnTo>
                  <a:lnTo>
                    <a:pt x="6480" y="720"/>
                  </a:lnTo>
                  <a:lnTo>
                    <a:pt x="6447" y="758"/>
                  </a:lnTo>
                  <a:lnTo>
                    <a:pt x="6436" y="772"/>
                  </a:lnTo>
                  <a:lnTo>
                    <a:pt x="6431" y="778"/>
                  </a:lnTo>
                  <a:lnTo>
                    <a:pt x="6425" y="791"/>
                  </a:lnTo>
                  <a:lnTo>
                    <a:pt x="6414" y="797"/>
                  </a:lnTo>
                  <a:lnTo>
                    <a:pt x="6409" y="810"/>
                  </a:lnTo>
                  <a:lnTo>
                    <a:pt x="6403" y="816"/>
                  </a:lnTo>
                  <a:lnTo>
                    <a:pt x="6392" y="829"/>
                  </a:lnTo>
                  <a:lnTo>
                    <a:pt x="6387" y="835"/>
                  </a:lnTo>
                  <a:lnTo>
                    <a:pt x="6376" y="848"/>
                  </a:lnTo>
                  <a:lnTo>
                    <a:pt x="6370" y="854"/>
                  </a:lnTo>
                  <a:lnTo>
                    <a:pt x="6359" y="861"/>
                  </a:lnTo>
                  <a:lnTo>
                    <a:pt x="6353" y="874"/>
                  </a:lnTo>
                  <a:lnTo>
                    <a:pt x="6342" y="880"/>
                  </a:lnTo>
                  <a:lnTo>
                    <a:pt x="6337" y="893"/>
                  </a:lnTo>
                  <a:lnTo>
                    <a:pt x="6331" y="905"/>
                  </a:lnTo>
                  <a:lnTo>
                    <a:pt x="6326" y="912"/>
                  </a:lnTo>
                  <a:lnTo>
                    <a:pt x="6238" y="1026"/>
                  </a:lnTo>
                  <a:lnTo>
                    <a:pt x="6149" y="1148"/>
                  </a:lnTo>
                  <a:lnTo>
                    <a:pt x="6067" y="1269"/>
                  </a:lnTo>
                  <a:lnTo>
                    <a:pt x="5990" y="1390"/>
                  </a:lnTo>
                  <a:lnTo>
                    <a:pt x="5912" y="1511"/>
                  </a:lnTo>
                  <a:lnTo>
                    <a:pt x="5841" y="1638"/>
                  </a:lnTo>
                  <a:lnTo>
                    <a:pt x="5774" y="1766"/>
                  </a:lnTo>
                  <a:lnTo>
                    <a:pt x="5708" y="1893"/>
                  </a:lnTo>
                  <a:lnTo>
                    <a:pt x="5642" y="2027"/>
                  </a:lnTo>
                  <a:lnTo>
                    <a:pt x="5581" y="2154"/>
                  </a:lnTo>
                  <a:lnTo>
                    <a:pt x="5526" y="2295"/>
                  </a:lnTo>
                  <a:lnTo>
                    <a:pt x="5471" y="2429"/>
                  </a:lnTo>
                  <a:lnTo>
                    <a:pt x="5421" y="2563"/>
                  </a:lnTo>
                  <a:lnTo>
                    <a:pt x="5372" y="2704"/>
                  </a:lnTo>
                  <a:lnTo>
                    <a:pt x="5333" y="2844"/>
                  </a:lnTo>
                  <a:lnTo>
                    <a:pt x="5289" y="2984"/>
                  </a:lnTo>
                  <a:lnTo>
                    <a:pt x="5289" y="2990"/>
                  </a:lnTo>
                  <a:lnTo>
                    <a:pt x="5284" y="2997"/>
                  </a:lnTo>
                  <a:lnTo>
                    <a:pt x="5284" y="3003"/>
                  </a:lnTo>
                  <a:lnTo>
                    <a:pt x="5278" y="3009"/>
                  </a:lnTo>
                  <a:lnTo>
                    <a:pt x="5278" y="3016"/>
                  </a:lnTo>
                  <a:lnTo>
                    <a:pt x="5278" y="3022"/>
                  </a:lnTo>
                  <a:lnTo>
                    <a:pt x="5278" y="3029"/>
                  </a:lnTo>
                  <a:lnTo>
                    <a:pt x="5278" y="3035"/>
                  </a:lnTo>
                  <a:lnTo>
                    <a:pt x="5273" y="3048"/>
                  </a:lnTo>
                  <a:lnTo>
                    <a:pt x="5273" y="3060"/>
                  </a:lnTo>
                  <a:lnTo>
                    <a:pt x="5267" y="3060"/>
                  </a:lnTo>
                  <a:lnTo>
                    <a:pt x="5267" y="3067"/>
                  </a:lnTo>
                  <a:lnTo>
                    <a:pt x="5262" y="3073"/>
                  </a:lnTo>
                  <a:lnTo>
                    <a:pt x="5256" y="3079"/>
                  </a:lnTo>
                  <a:lnTo>
                    <a:pt x="5251" y="3079"/>
                  </a:lnTo>
                  <a:lnTo>
                    <a:pt x="0" y="3073"/>
                  </a:lnTo>
                  <a:lnTo>
                    <a:pt x="0" y="2946"/>
                  </a:lnTo>
                  <a:lnTo>
                    <a:pt x="0" y="2812"/>
                  </a:lnTo>
                  <a:lnTo>
                    <a:pt x="0" y="2678"/>
                  </a:lnTo>
                  <a:lnTo>
                    <a:pt x="5" y="2551"/>
                  </a:lnTo>
                  <a:lnTo>
                    <a:pt x="16" y="2417"/>
                  </a:lnTo>
                  <a:lnTo>
                    <a:pt x="22" y="2282"/>
                  </a:lnTo>
                  <a:lnTo>
                    <a:pt x="38" y="2154"/>
                  </a:lnTo>
                  <a:lnTo>
                    <a:pt x="49" y="2027"/>
                  </a:lnTo>
                  <a:lnTo>
                    <a:pt x="66" y="1900"/>
                  </a:lnTo>
                  <a:lnTo>
                    <a:pt x="88" y="1772"/>
                  </a:lnTo>
                  <a:lnTo>
                    <a:pt x="104" y="1645"/>
                  </a:lnTo>
                  <a:lnTo>
                    <a:pt x="132" y="1517"/>
                  </a:lnTo>
                  <a:lnTo>
                    <a:pt x="154" y="1396"/>
                  </a:lnTo>
                  <a:lnTo>
                    <a:pt x="187" y="1275"/>
                  </a:lnTo>
                  <a:lnTo>
                    <a:pt x="215" y="1148"/>
                  </a:lnTo>
                  <a:lnTo>
                    <a:pt x="253" y="1033"/>
                  </a:lnTo>
                  <a:lnTo>
                    <a:pt x="264" y="988"/>
                  </a:lnTo>
                  <a:lnTo>
                    <a:pt x="275" y="944"/>
                  </a:lnTo>
                  <a:lnTo>
                    <a:pt x="292" y="899"/>
                  </a:lnTo>
                  <a:lnTo>
                    <a:pt x="303" y="854"/>
                  </a:lnTo>
                  <a:lnTo>
                    <a:pt x="319" y="810"/>
                  </a:lnTo>
                  <a:lnTo>
                    <a:pt x="336" y="772"/>
                  </a:lnTo>
                  <a:lnTo>
                    <a:pt x="352" y="726"/>
                  </a:lnTo>
                  <a:lnTo>
                    <a:pt x="363" y="681"/>
                  </a:lnTo>
                  <a:lnTo>
                    <a:pt x="380" y="637"/>
                  </a:lnTo>
                  <a:lnTo>
                    <a:pt x="397" y="592"/>
                  </a:lnTo>
                  <a:lnTo>
                    <a:pt x="413" y="554"/>
                  </a:lnTo>
                  <a:lnTo>
                    <a:pt x="430" y="509"/>
                  </a:lnTo>
                  <a:lnTo>
                    <a:pt x="446" y="465"/>
                  </a:lnTo>
                  <a:lnTo>
                    <a:pt x="463" y="426"/>
                  </a:lnTo>
                  <a:lnTo>
                    <a:pt x="485" y="382"/>
                  </a:lnTo>
                  <a:lnTo>
                    <a:pt x="501" y="337"/>
                  </a:lnTo>
                  <a:lnTo>
                    <a:pt x="512" y="318"/>
                  </a:lnTo>
                  <a:lnTo>
                    <a:pt x="518" y="299"/>
                  </a:lnTo>
                  <a:lnTo>
                    <a:pt x="529" y="274"/>
                  </a:lnTo>
                  <a:lnTo>
                    <a:pt x="540" y="254"/>
                  </a:lnTo>
                  <a:lnTo>
                    <a:pt x="545" y="235"/>
                  </a:lnTo>
                  <a:lnTo>
                    <a:pt x="556" y="210"/>
                  </a:lnTo>
                  <a:lnTo>
                    <a:pt x="568" y="191"/>
                  </a:lnTo>
                  <a:lnTo>
                    <a:pt x="579" y="172"/>
                  </a:lnTo>
                  <a:lnTo>
                    <a:pt x="590" y="146"/>
                  </a:lnTo>
                  <a:lnTo>
                    <a:pt x="601" y="127"/>
                  </a:lnTo>
                  <a:lnTo>
                    <a:pt x="606" y="108"/>
                  </a:lnTo>
                  <a:lnTo>
                    <a:pt x="617" y="82"/>
                  </a:lnTo>
                  <a:lnTo>
                    <a:pt x="628" y="63"/>
                  </a:lnTo>
                  <a:lnTo>
                    <a:pt x="634" y="44"/>
                  </a:lnTo>
                  <a:lnTo>
                    <a:pt x="645" y="19"/>
                  </a:lnTo>
                  <a:lnTo>
                    <a:pt x="656" y="0"/>
                  </a:lnTo>
                  <a:lnTo>
                    <a:pt x="7015" y="6"/>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 name=""/>
            <p:cNvSpPr/>
            <p:nvPr/>
          </p:nvSpPr>
          <p:spPr>
            <a:xfrm>
              <a:off x="5842080" y="2892600"/>
              <a:ext cx="1867320" cy="1053000"/>
            </a:xfrm>
            <a:custGeom>
              <a:avLst/>
              <a:gdLst/>
              <a:ahLst/>
              <a:rect l="0" t="0" r="r" b="b"/>
              <a:pathLst>
                <a:path w="5187" h="2925">
                  <a:moveTo>
                    <a:pt x="5187" y="121"/>
                  </a:moveTo>
                  <a:lnTo>
                    <a:pt x="5182" y="2919"/>
                  </a:lnTo>
                  <a:lnTo>
                    <a:pt x="104" y="2925"/>
                  </a:lnTo>
                  <a:lnTo>
                    <a:pt x="99" y="2925"/>
                  </a:lnTo>
                  <a:lnTo>
                    <a:pt x="93" y="2925"/>
                  </a:lnTo>
                  <a:lnTo>
                    <a:pt x="88" y="2925"/>
                  </a:lnTo>
                  <a:lnTo>
                    <a:pt x="82" y="2925"/>
                  </a:lnTo>
                  <a:lnTo>
                    <a:pt x="77" y="2925"/>
                  </a:lnTo>
                  <a:lnTo>
                    <a:pt x="66" y="2925"/>
                  </a:lnTo>
                  <a:lnTo>
                    <a:pt x="60" y="2925"/>
                  </a:lnTo>
                  <a:lnTo>
                    <a:pt x="55" y="2925"/>
                  </a:lnTo>
                  <a:lnTo>
                    <a:pt x="49" y="2925"/>
                  </a:lnTo>
                  <a:lnTo>
                    <a:pt x="38" y="2925"/>
                  </a:lnTo>
                  <a:lnTo>
                    <a:pt x="33" y="2925"/>
                  </a:lnTo>
                  <a:lnTo>
                    <a:pt x="27" y="2925"/>
                  </a:lnTo>
                  <a:lnTo>
                    <a:pt x="22" y="2919"/>
                  </a:lnTo>
                  <a:lnTo>
                    <a:pt x="11" y="2919"/>
                  </a:lnTo>
                  <a:lnTo>
                    <a:pt x="5" y="2919"/>
                  </a:lnTo>
                  <a:lnTo>
                    <a:pt x="0" y="2912"/>
                  </a:lnTo>
                  <a:lnTo>
                    <a:pt x="0" y="2900"/>
                  </a:lnTo>
                  <a:lnTo>
                    <a:pt x="0" y="2893"/>
                  </a:lnTo>
                  <a:lnTo>
                    <a:pt x="0" y="2881"/>
                  </a:lnTo>
                  <a:lnTo>
                    <a:pt x="5" y="2868"/>
                  </a:lnTo>
                  <a:lnTo>
                    <a:pt x="5" y="2855"/>
                  </a:lnTo>
                  <a:lnTo>
                    <a:pt x="5" y="2842"/>
                  </a:lnTo>
                  <a:lnTo>
                    <a:pt x="11" y="2830"/>
                  </a:lnTo>
                  <a:lnTo>
                    <a:pt x="11" y="2817"/>
                  </a:lnTo>
                  <a:lnTo>
                    <a:pt x="16" y="2804"/>
                  </a:lnTo>
                  <a:lnTo>
                    <a:pt x="16" y="2791"/>
                  </a:lnTo>
                  <a:lnTo>
                    <a:pt x="22" y="2779"/>
                  </a:lnTo>
                  <a:lnTo>
                    <a:pt x="22" y="2772"/>
                  </a:lnTo>
                  <a:lnTo>
                    <a:pt x="27" y="2760"/>
                  </a:lnTo>
                  <a:lnTo>
                    <a:pt x="27" y="2747"/>
                  </a:lnTo>
                  <a:lnTo>
                    <a:pt x="33" y="2734"/>
                  </a:lnTo>
                  <a:lnTo>
                    <a:pt x="33" y="2721"/>
                  </a:lnTo>
                  <a:lnTo>
                    <a:pt x="55" y="2588"/>
                  </a:lnTo>
                  <a:lnTo>
                    <a:pt x="77" y="2454"/>
                  </a:lnTo>
                  <a:lnTo>
                    <a:pt x="99" y="2320"/>
                  </a:lnTo>
                  <a:lnTo>
                    <a:pt x="115" y="2179"/>
                  </a:lnTo>
                  <a:lnTo>
                    <a:pt x="126" y="2045"/>
                  </a:lnTo>
                  <a:lnTo>
                    <a:pt x="137" y="1911"/>
                  </a:lnTo>
                  <a:lnTo>
                    <a:pt x="143" y="1771"/>
                  </a:lnTo>
                  <a:lnTo>
                    <a:pt x="148" y="1637"/>
                  </a:lnTo>
                  <a:lnTo>
                    <a:pt x="154" y="1497"/>
                  </a:lnTo>
                  <a:lnTo>
                    <a:pt x="148" y="1364"/>
                  </a:lnTo>
                  <a:lnTo>
                    <a:pt x="148" y="1223"/>
                  </a:lnTo>
                  <a:lnTo>
                    <a:pt x="143" y="1083"/>
                  </a:lnTo>
                  <a:lnTo>
                    <a:pt x="132" y="950"/>
                  </a:lnTo>
                  <a:lnTo>
                    <a:pt x="121" y="809"/>
                  </a:lnTo>
                  <a:lnTo>
                    <a:pt x="104" y="675"/>
                  </a:lnTo>
                  <a:lnTo>
                    <a:pt x="88" y="535"/>
                  </a:lnTo>
                  <a:lnTo>
                    <a:pt x="82" y="503"/>
                  </a:lnTo>
                  <a:lnTo>
                    <a:pt x="77" y="471"/>
                  </a:lnTo>
                  <a:lnTo>
                    <a:pt x="71" y="439"/>
                  </a:lnTo>
                  <a:lnTo>
                    <a:pt x="66" y="407"/>
                  </a:lnTo>
                  <a:lnTo>
                    <a:pt x="60" y="375"/>
                  </a:lnTo>
                  <a:lnTo>
                    <a:pt x="55" y="343"/>
                  </a:lnTo>
                  <a:lnTo>
                    <a:pt x="49" y="312"/>
                  </a:lnTo>
                  <a:lnTo>
                    <a:pt x="44" y="280"/>
                  </a:lnTo>
                  <a:lnTo>
                    <a:pt x="38" y="254"/>
                  </a:lnTo>
                  <a:lnTo>
                    <a:pt x="33" y="222"/>
                  </a:lnTo>
                  <a:lnTo>
                    <a:pt x="22" y="191"/>
                  </a:lnTo>
                  <a:lnTo>
                    <a:pt x="16" y="159"/>
                  </a:lnTo>
                  <a:lnTo>
                    <a:pt x="11" y="127"/>
                  </a:lnTo>
                  <a:lnTo>
                    <a:pt x="5" y="95"/>
                  </a:lnTo>
                  <a:lnTo>
                    <a:pt x="0" y="63"/>
                  </a:lnTo>
                  <a:lnTo>
                    <a:pt x="0" y="31"/>
                  </a:lnTo>
                  <a:lnTo>
                    <a:pt x="16" y="12"/>
                  </a:lnTo>
                  <a:lnTo>
                    <a:pt x="5176" y="0"/>
                  </a:lnTo>
                  <a:lnTo>
                    <a:pt x="5187" y="121"/>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 name=""/>
            <p:cNvSpPr/>
            <p:nvPr/>
          </p:nvSpPr>
          <p:spPr>
            <a:xfrm>
              <a:off x="5842080" y="2892600"/>
              <a:ext cx="1867320" cy="1053000"/>
            </a:xfrm>
            <a:custGeom>
              <a:avLst/>
              <a:gdLst/>
              <a:ahLst/>
              <a:rect l="0" t="0" r="r" b="b"/>
              <a:pathLst>
                <a:path w="5187" h="2925">
                  <a:moveTo>
                    <a:pt x="5187" y="121"/>
                  </a:moveTo>
                  <a:lnTo>
                    <a:pt x="5182" y="2919"/>
                  </a:lnTo>
                  <a:lnTo>
                    <a:pt x="104" y="2925"/>
                  </a:lnTo>
                  <a:lnTo>
                    <a:pt x="99" y="2925"/>
                  </a:lnTo>
                  <a:lnTo>
                    <a:pt x="93" y="2925"/>
                  </a:lnTo>
                  <a:lnTo>
                    <a:pt x="88" y="2925"/>
                  </a:lnTo>
                  <a:lnTo>
                    <a:pt x="82" y="2925"/>
                  </a:lnTo>
                  <a:lnTo>
                    <a:pt x="77" y="2925"/>
                  </a:lnTo>
                  <a:lnTo>
                    <a:pt x="66" y="2925"/>
                  </a:lnTo>
                  <a:lnTo>
                    <a:pt x="60" y="2925"/>
                  </a:lnTo>
                  <a:lnTo>
                    <a:pt x="55" y="2925"/>
                  </a:lnTo>
                  <a:lnTo>
                    <a:pt x="49" y="2925"/>
                  </a:lnTo>
                  <a:lnTo>
                    <a:pt x="38" y="2925"/>
                  </a:lnTo>
                  <a:lnTo>
                    <a:pt x="33" y="2925"/>
                  </a:lnTo>
                  <a:lnTo>
                    <a:pt x="27" y="2925"/>
                  </a:lnTo>
                  <a:lnTo>
                    <a:pt x="22" y="2919"/>
                  </a:lnTo>
                  <a:lnTo>
                    <a:pt x="11" y="2919"/>
                  </a:lnTo>
                  <a:lnTo>
                    <a:pt x="5" y="2919"/>
                  </a:lnTo>
                  <a:lnTo>
                    <a:pt x="0" y="2912"/>
                  </a:lnTo>
                  <a:lnTo>
                    <a:pt x="0" y="2900"/>
                  </a:lnTo>
                  <a:lnTo>
                    <a:pt x="0" y="2893"/>
                  </a:lnTo>
                  <a:lnTo>
                    <a:pt x="0" y="2881"/>
                  </a:lnTo>
                  <a:lnTo>
                    <a:pt x="5" y="2868"/>
                  </a:lnTo>
                  <a:lnTo>
                    <a:pt x="5" y="2855"/>
                  </a:lnTo>
                  <a:lnTo>
                    <a:pt x="5" y="2842"/>
                  </a:lnTo>
                  <a:lnTo>
                    <a:pt x="11" y="2830"/>
                  </a:lnTo>
                  <a:lnTo>
                    <a:pt x="11" y="2817"/>
                  </a:lnTo>
                  <a:lnTo>
                    <a:pt x="16" y="2804"/>
                  </a:lnTo>
                  <a:lnTo>
                    <a:pt x="16" y="2791"/>
                  </a:lnTo>
                  <a:lnTo>
                    <a:pt x="22" y="2779"/>
                  </a:lnTo>
                  <a:lnTo>
                    <a:pt x="22" y="2772"/>
                  </a:lnTo>
                  <a:lnTo>
                    <a:pt x="27" y="2760"/>
                  </a:lnTo>
                  <a:lnTo>
                    <a:pt x="27" y="2747"/>
                  </a:lnTo>
                  <a:lnTo>
                    <a:pt x="33" y="2734"/>
                  </a:lnTo>
                  <a:lnTo>
                    <a:pt x="33" y="2721"/>
                  </a:lnTo>
                  <a:lnTo>
                    <a:pt x="55" y="2588"/>
                  </a:lnTo>
                  <a:lnTo>
                    <a:pt x="77" y="2454"/>
                  </a:lnTo>
                  <a:lnTo>
                    <a:pt x="99" y="2320"/>
                  </a:lnTo>
                  <a:lnTo>
                    <a:pt x="115" y="2179"/>
                  </a:lnTo>
                  <a:lnTo>
                    <a:pt x="126" y="2045"/>
                  </a:lnTo>
                  <a:lnTo>
                    <a:pt x="137" y="1911"/>
                  </a:lnTo>
                  <a:lnTo>
                    <a:pt x="143" y="1771"/>
                  </a:lnTo>
                  <a:lnTo>
                    <a:pt x="148" y="1637"/>
                  </a:lnTo>
                  <a:lnTo>
                    <a:pt x="154" y="1497"/>
                  </a:lnTo>
                  <a:lnTo>
                    <a:pt x="148" y="1364"/>
                  </a:lnTo>
                  <a:lnTo>
                    <a:pt x="148" y="1223"/>
                  </a:lnTo>
                  <a:lnTo>
                    <a:pt x="143" y="1083"/>
                  </a:lnTo>
                  <a:lnTo>
                    <a:pt x="132" y="950"/>
                  </a:lnTo>
                  <a:lnTo>
                    <a:pt x="121" y="809"/>
                  </a:lnTo>
                  <a:lnTo>
                    <a:pt x="104" y="675"/>
                  </a:lnTo>
                  <a:lnTo>
                    <a:pt x="88" y="535"/>
                  </a:lnTo>
                  <a:lnTo>
                    <a:pt x="82" y="503"/>
                  </a:lnTo>
                  <a:lnTo>
                    <a:pt x="77" y="471"/>
                  </a:lnTo>
                  <a:lnTo>
                    <a:pt x="71" y="439"/>
                  </a:lnTo>
                  <a:lnTo>
                    <a:pt x="66" y="407"/>
                  </a:lnTo>
                  <a:lnTo>
                    <a:pt x="60" y="375"/>
                  </a:lnTo>
                  <a:lnTo>
                    <a:pt x="55" y="343"/>
                  </a:lnTo>
                  <a:lnTo>
                    <a:pt x="49" y="312"/>
                  </a:lnTo>
                  <a:lnTo>
                    <a:pt x="44" y="280"/>
                  </a:lnTo>
                  <a:lnTo>
                    <a:pt x="38" y="254"/>
                  </a:lnTo>
                  <a:lnTo>
                    <a:pt x="33" y="222"/>
                  </a:lnTo>
                  <a:lnTo>
                    <a:pt x="22" y="191"/>
                  </a:lnTo>
                  <a:lnTo>
                    <a:pt x="16" y="159"/>
                  </a:lnTo>
                  <a:lnTo>
                    <a:pt x="11" y="127"/>
                  </a:lnTo>
                  <a:lnTo>
                    <a:pt x="5" y="95"/>
                  </a:lnTo>
                  <a:lnTo>
                    <a:pt x="0" y="63"/>
                  </a:lnTo>
                  <a:lnTo>
                    <a:pt x="0" y="31"/>
                  </a:lnTo>
                  <a:lnTo>
                    <a:pt x="16" y="12"/>
                  </a:lnTo>
                  <a:lnTo>
                    <a:pt x="5176" y="0"/>
                  </a:lnTo>
                  <a:lnTo>
                    <a:pt x="5187" y="121"/>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 name=""/>
            <p:cNvSpPr/>
            <p:nvPr/>
          </p:nvSpPr>
          <p:spPr>
            <a:xfrm>
              <a:off x="2081160" y="2895480"/>
              <a:ext cx="1873440" cy="1049760"/>
            </a:xfrm>
            <a:custGeom>
              <a:avLst/>
              <a:gdLst/>
              <a:ahLst/>
              <a:rect l="0" t="0" r="r" b="b"/>
              <a:pathLst>
                <a:path w="5204" h="2916">
                  <a:moveTo>
                    <a:pt x="5204" y="38"/>
                  </a:moveTo>
                  <a:lnTo>
                    <a:pt x="5187" y="102"/>
                  </a:lnTo>
                  <a:lnTo>
                    <a:pt x="5176" y="159"/>
                  </a:lnTo>
                  <a:lnTo>
                    <a:pt x="5160" y="229"/>
                  </a:lnTo>
                  <a:lnTo>
                    <a:pt x="5149" y="293"/>
                  </a:lnTo>
                  <a:lnTo>
                    <a:pt x="5138" y="357"/>
                  </a:lnTo>
                  <a:lnTo>
                    <a:pt x="5127" y="420"/>
                  </a:lnTo>
                  <a:lnTo>
                    <a:pt x="5121" y="491"/>
                  </a:lnTo>
                  <a:lnTo>
                    <a:pt x="5110" y="554"/>
                  </a:lnTo>
                  <a:lnTo>
                    <a:pt x="5099" y="625"/>
                  </a:lnTo>
                  <a:lnTo>
                    <a:pt x="5094" y="688"/>
                  </a:lnTo>
                  <a:lnTo>
                    <a:pt x="5083" y="760"/>
                  </a:lnTo>
                  <a:lnTo>
                    <a:pt x="5077" y="823"/>
                  </a:lnTo>
                  <a:lnTo>
                    <a:pt x="5072" y="893"/>
                  </a:lnTo>
                  <a:lnTo>
                    <a:pt x="5066" y="957"/>
                  </a:lnTo>
                  <a:lnTo>
                    <a:pt x="5055" y="1027"/>
                  </a:lnTo>
                  <a:lnTo>
                    <a:pt x="5050" y="1091"/>
                  </a:lnTo>
                  <a:lnTo>
                    <a:pt x="5055" y="1869"/>
                  </a:lnTo>
                  <a:lnTo>
                    <a:pt x="5061" y="1933"/>
                  </a:lnTo>
                  <a:lnTo>
                    <a:pt x="5066" y="2003"/>
                  </a:lnTo>
                  <a:lnTo>
                    <a:pt x="5072" y="2067"/>
                  </a:lnTo>
                  <a:lnTo>
                    <a:pt x="5083" y="2131"/>
                  </a:lnTo>
                  <a:lnTo>
                    <a:pt x="5088" y="2202"/>
                  </a:lnTo>
                  <a:lnTo>
                    <a:pt x="5094" y="2266"/>
                  </a:lnTo>
                  <a:lnTo>
                    <a:pt x="5105" y="2330"/>
                  </a:lnTo>
                  <a:lnTo>
                    <a:pt x="5116" y="2393"/>
                  </a:lnTo>
                  <a:lnTo>
                    <a:pt x="5121" y="2457"/>
                  </a:lnTo>
                  <a:lnTo>
                    <a:pt x="5132" y="2521"/>
                  </a:lnTo>
                  <a:lnTo>
                    <a:pt x="5143" y="2585"/>
                  </a:lnTo>
                  <a:lnTo>
                    <a:pt x="5149" y="2648"/>
                  </a:lnTo>
                  <a:lnTo>
                    <a:pt x="5165" y="2712"/>
                  </a:lnTo>
                  <a:lnTo>
                    <a:pt x="5176" y="2776"/>
                  </a:lnTo>
                  <a:lnTo>
                    <a:pt x="5187" y="2840"/>
                  </a:lnTo>
                  <a:lnTo>
                    <a:pt x="5198" y="2904"/>
                  </a:lnTo>
                  <a:lnTo>
                    <a:pt x="5182" y="2916"/>
                  </a:lnTo>
                  <a:lnTo>
                    <a:pt x="0" y="2916"/>
                  </a:lnTo>
                  <a:lnTo>
                    <a:pt x="5" y="0"/>
                  </a:lnTo>
                  <a:lnTo>
                    <a:pt x="5187" y="0"/>
                  </a:lnTo>
                  <a:lnTo>
                    <a:pt x="5204" y="3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 name=""/>
            <p:cNvSpPr/>
            <p:nvPr/>
          </p:nvSpPr>
          <p:spPr>
            <a:xfrm>
              <a:off x="2081160" y="2895480"/>
              <a:ext cx="1873440" cy="1049760"/>
            </a:xfrm>
            <a:custGeom>
              <a:avLst/>
              <a:gdLst/>
              <a:ahLst/>
              <a:rect l="0" t="0" r="r" b="b"/>
              <a:pathLst>
                <a:path w="5204" h="2916">
                  <a:moveTo>
                    <a:pt x="5204" y="38"/>
                  </a:moveTo>
                  <a:lnTo>
                    <a:pt x="5187" y="102"/>
                  </a:lnTo>
                  <a:lnTo>
                    <a:pt x="5176" y="159"/>
                  </a:lnTo>
                  <a:lnTo>
                    <a:pt x="5160" y="229"/>
                  </a:lnTo>
                  <a:lnTo>
                    <a:pt x="5149" y="293"/>
                  </a:lnTo>
                  <a:lnTo>
                    <a:pt x="5138" y="357"/>
                  </a:lnTo>
                  <a:lnTo>
                    <a:pt x="5127" y="420"/>
                  </a:lnTo>
                  <a:lnTo>
                    <a:pt x="5121" y="491"/>
                  </a:lnTo>
                  <a:lnTo>
                    <a:pt x="5110" y="554"/>
                  </a:lnTo>
                  <a:lnTo>
                    <a:pt x="5099" y="625"/>
                  </a:lnTo>
                  <a:lnTo>
                    <a:pt x="5094" y="688"/>
                  </a:lnTo>
                  <a:lnTo>
                    <a:pt x="5083" y="760"/>
                  </a:lnTo>
                  <a:lnTo>
                    <a:pt x="5077" y="823"/>
                  </a:lnTo>
                  <a:lnTo>
                    <a:pt x="5072" y="893"/>
                  </a:lnTo>
                  <a:lnTo>
                    <a:pt x="5066" y="957"/>
                  </a:lnTo>
                  <a:lnTo>
                    <a:pt x="5055" y="1027"/>
                  </a:lnTo>
                  <a:lnTo>
                    <a:pt x="5050" y="1091"/>
                  </a:lnTo>
                  <a:lnTo>
                    <a:pt x="5055" y="1869"/>
                  </a:lnTo>
                  <a:lnTo>
                    <a:pt x="5061" y="1933"/>
                  </a:lnTo>
                  <a:lnTo>
                    <a:pt x="5066" y="2003"/>
                  </a:lnTo>
                  <a:lnTo>
                    <a:pt x="5072" y="2067"/>
                  </a:lnTo>
                  <a:lnTo>
                    <a:pt x="5083" y="2131"/>
                  </a:lnTo>
                  <a:lnTo>
                    <a:pt x="5088" y="2202"/>
                  </a:lnTo>
                  <a:lnTo>
                    <a:pt x="5094" y="2266"/>
                  </a:lnTo>
                  <a:lnTo>
                    <a:pt x="5105" y="2330"/>
                  </a:lnTo>
                  <a:lnTo>
                    <a:pt x="5116" y="2393"/>
                  </a:lnTo>
                  <a:lnTo>
                    <a:pt x="5121" y="2457"/>
                  </a:lnTo>
                  <a:lnTo>
                    <a:pt x="5132" y="2521"/>
                  </a:lnTo>
                  <a:lnTo>
                    <a:pt x="5143" y="2585"/>
                  </a:lnTo>
                  <a:lnTo>
                    <a:pt x="5149" y="2648"/>
                  </a:lnTo>
                  <a:lnTo>
                    <a:pt x="5165" y="2712"/>
                  </a:lnTo>
                  <a:lnTo>
                    <a:pt x="5176" y="2776"/>
                  </a:lnTo>
                  <a:lnTo>
                    <a:pt x="5187" y="2840"/>
                  </a:lnTo>
                  <a:lnTo>
                    <a:pt x="5198" y="2904"/>
                  </a:lnTo>
                  <a:lnTo>
                    <a:pt x="5182" y="2916"/>
                  </a:lnTo>
                  <a:lnTo>
                    <a:pt x="0" y="2916"/>
                  </a:lnTo>
                  <a:lnTo>
                    <a:pt x="5" y="0"/>
                  </a:lnTo>
                  <a:lnTo>
                    <a:pt x="5187" y="0"/>
                  </a:lnTo>
                  <a:lnTo>
                    <a:pt x="5204" y="3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 name=""/>
            <p:cNvSpPr/>
            <p:nvPr/>
          </p:nvSpPr>
          <p:spPr>
            <a:xfrm>
              <a:off x="5180040" y="4027320"/>
              <a:ext cx="2529360" cy="1119600"/>
            </a:xfrm>
            <a:custGeom>
              <a:avLst/>
              <a:gdLst/>
              <a:ahLst/>
              <a:rect l="0" t="0" r="r" b="b"/>
              <a:pathLst>
                <a:path w="7026" h="3110">
                  <a:moveTo>
                    <a:pt x="7026" y="0"/>
                  </a:moveTo>
                  <a:lnTo>
                    <a:pt x="7026" y="89"/>
                  </a:lnTo>
                  <a:lnTo>
                    <a:pt x="7021" y="178"/>
                  </a:lnTo>
                  <a:lnTo>
                    <a:pt x="7021" y="267"/>
                  </a:lnTo>
                  <a:lnTo>
                    <a:pt x="7021" y="356"/>
                  </a:lnTo>
                  <a:lnTo>
                    <a:pt x="7021" y="445"/>
                  </a:lnTo>
                  <a:lnTo>
                    <a:pt x="7015" y="534"/>
                  </a:lnTo>
                  <a:lnTo>
                    <a:pt x="7010" y="623"/>
                  </a:lnTo>
                  <a:lnTo>
                    <a:pt x="7004" y="712"/>
                  </a:lnTo>
                  <a:lnTo>
                    <a:pt x="6999" y="802"/>
                  </a:lnTo>
                  <a:lnTo>
                    <a:pt x="6993" y="891"/>
                  </a:lnTo>
                  <a:lnTo>
                    <a:pt x="6982" y="980"/>
                  </a:lnTo>
                  <a:lnTo>
                    <a:pt x="6977" y="1075"/>
                  </a:lnTo>
                  <a:lnTo>
                    <a:pt x="6966" y="1158"/>
                  </a:lnTo>
                  <a:lnTo>
                    <a:pt x="6955" y="1247"/>
                  </a:lnTo>
                  <a:lnTo>
                    <a:pt x="6938" y="1336"/>
                  </a:lnTo>
                  <a:lnTo>
                    <a:pt x="6927" y="1425"/>
                  </a:lnTo>
                  <a:lnTo>
                    <a:pt x="6922" y="1431"/>
                  </a:lnTo>
                  <a:lnTo>
                    <a:pt x="6922" y="1437"/>
                  </a:lnTo>
                  <a:lnTo>
                    <a:pt x="6916" y="1444"/>
                  </a:lnTo>
                  <a:lnTo>
                    <a:pt x="6916" y="1450"/>
                  </a:lnTo>
                  <a:lnTo>
                    <a:pt x="6916" y="1456"/>
                  </a:lnTo>
                  <a:lnTo>
                    <a:pt x="6916" y="1463"/>
                  </a:lnTo>
                  <a:lnTo>
                    <a:pt x="6910" y="1463"/>
                  </a:lnTo>
                  <a:lnTo>
                    <a:pt x="6910" y="1469"/>
                  </a:lnTo>
                  <a:lnTo>
                    <a:pt x="6910" y="1475"/>
                  </a:lnTo>
                  <a:lnTo>
                    <a:pt x="6910" y="1482"/>
                  </a:lnTo>
                  <a:lnTo>
                    <a:pt x="6910" y="1488"/>
                  </a:lnTo>
                  <a:lnTo>
                    <a:pt x="6905" y="1495"/>
                  </a:lnTo>
                  <a:lnTo>
                    <a:pt x="6883" y="1590"/>
                  </a:lnTo>
                  <a:lnTo>
                    <a:pt x="6861" y="1685"/>
                  </a:lnTo>
                  <a:lnTo>
                    <a:pt x="6839" y="1781"/>
                  </a:lnTo>
                  <a:lnTo>
                    <a:pt x="6817" y="1870"/>
                  </a:lnTo>
                  <a:lnTo>
                    <a:pt x="6789" y="1965"/>
                  </a:lnTo>
                  <a:lnTo>
                    <a:pt x="6767" y="2060"/>
                  </a:lnTo>
                  <a:lnTo>
                    <a:pt x="6740" y="2149"/>
                  </a:lnTo>
                  <a:lnTo>
                    <a:pt x="6712" y="2245"/>
                  </a:lnTo>
                  <a:lnTo>
                    <a:pt x="6685" y="2335"/>
                  </a:lnTo>
                  <a:lnTo>
                    <a:pt x="6652" y="2424"/>
                  </a:lnTo>
                  <a:lnTo>
                    <a:pt x="6618" y="2513"/>
                  </a:lnTo>
                  <a:lnTo>
                    <a:pt x="6585" y="2602"/>
                  </a:lnTo>
                  <a:lnTo>
                    <a:pt x="6552" y="2691"/>
                  </a:lnTo>
                  <a:lnTo>
                    <a:pt x="6514" y="2780"/>
                  </a:lnTo>
                  <a:lnTo>
                    <a:pt x="6475" y="2862"/>
                  </a:lnTo>
                  <a:lnTo>
                    <a:pt x="6437" y="2951"/>
                  </a:lnTo>
                  <a:lnTo>
                    <a:pt x="6431" y="2958"/>
                  </a:lnTo>
                  <a:lnTo>
                    <a:pt x="6431" y="2964"/>
                  </a:lnTo>
                  <a:lnTo>
                    <a:pt x="6426" y="2970"/>
                  </a:lnTo>
                  <a:lnTo>
                    <a:pt x="6426" y="2977"/>
                  </a:lnTo>
                  <a:lnTo>
                    <a:pt x="6420" y="2983"/>
                  </a:lnTo>
                  <a:lnTo>
                    <a:pt x="6420" y="2990"/>
                  </a:lnTo>
                  <a:lnTo>
                    <a:pt x="6415" y="2996"/>
                  </a:lnTo>
                  <a:lnTo>
                    <a:pt x="6415" y="3002"/>
                  </a:lnTo>
                  <a:lnTo>
                    <a:pt x="6409" y="3009"/>
                  </a:lnTo>
                  <a:lnTo>
                    <a:pt x="6409" y="3015"/>
                  </a:lnTo>
                  <a:lnTo>
                    <a:pt x="6404" y="3021"/>
                  </a:lnTo>
                  <a:lnTo>
                    <a:pt x="6404" y="3028"/>
                  </a:lnTo>
                  <a:lnTo>
                    <a:pt x="6398" y="3034"/>
                  </a:lnTo>
                  <a:lnTo>
                    <a:pt x="6398" y="3040"/>
                  </a:lnTo>
                  <a:lnTo>
                    <a:pt x="6393" y="3047"/>
                  </a:lnTo>
                  <a:lnTo>
                    <a:pt x="6393" y="3053"/>
                  </a:lnTo>
                  <a:lnTo>
                    <a:pt x="6393" y="3059"/>
                  </a:lnTo>
                  <a:lnTo>
                    <a:pt x="6387" y="3059"/>
                  </a:lnTo>
                  <a:lnTo>
                    <a:pt x="6387" y="3066"/>
                  </a:lnTo>
                  <a:lnTo>
                    <a:pt x="6382" y="3066"/>
                  </a:lnTo>
                  <a:lnTo>
                    <a:pt x="6382" y="3072"/>
                  </a:lnTo>
                  <a:lnTo>
                    <a:pt x="6382" y="3079"/>
                  </a:lnTo>
                  <a:lnTo>
                    <a:pt x="6376" y="3079"/>
                  </a:lnTo>
                  <a:lnTo>
                    <a:pt x="6376" y="3085"/>
                  </a:lnTo>
                  <a:lnTo>
                    <a:pt x="6376" y="3091"/>
                  </a:lnTo>
                  <a:lnTo>
                    <a:pt x="6371" y="3098"/>
                  </a:lnTo>
                  <a:lnTo>
                    <a:pt x="16" y="3110"/>
                  </a:lnTo>
                  <a:lnTo>
                    <a:pt x="5" y="3098"/>
                  </a:lnTo>
                  <a:lnTo>
                    <a:pt x="5" y="3079"/>
                  </a:lnTo>
                  <a:lnTo>
                    <a:pt x="5" y="3066"/>
                  </a:lnTo>
                  <a:lnTo>
                    <a:pt x="5" y="3053"/>
                  </a:lnTo>
                  <a:lnTo>
                    <a:pt x="5" y="3040"/>
                  </a:lnTo>
                  <a:lnTo>
                    <a:pt x="5" y="3028"/>
                  </a:lnTo>
                  <a:lnTo>
                    <a:pt x="0" y="3009"/>
                  </a:lnTo>
                  <a:lnTo>
                    <a:pt x="0" y="2996"/>
                  </a:lnTo>
                  <a:lnTo>
                    <a:pt x="0" y="2983"/>
                  </a:lnTo>
                  <a:lnTo>
                    <a:pt x="5" y="2970"/>
                  </a:lnTo>
                  <a:lnTo>
                    <a:pt x="5" y="2958"/>
                  </a:lnTo>
                  <a:lnTo>
                    <a:pt x="5" y="2945"/>
                  </a:lnTo>
                  <a:lnTo>
                    <a:pt x="11" y="2932"/>
                  </a:lnTo>
                  <a:lnTo>
                    <a:pt x="16" y="2926"/>
                  </a:lnTo>
                  <a:lnTo>
                    <a:pt x="27" y="2913"/>
                  </a:lnTo>
                  <a:lnTo>
                    <a:pt x="38" y="2907"/>
                  </a:lnTo>
                  <a:lnTo>
                    <a:pt x="49" y="2901"/>
                  </a:lnTo>
                  <a:lnTo>
                    <a:pt x="99" y="2856"/>
                  </a:lnTo>
                  <a:lnTo>
                    <a:pt x="148" y="2812"/>
                  </a:lnTo>
                  <a:lnTo>
                    <a:pt x="198" y="2761"/>
                  </a:lnTo>
                  <a:lnTo>
                    <a:pt x="247" y="2716"/>
                  </a:lnTo>
                  <a:lnTo>
                    <a:pt x="297" y="2665"/>
                  </a:lnTo>
                  <a:lnTo>
                    <a:pt x="347" y="2614"/>
                  </a:lnTo>
                  <a:lnTo>
                    <a:pt x="396" y="2564"/>
                  </a:lnTo>
                  <a:lnTo>
                    <a:pt x="440" y="2513"/>
                  </a:lnTo>
                  <a:lnTo>
                    <a:pt x="490" y="2456"/>
                  </a:lnTo>
                  <a:lnTo>
                    <a:pt x="539" y="2405"/>
                  </a:lnTo>
                  <a:lnTo>
                    <a:pt x="584" y="2347"/>
                  </a:lnTo>
                  <a:lnTo>
                    <a:pt x="628" y="2296"/>
                  </a:lnTo>
                  <a:lnTo>
                    <a:pt x="672" y="2238"/>
                  </a:lnTo>
                  <a:lnTo>
                    <a:pt x="716" y="2181"/>
                  </a:lnTo>
                  <a:lnTo>
                    <a:pt x="760" y="2124"/>
                  </a:lnTo>
                  <a:lnTo>
                    <a:pt x="804" y="2067"/>
                  </a:lnTo>
                  <a:lnTo>
                    <a:pt x="881" y="1952"/>
                  </a:lnTo>
                  <a:lnTo>
                    <a:pt x="964" y="1831"/>
                  </a:lnTo>
                  <a:lnTo>
                    <a:pt x="1035" y="1717"/>
                  </a:lnTo>
                  <a:lnTo>
                    <a:pt x="1112" y="1596"/>
                  </a:lnTo>
                  <a:lnTo>
                    <a:pt x="1179" y="1469"/>
                  </a:lnTo>
                  <a:lnTo>
                    <a:pt x="1250" y="1348"/>
                  </a:lnTo>
                  <a:lnTo>
                    <a:pt x="1316" y="1221"/>
                  </a:lnTo>
                  <a:lnTo>
                    <a:pt x="1377" y="1094"/>
                  </a:lnTo>
                  <a:lnTo>
                    <a:pt x="1437" y="967"/>
                  </a:lnTo>
                  <a:lnTo>
                    <a:pt x="1493" y="840"/>
                  </a:lnTo>
                  <a:lnTo>
                    <a:pt x="1548" y="705"/>
                  </a:lnTo>
                  <a:lnTo>
                    <a:pt x="1597" y="572"/>
                  </a:lnTo>
                  <a:lnTo>
                    <a:pt x="1647" y="438"/>
                  </a:lnTo>
                  <a:lnTo>
                    <a:pt x="1691" y="305"/>
                  </a:lnTo>
                  <a:lnTo>
                    <a:pt x="1730" y="165"/>
                  </a:lnTo>
                  <a:lnTo>
                    <a:pt x="1769" y="31"/>
                  </a:lnTo>
                  <a:lnTo>
                    <a:pt x="1791" y="6"/>
                  </a:lnTo>
                  <a:lnTo>
                    <a:pt x="7026"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 name=""/>
            <p:cNvSpPr/>
            <p:nvPr/>
          </p:nvSpPr>
          <p:spPr>
            <a:xfrm>
              <a:off x="5180040" y="4027320"/>
              <a:ext cx="2529360" cy="1119600"/>
            </a:xfrm>
            <a:custGeom>
              <a:avLst/>
              <a:gdLst/>
              <a:ahLst/>
              <a:rect l="0" t="0" r="r" b="b"/>
              <a:pathLst>
                <a:path w="7026" h="3110">
                  <a:moveTo>
                    <a:pt x="7026" y="0"/>
                  </a:moveTo>
                  <a:lnTo>
                    <a:pt x="7026" y="89"/>
                  </a:lnTo>
                  <a:lnTo>
                    <a:pt x="7021" y="178"/>
                  </a:lnTo>
                  <a:lnTo>
                    <a:pt x="7021" y="267"/>
                  </a:lnTo>
                  <a:lnTo>
                    <a:pt x="7021" y="356"/>
                  </a:lnTo>
                  <a:lnTo>
                    <a:pt x="7021" y="445"/>
                  </a:lnTo>
                  <a:lnTo>
                    <a:pt x="7015" y="534"/>
                  </a:lnTo>
                  <a:lnTo>
                    <a:pt x="7010" y="623"/>
                  </a:lnTo>
                  <a:lnTo>
                    <a:pt x="7004" y="712"/>
                  </a:lnTo>
                  <a:lnTo>
                    <a:pt x="6999" y="802"/>
                  </a:lnTo>
                  <a:lnTo>
                    <a:pt x="6993" y="891"/>
                  </a:lnTo>
                  <a:lnTo>
                    <a:pt x="6982" y="980"/>
                  </a:lnTo>
                  <a:lnTo>
                    <a:pt x="6977" y="1075"/>
                  </a:lnTo>
                  <a:lnTo>
                    <a:pt x="6966" y="1158"/>
                  </a:lnTo>
                  <a:lnTo>
                    <a:pt x="6955" y="1247"/>
                  </a:lnTo>
                  <a:lnTo>
                    <a:pt x="6938" y="1336"/>
                  </a:lnTo>
                  <a:lnTo>
                    <a:pt x="6927" y="1425"/>
                  </a:lnTo>
                  <a:lnTo>
                    <a:pt x="6922" y="1431"/>
                  </a:lnTo>
                  <a:lnTo>
                    <a:pt x="6922" y="1437"/>
                  </a:lnTo>
                  <a:lnTo>
                    <a:pt x="6916" y="1444"/>
                  </a:lnTo>
                  <a:lnTo>
                    <a:pt x="6916" y="1450"/>
                  </a:lnTo>
                  <a:lnTo>
                    <a:pt x="6916" y="1456"/>
                  </a:lnTo>
                  <a:lnTo>
                    <a:pt x="6916" y="1463"/>
                  </a:lnTo>
                  <a:lnTo>
                    <a:pt x="6910" y="1463"/>
                  </a:lnTo>
                  <a:lnTo>
                    <a:pt x="6910" y="1469"/>
                  </a:lnTo>
                  <a:lnTo>
                    <a:pt x="6910" y="1475"/>
                  </a:lnTo>
                  <a:lnTo>
                    <a:pt x="6910" y="1482"/>
                  </a:lnTo>
                  <a:lnTo>
                    <a:pt x="6910" y="1488"/>
                  </a:lnTo>
                  <a:lnTo>
                    <a:pt x="6905" y="1495"/>
                  </a:lnTo>
                  <a:lnTo>
                    <a:pt x="6883" y="1590"/>
                  </a:lnTo>
                  <a:lnTo>
                    <a:pt x="6861" y="1685"/>
                  </a:lnTo>
                  <a:lnTo>
                    <a:pt x="6839" y="1781"/>
                  </a:lnTo>
                  <a:lnTo>
                    <a:pt x="6817" y="1870"/>
                  </a:lnTo>
                  <a:lnTo>
                    <a:pt x="6789" y="1965"/>
                  </a:lnTo>
                  <a:lnTo>
                    <a:pt x="6767" y="2060"/>
                  </a:lnTo>
                  <a:lnTo>
                    <a:pt x="6740" y="2149"/>
                  </a:lnTo>
                  <a:lnTo>
                    <a:pt x="6712" y="2245"/>
                  </a:lnTo>
                  <a:lnTo>
                    <a:pt x="6685" y="2335"/>
                  </a:lnTo>
                  <a:lnTo>
                    <a:pt x="6652" y="2424"/>
                  </a:lnTo>
                  <a:lnTo>
                    <a:pt x="6618" y="2513"/>
                  </a:lnTo>
                  <a:lnTo>
                    <a:pt x="6585" y="2602"/>
                  </a:lnTo>
                  <a:lnTo>
                    <a:pt x="6552" y="2691"/>
                  </a:lnTo>
                  <a:lnTo>
                    <a:pt x="6514" y="2780"/>
                  </a:lnTo>
                  <a:lnTo>
                    <a:pt x="6475" y="2862"/>
                  </a:lnTo>
                  <a:lnTo>
                    <a:pt x="6437" y="2951"/>
                  </a:lnTo>
                  <a:lnTo>
                    <a:pt x="6431" y="2958"/>
                  </a:lnTo>
                  <a:lnTo>
                    <a:pt x="6431" y="2964"/>
                  </a:lnTo>
                  <a:lnTo>
                    <a:pt x="6426" y="2970"/>
                  </a:lnTo>
                  <a:lnTo>
                    <a:pt x="6426" y="2977"/>
                  </a:lnTo>
                  <a:lnTo>
                    <a:pt x="6420" y="2983"/>
                  </a:lnTo>
                  <a:lnTo>
                    <a:pt x="6420" y="2990"/>
                  </a:lnTo>
                  <a:lnTo>
                    <a:pt x="6415" y="2996"/>
                  </a:lnTo>
                  <a:lnTo>
                    <a:pt x="6415" y="3002"/>
                  </a:lnTo>
                  <a:lnTo>
                    <a:pt x="6409" y="3009"/>
                  </a:lnTo>
                  <a:lnTo>
                    <a:pt x="6409" y="3015"/>
                  </a:lnTo>
                  <a:lnTo>
                    <a:pt x="6404" y="3021"/>
                  </a:lnTo>
                  <a:lnTo>
                    <a:pt x="6404" y="3028"/>
                  </a:lnTo>
                  <a:lnTo>
                    <a:pt x="6398" y="3034"/>
                  </a:lnTo>
                  <a:lnTo>
                    <a:pt x="6398" y="3040"/>
                  </a:lnTo>
                  <a:lnTo>
                    <a:pt x="6393" y="3047"/>
                  </a:lnTo>
                  <a:lnTo>
                    <a:pt x="6393" y="3053"/>
                  </a:lnTo>
                  <a:lnTo>
                    <a:pt x="6393" y="3059"/>
                  </a:lnTo>
                  <a:lnTo>
                    <a:pt x="6387" y="3059"/>
                  </a:lnTo>
                  <a:lnTo>
                    <a:pt x="6387" y="3066"/>
                  </a:lnTo>
                  <a:lnTo>
                    <a:pt x="6382" y="3066"/>
                  </a:lnTo>
                  <a:lnTo>
                    <a:pt x="6382" y="3072"/>
                  </a:lnTo>
                  <a:lnTo>
                    <a:pt x="6382" y="3079"/>
                  </a:lnTo>
                  <a:lnTo>
                    <a:pt x="6376" y="3079"/>
                  </a:lnTo>
                  <a:lnTo>
                    <a:pt x="6376" y="3085"/>
                  </a:lnTo>
                  <a:lnTo>
                    <a:pt x="6376" y="3091"/>
                  </a:lnTo>
                  <a:lnTo>
                    <a:pt x="6371" y="3098"/>
                  </a:lnTo>
                  <a:lnTo>
                    <a:pt x="16" y="3110"/>
                  </a:lnTo>
                  <a:lnTo>
                    <a:pt x="5" y="3098"/>
                  </a:lnTo>
                  <a:lnTo>
                    <a:pt x="5" y="3079"/>
                  </a:lnTo>
                  <a:lnTo>
                    <a:pt x="5" y="3066"/>
                  </a:lnTo>
                  <a:lnTo>
                    <a:pt x="5" y="3053"/>
                  </a:lnTo>
                  <a:lnTo>
                    <a:pt x="5" y="3040"/>
                  </a:lnTo>
                  <a:lnTo>
                    <a:pt x="5" y="3028"/>
                  </a:lnTo>
                  <a:lnTo>
                    <a:pt x="0" y="3009"/>
                  </a:lnTo>
                  <a:lnTo>
                    <a:pt x="0" y="2996"/>
                  </a:lnTo>
                  <a:lnTo>
                    <a:pt x="0" y="2983"/>
                  </a:lnTo>
                  <a:lnTo>
                    <a:pt x="5" y="2970"/>
                  </a:lnTo>
                  <a:lnTo>
                    <a:pt x="5" y="2958"/>
                  </a:lnTo>
                  <a:lnTo>
                    <a:pt x="5" y="2945"/>
                  </a:lnTo>
                  <a:lnTo>
                    <a:pt x="11" y="2932"/>
                  </a:lnTo>
                  <a:lnTo>
                    <a:pt x="16" y="2926"/>
                  </a:lnTo>
                  <a:lnTo>
                    <a:pt x="27" y="2913"/>
                  </a:lnTo>
                  <a:lnTo>
                    <a:pt x="38" y="2907"/>
                  </a:lnTo>
                  <a:lnTo>
                    <a:pt x="49" y="2901"/>
                  </a:lnTo>
                  <a:lnTo>
                    <a:pt x="99" y="2856"/>
                  </a:lnTo>
                  <a:lnTo>
                    <a:pt x="148" y="2812"/>
                  </a:lnTo>
                  <a:lnTo>
                    <a:pt x="198" y="2761"/>
                  </a:lnTo>
                  <a:lnTo>
                    <a:pt x="247" y="2716"/>
                  </a:lnTo>
                  <a:lnTo>
                    <a:pt x="297" y="2665"/>
                  </a:lnTo>
                  <a:lnTo>
                    <a:pt x="347" y="2614"/>
                  </a:lnTo>
                  <a:lnTo>
                    <a:pt x="396" y="2564"/>
                  </a:lnTo>
                  <a:lnTo>
                    <a:pt x="440" y="2513"/>
                  </a:lnTo>
                  <a:lnTo>
                    <a:pt x="490" y="2456"/>
                  </a:lnTo>
                  <a:lnTo>
                    <a:pt x="539" y="2405"/>
                  </a:lnTo>
                  <a:lnTo>
                    <a:pt x="584" y="2347"/>
                  </a:lnTo>
                  <a:lnTo>
                    <a:pt x="628" y="2296"/>
                  </a:lnTo>
                  <a:lnTo>
                    <a:pt x="672" y="2238"/>
                  </a:lnTo>
                  <a:lnTo>
                    <a:pt x="716" y="2181"/>
                  </a:lnTo>
                  <a:lnTo>
                    <a:pt x="760" y="2124"/>
                  </a:lnTo>
                  <a:lnTo>
                    <a:pt x="804" y="2067"/>
                  </a:lnTo>
                  <a:lnTo>
                    <a:pt x="881" y="1952"/>
                  </a:lnTo>
                  <a:lnTo>
                    <a:pt x="964" y="1831"/>
                  </a:lnTo>
                  <a:lnTo>
                    <a:pt x="1035" y="1717"/>
                  </a:lnTo>
                  <a:lnTo>
                    <a:pt x="1112" y="1596"/>
                  </a:lnTo>
                  <a:lnTo>
                    <a:pt x="1179" y="1469"/>
                  </a:lnTo>
                  <a:lnTo>
                    <a:pt x="1250" y="1348"/>
                  </a:lnTo>
                  <a:lnTo>
                    <a:pt x="1316" y="1221"/>
                  </a:lnTo>
                  <a:lnTo>
                    <a:pt x="1377" y="1094"/>
                  </a:lnTo>
                  <a:lnTo>
                    <a:pt x="1437" y="967"/>
                  </a:lnTo>
                  <a:lnTo>
                    <a:pt x="1493" y="840"/>
                  </a:lnTo>
                  <a:lnTo>
                    <a:pt x="1548" y="705"/>
                  </a:lnTo>
                  <a:lnTo>
                    <a:pt x="1597" y="572"/>
                  </a:lnTo>
                  <a:lnTo>
                    <a:pt x="1647" y="438"/>
                  </a:lnTo>
                  <a:lnTo>
                    <a:pt x="1691" y="305"/>
                  </a:lnTo>
                  <a:lnTo>
                    <a:pt x="1730" y="165"/>
                  </a:lnTo>
                  <a:lnTo>
                    <a:pt x="1769" y="31"/>
                  </a:lnTo>
                  <a:lnTo>
                    <a:pt x="1791" y="6"/>
                  </a:lnTo>
                  <a:lnTo>
                    <a:pt x="7026"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 name=""/>
            <p:cNvSpPr/>
            <p:nvPr/>
          </p:nvSpPr>
          <p:spPr>
            <a:xfrm>
              <a:off x="2081160" y="4032360"/>
              <a:ext cx="2527560" cy="1119600"/>
            </a:xfrm>
            <a:custGeom>
              <a:avLst/>
              <a:gdLst/>
              <a:ahLst/>
              <a:rect l="0" t="0" r="r" b="b"/>
              <a:pathLst>
                <a:path w="7021" h="3110">
                  <a:moveTo>
                    <a:pt x="5268" y="19"/>
                  </a:moveTo>
                  <a:lnTo>
                    <a:pt x="5279" y="69"/>
                  </a:lnTo>
                  <a:lnTo>
                    <a:pt x="5296" y="127"/>
                  </a:lnTo>
                  <a:lnTo>
                    <a:pt x="5313" y="178"/>
                  </a:lnTo>
                  <a:lnTo>
                    <a:pt x="5329" y="235"/>
                  </a:lnTo>
                  <a:lnTo>
                    <a:pt x="5346" y="292"/>
                  </a:lnTo>
                  <a:lnTo>
                    <a:pt x="5362" y="343"/>
                  </a:lnTo>
                  <a:lnTo>
                    <a:pt x="5379" y="394"/>
                  </a:lnTo>
                  <a:lnTo>
                    <a:pt x="5395" y="451"/>
                  </a:lnTo>
                  <a:lnTo>
                    <a:pt x="5412" y="502"/>
                  </a:lnTo>
                  <a:lnTo>
                    <a:pt x="5428" y="559"/>
                  </a:lnTo>
                  <a:lnTo>
                    <a:pt x="5450" y="610"/>
                  </a:lnTo>
                  <a:lnTo>
                    <a:pt x="5467" y="661"/>
                  </a:lnTo>
                  <a:lnTo>
                    <a:pt x="5489" y="712"/>
                  </a:lnTo>
                  <a:lnTo>
                    <a:pt x="5511" y="762"/>
                  </a:lnTo>
                  <a:lnTo>
                    <a:pt x="5533" y="814"/>
                  </a:lnTo>
                  <a:lnTo>
                    <a:pt x="5555" y="865"/>
                  </a:lnTo>
                  <a:lnTo>
                    <a:pt x="5561" y="891"/>
                  </a:lnTo>
                  <a:lnTo>
                    <a:pt x="5599" y="980"/>
                  </a:lnTo>
                  <a:lnTo>
                    <a:pt x="5643" y="1075"/>
                  </a:lnTo>
                  <a:lnTo>
                    <a:pt x="5687" y="1164"/>
                  </a:lnTo>
                  <a:lnTo>
                    <a:pt x="5731" y="1253"/>
                  </a:lnTo>
                  <a:lnTo>
                    <a:pt x="5781" y="1342"/>
                  </a:lnTo>
                  <a:lnTo>
                    <a:pt x="5831" y="1431"/>
                  </a:lnTo>
                  <a:lnTo>
                    <a:pt x="5880" y="1520"/>
                  </a:lnTo>
                  <a:lnTo>
                    <a:pt x="5930" y="1609"/>
                  </a:lnTo>
                  <a:lnTo>
                    <a:pt x="5979" y="1692"/>
                  </a:lnTo>
                  <a:lnTo>
                    <a:pt x="6034" y="1781"/>
                  </a:lnTo>
                  <a:lnTo>
                    <a:pt x="6090" y="1863"/>
                  </a:lnTo>
                  <a:lnTo>
                    <a:pt x="6145" y="1946"/>
                  </a:lnTo>
                  <a:lnTo>
                    <a:pt x="6200" y="2029"/>
                  </a:lnTo>
                  <a:lnTo>
                    <a:pt x="6260" y="2111"/>
                  </a:lnTo>
                  <a:lnTo>
                    <a:pt x="6321" y="2194"/>
                  </a:lnTo>
                  <a:lnTo>
                    <a:pt x="6387" y="2270"/>
                  </a:lnTo>
                  <a:lnTo>
                    <a:pt x="6420" y="2315"/>
                  </a:lnTo>
                  <a:lnTo>
                    <a:pt x="6453" y="2360"/>
                  </a:lnTo>
                  <a:lnTo>
                    <a:pt x="6492" y="2405"/>
                  </a:lnTo>
                  <a:lnTo>
                    <a:pt x="6530" y="2449"/>
                  </a:lnTo>
                  <a:lnTo>
                    <a:pt x="6569" y="2494"/>
                  </a:lnTo>
                  <a:lnTo>
                    <a:pt x="6602" y="2532"/>
                  </a:lnTo>
                  <a:lnTo>
                    <a:pt x="6641" y="2576"/>
                  </a:lnTo>
                  <a:lnTo>
                    <a:pt x="6685" y="2621"/>
                  </a:lnTo>
                  <a:lnTo>
                    <a:pt x="6723" y="2659"/>
                  </a:lnTo>
                  <a:lnTo>
                    <a:pt x="6762" y="2697"/>
                  </a:lnTo>
                  <a:lnTo>
                    <a:pt x="6800" y="2742"/>
                  </a:lnTo>
                  <a:lnTo>
                    <a:pt x="6839" y="2780"/>
                  </a:lnTo>
                  <a:lnTo>
                    <a:pt x="6883" y="2818"/>
                  </a:lnTo>
                  <a:lnTo>
                    <a:pt x="6922" y="2856"/>
                  </a:lnTo>
                  <a:lnTo>
                    <a:pt x="6966" y="2894"/>
                  </a:lnTo>
                  <a:lnTo>
                    <a:pt x="7010" y="2932"/>
                  </a:lnTo>
                  <a:lnTo>
                    <a:pt x="7021" y="2958"/>
                  </a:lnTo>
                  <a:lnTo>
                    <a:pt x="7015" y="2964"/>
                  </a:lnTo>
                  <a:lnTo>
                    <a:pt x="7015" y="2970"/>
                  </a:lnTo>
                  <a:lnTo>
                    <a:pt x="7015" y="2983"/>
                  </a:lnTo>
                  <a:lnTo>
                    <a:pt x="7015" y="2990"/>
                  </a:lnTo>
                  <a:lnTo>
                    <a:pt x="7015" y="2996"/>
                  </a:lnTo>
                  <a:lnTo>
                    <a:pt x="7015" y="3009"/>
                  </a:lnTo>
                  <a:lnTo>
                    <a:pt x="7015" y="3015"/>
                  </a:lnTo>
                  <a:lnTo>
                    <a:pt x="7015" y="3028"/>
                  </a:lnTo>
                  <a:lnTo>
                    <a:pt x="7021" y="3034"/>
                  </a:lnTo>
                  <a:lnTo>
                    <a:pt x="7021" y="3047"/>
                  </a:lnTo>
                  <a:lnTo>
                    <a:pt x="7021" y="3053"/>
                  </a:lnTo>
                  <a:lnTo>
                    <a:pt x="7021" y="3066"/>
                  </a:lnTo>
                  <a:lnTo>
                    <a:pt x="7015" y="3072"/>
                  </a:lnTo>
                  <a:lnTo>
                    <a:pt x="7015" y="3079"/>
                  </a:lnTo>
                  <a:lnTo>
                    <a:pt x="7015" y="3091"/>
                  </a:lnTo>
                  <a:lnTo>
                    <a:pt x="7010" y="3098"/>
                  </a:lnTo>
                  <a:lnTo>
                    <a:pt x="6966" y="3110"/>
                  </a:lnTo>
                  <a:lnTo>
                    <a:pt x="639" y="3104"/>
                  </a:lnTo>
                  <a:lnTo>
                    <a:pt x="628" y="3079"/>
                  </a:lnTo>
                  <a:lnTo>
                    <a:pt x="617" y="3053"/>
                  </a:lnTo>
                  <a:lnTo>
                    <a:pt x="606" y="3028"/>
                  </a:lnTo>
                  <a:lnTo>
                    <a:pt x="595" y="3002"/>
                  </a:lnTo>
                  <a:lnTo>
                    <a:pt x="584" y="2983"/>
                  </a:lnTo>
                  <a:lnTo>
                    <a:pt x="573" y="2958"/>
                  </a:lnTo>
                  <a:lnTo>
                    <a:pt x="562" y="2932"/>
                  </a:lnTo>
                  <a:lnTo>
                    <a:pt x="551" y="2907"/>
                  </a:lnTo>
                  <a:lnTo>
                    <a:pt x="540" y="2881"/>
                  </a:lnTo>
                  <a:lnTo>
                    <a:pt x="529" y="2856"/>
                  </a:lnTo>
                  <a:lnTo>
                    <a:pt x="517" y="2831"/>
                  </a:lnTo>
                  <a:lnTo>
                    <a:pt x="506" y="2805"/>
                  </a:lnTo>
                  <a:lnTo>
                    <a:pt x="495" y="2780"/>
                  </a:lnTo>
                  <a:lnTo>
                    <a:pt x="484" y="2754"/>
                  </a:lnTo>
                  <a:lnTo>
                    <a:pt x="473" y="2735"/>
                  </a:lnTo>
                  <a:lnTo>
                    <a:pt x="462" y="2710"/>
                  </a:lnTo>
                  <a:lnTo>
                    <a:pt x="440" y="2646"/>
                  </a:lnTo>
                  <a:lnTo>
                    <a:pt x="418" y="2589"/>
                  </a:lnTo>
                  <a:lnTo>
                    <a:pt x="396" y="2532"/>
                  </a:lnTo>
                  <a:lnTo>
                    <a:pt x="374" y="2475"/>
                  </a:lnTo>
                  <a:lnTo>
                    <a:pt x="352" y="2411"/>
                  </a:lnTo>
                  <a:lnTo>
                    <a:pt x="336" y="2354"/>
                  </a:lnTo>
                  <a:lnTo>
                    <a:pt x="314" y="2289"/>
                  </a:lnTo>
                  <a:lnTo>
                    <a:pt x="297" y="2232"/>
                  </a:lnTo>
                  <a:lnTo>
                    <a:pt x="275" y="2168"/>
                  </a:lnTo>
                  <a:lnTo>
                    <a:pt x="258" y="2111"/>
                  </a:lnTo>
                  <a:lnTo>
                    <a:pt x="236" y="2048"/>
                  </a:lnTo>
                  <a:lnTo>
                    <a:pt x="220" y="1990"/>
                  </a:lnTo>
                  <a:lnTo>
                    <a:pt x="203" y="1927"/>
                  </a:lnTo>
                  <a:lnTo>
                    <a:pt x="192" y="1863"/>
                  </a:lnTo>
                  <a:lnTo>
                    <a:pt x="176" y="1800"/>
                  </a:lnTo>
                  <a:lnTo>
                    <a:pt x="165" y="1742"/>
                  </a:lnTo>
                  <a:lnTo>
                    <a:pt x="137" y="1634"/>
                  </a:lnTo>
                  <a:lnTo>
                    <a:pt x="121" y="1533"/>
                  </a:lnTo>
                  <a:lnTo>
                    <a:pt x="99" y="1425"/>
                  </a:lnTo>
                  <a:lnTo>
                    <a:pt x="82" y="1317"/>
                  </a:lnTo>
                  <a:lnTo>
                    <a:pt x="66" y="1208"/>
                  </a:lnTo>
                  <a:lnTo>
                    <a:pt x="55" y="1100"/>
                  </a:lnTo>
                  <a:lnTo>
                    <a:pt x="38" y="992"/>
                  </a:lnTo>
                  <a:lnTo>
                    <a:pt x="27" y="884"/>
                  </a:lnTo>
                  <a:lnTo>
                    <a:pt x="22" y="769"/>
                  </a:lnTo>
                  <a:lnTo>
                    <a:pt x="11" y="661"/>
                  </a:lnTo>
                  <a:lnTo>
                    <a:pt x="5" y="546"/>
                  </a:lnTo>
                  <a:lnTo>
                    <a:pt x="0" y="438"/>
                  </a:lnTo>
                  <a:lnTo>
                    <a:pt x="0" y="330"/>
                  </a:lnTo>
                  <a:lnTo>
                    <a:pt x="0" y="216"/>
                  </a:lnTo>
                  <a:lnTo>
                    <a:pt x="0" y="108"/>
                  </a:lnTo>
                  <a:lnTo>
                    <a:pt x="0" y="0"/>
                  </a:lnTo>
                  <a:lnTo>
                    <a:pt x="5252" y="0"/>
                  </a:lnTo>
                  <a:lnTo>
                    <a:pt x="5268" y="19"/>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 name=""/>
            <p:cNvSpPr/>
            <p:nvPr/>
          </p:nvSpPr>
          <p:spPr>
            <a:xfrm>
              <a:off x="2081160" y="4032360"/>
              <a:ext cx="2527560" cy="1119600"/>
            </a:xfrm>
            <a:custGeom>
              <a:avLst/>
              <a:gdLst/>
              <a:ahLst/>
              <a:rect l="0" t="0" r="r" b="b"/>
              <a:pathLst>
                <a:path w="7021" h="3110">
                  <a:moveTo>
                    <a:pt x="5268" y="19"/>
                  </a:moveTo>
                  <a:lnTo>
                    <a:pt x="5279" y="69"/>
                  </a:lnTo>
                  <a:lnTo>
                    <a:pt x="5296" y="127"/>
                  </a:lnTo>
                  <a:lnTo>
                    <a:pt x="5313" y="178"/>
                  </a:lnTo>
                  <a:lnTo>
                    <a:pt x="5329" y="235"/>
                  </a:lnTo>
                  <a:lnTo>
                    <a:pt x="5346" y="292"/>
                  </a:lnTo>
                  <a:lnTo>
                    <a:pt x="5362" y="343"/>
                  </a:lnTo>
                  <a:lnTo>
                    <a:pt x="5379" y="394"/>
                  </a:lnTo>
                  <a:lnTo>
                    <a:pt x="5395" y="451"/>
                  </a:lnTo>
                  <a:lnTo>
                    <a:pt x="5412" y="502"/>
                  </a:lnTo>
                  <a:lnTo>
                    <a:pt x="5428" y="559"/>
                  </a:lnTo>
                  <a:lnTo>
                    <a:pt x="5450" y="610"/>
                  </a:lnTo>
                  <a:lnTo>
                    <a:pt x="5467" y="661"/>
                  </a:lnTo>
                  <a:lnTo>
                    <a:pt x="5489" y="712"/>
                  </a:lnTo>
                  <a:lnTo>
                    <a:pt x="5511" y="762"/>
                  </a:lnTo>
                  <a:lnTo>
                    <a:pt x="5533" y="814"/>
                  </a:lnTo>
                  <a:lnTo>
                    <a:pt x="5555" y="865"/>
                  </a:lnTo>
                  <a:lnTo>
                    <a:pt x="5561" y="891"/>
                  </a:lnTo>
                  <a:lnTo>
                    <a:pt x="5599" y="980"/>
                  </a:lnTo>
                  <a:lnTo>
                    <a:pt x="5643" y="1075"/>
                  </a:lnTo>
                  <a:lnTo>
                    <a:pt x="5687" y="1164"/>
                  </a:lnTo>
                  <a:lnTo>
                    <a:pt x="5731" y="1253"/>
                  </a:lnTo>
                  <a:lnTo>
                    <a:pt x="5781" y="1342"/>
                  </a:lnTo>
                  <a:lnTo>
                    <a:pt x="5831" y="1431"/>
                  </a:lnTo>
                  <a:lnTo>
                    <a:pt x="5880" y="1520"/>
                  </a:lnTo>
                  <a:lnTo>
                    <a:pt x="5930" y="1609"/>
                  </a:lnTo>
                  <a:lnTo>
                    <a:pt x="5979" y="1692"/>
                  </a:lnTo>
                  <a:lnTo>
                    <a:pt x="6034" y="1781"/>
                  </a:lnTo>
                  <a:lnTo>
                    <a:pt x="6090" y="1863"/>
                  </a:lnTo>
                  <a:lnTo>
                    <a:pt x="6145" y="1946"/>
                  </a:lnTo>
                  <a:lnTo>
                    <a:pt x="6200" y="2029"/>
                  </a:lnTo>
                  <a:lnTo>
                    <a:pt x="6260" y="2111"/>
                  </a:lnTo>
                  <a:lnTo>
                    <a:pt x="6321" y="2194"/>
                  </a:lnTo>
                  <a:lnTo>
                    <a:pt x="6387" y="2270"/>
                  </a:lnTo>
                  <a:lnTo>
                    <a:pt x="6420" y="2315"/>
                  </a:lnTo>
                  <a:lnTo>
                    <a:pt x="6453" y="2360"/>
                  </a:lnTo>
                  <a:lnTo>
                    <a:pt x="6492" y="2405"/>
                  </a:lnTo>
                  <a:lnTo>
                    <a:pt x="6530" y="2449"/>
                  </a:lnTo>
                  <a:lnTo>
                    <a:pt x="6569" y="2494"/>
                  </a:lnTo>
                  <a:lnTo>
                    <a:pt x="6602" y="2532"/>
                  </a:lnTo>
                  <a:lnTo>
                    <a:pt x="6641" y="2576"/>
                  </a:lnTo>
                  <a:lnTo>
                    <a:pt x="6685" y="2621"/>
                  </a:lnTo>
                  <a:lnTo>
                    <a:pt x="6723" y="2659"/>
                  </a:lnTo>
                  <a:lnTo>
                    <a:pt x="6762" y="2697"/>
                  </a:lnTo>
                  <a:lnTo>
                    <a:pt x="6800" y="2742"/>
                  </a:lnTo>
                  <a:lnTo>
                    <a:pt x="6839" y="2780"/>
                  </a:lnTo>
                  <a:lnTo>
                    <a:pt x="6883" y="2818"/>
                  </a:lnTo>
                  <a:lnTo>
                    <a:pt x="6922" y="2856"/>
                  </a:lnTo>
                  <a:lnTo>
                    <a:pt x="6966" y="2894"/>
                  </a:lnTo>
                  <a:lnTo>
                    <a:pt x="7010" y="2932"/>
                  </a:lnTo>
                  <a:lnTo>
                    <a:pt x="7021" y="2958"/>
                  </a:lnTo>
                  <a:lnTo>
                    <a:pt x="7015" y="2964"/>
                  </a:lnTo>
                  <a:lnTo>
                    <a:pt x="7015" y="2970"/>
                  </a:lnTo>
                  <a:lnTo>
                    <a:pt x="7015" y="2983"/>
                  </a:lnTo>
                  <a:lnTo>
                    <a:pt x="7015" y="2990"/>
                  </a:lnTo>
                  <a:lnTo>
                    <a:pt x="7015" y="2996"/>
                  </a:lnTo>
                  <a:lnTo>
                    <a:pt x="7015" y="3009"/>
                  </a:lnTo>
                  <a:lnTo>
                    <a:pt x="7015" y="3015"/>
                  </a:lnTo>
                  <a:lnTo>
                    <a:pt x="7015" y="3028"/>
                  </a:lnTo>
                  <a:lnTo>
                    <a:pt x="7021" y="3034"/>
                  </a:lnTo>
                  <a:lnTo>
                    <a:pt x="7021" y="3047"/>
                  </a:lnTo>
                  <a:lnTo>
                    <a:pt x="7021" y="3053"/>
                  </a:lnTo>
                  <a:lnTo>
                    <a:pt x="7021" y="3066"/>
                  </a:lnTo>
                  <a:lnTo>
                    <a:pt x="7015" y="3072"/>
                  </a:lnTo>
                  <a:lnTo>
                    <a:pt x="7015" y="3079"/>
                  </a:lnTo>
                  <a:lnTo>
                    <a:pt x="7015" y="3091"/>
                  </a:lnTo>
                  <a:lnTo>
                    <a:pt x="7010" y="3098"/>
                  </a:lnTo>
                  <a:lnTo>
                    <a:pt x="6966" y="3110"/>
                  </a:lnTo>
                  <a:lnTo>
                    <a:pt x="639" y="3104"/>
                  </a:lnTo>
                  <a:lnTo>
                    <a:pt x="628" y="3079"/>
                  </a:lnTo>
                  <a:lnTo>
                    <a:pt x="617" y="3053"/>
                  </a:lnTo>
                  <a:lnTo>
                    <a:pt x="606" y="3028"/>
                  </a:lnTo>
                  <a:lnTo>
                    <a:pt x="595" y="3002"/>
                  </a:lnTo>
                  <a:lnTo>
                    <a:pt x="584" y="2983"/>
                  </a:lnTo>
                  <a:lnTo>
                    <a:pt x="573" y="2958"/>
                  </a:lnTo>
                  <a:lnTo>
                    <a:pt x="562" y="2932"/>
                  </a:lnTo>
                  <a:lnTo>
                    <a:pt x="551" y="2907"/>
                  </a:lnTo>
                  <a:lnTo>
                    <a:pt x="540" y="2881"/>
                  </a:lnTo>
                  <a:lnTo>
                    <a:pt x="529" y="2856"/>
                  </a:lnTo>
                  <a:lnTo>
                    <a:pt x="517" y="2831"/>
                  </a:lnTo>
                  <a:lnTo>
                    <a:pt x="506" y="2805"/>
                  </a:lnTo>
                  <a:lnTo>
                    <a:pt x="495" y="2780"/>
                  </a:lnTo>
                  <a:lnTo>
                    <a:pt x="484" y="2754"/>
                  </a:lnTo>
                  <a:lnTo>
                    <a:pt x="473" y="2735"/>
                  </a:lnTo>
                  <a:lnTo>
                    <a:pt x="462" y="2710"/>
                  </a:lnTo>
                  <a:lnTo>
                    <a:pt x="440" y="2646"/>
                  </a:lnTo>
                  <a:lnTo>
                    <a:pt x="418" y="2589"/>
                  </a:lnTo>
                  <a:lnTo>
                    <a:pt x="396" y="2532"/>
                  </a:lnTo>
                  <a:lnTo>
                    <a:pt x="374" y="2475"/>
                  </a:lnTo>
                  <a:lnTo>
                    <a:pt x="352" y="2411"/>
                  </a:lnTo>
                  <a:lnTo>
                    <a:pt x="336" y="2354"/>
                  </a:lnTo>
                  <a:lnTo>
                    <a:pt x="314" y="2289"/>
                  </a:lnTo>
                  <a:lnTo>
                    <a:pt x="297" y="2232"/>
                  </a:lnTo>
                  <a:lnTo>
                    <a:pt x="275" y="2168"/>
                  </a:lnTo>
                  <a:lnTo>
                    <a:pt x="258" y="2111"/>
                  </a:lnTo>
                  <a:lnTo>
                    <a:pt x="236" y="2048"/>
                  </a:lnTo>
                  <a:lnTo>
                    <a:pt x="220" y="1990"/>
                  </a:lnTo>
                  <a:lnTo>
                    <a:pt x="203" y="1927"/>
                  </a:lnTo>
                  <a:lnTo>
                    <a:pt x="192" y="1863"/>
                  </a:lnTo>
                  <a:lnTo>
                    <a:pt x="176" y="1800"/>
                  </a:lnTo>
                  <a:lnTo>
                    <a:pt x="165" y="1742"/>
                  </a:lnTo>
                  <a:lnTo>
                    <a:pt x="137" y="1634"/>
                  </a:lnTo>
                  <a:lnTo>
                    <a:pt x="121" y="1533"/>
                  </a:lnTo>
                  <a:lnTo>
                    <a:pt x="99" y="1425"/>
                  </a:lnTo>
                  <a:lnTo>
                    <a:pt x="82" y="1317"/>
                  </a:lnTo>
                  <a:lnTo>
                    <a:pt x="66" y="1208"/>
                  </a:lnTo>
                  <a:lnTo>
                    <a:pt x="55" y="1100"/>
                  </a:lnTo>
                  <a:lnTo>
                    <a:pt x="38" y="992"/>
                  </a:lnTo>
                  <a:lnTo>
                    <a:pt x="27" y="884"/>
                  </a:lnTo>
                  <a:lnTo>
                    <a:pt x="22" y="769"/>
                  </a:lnTo>
                  <a:lnTo>
                    <a:pt x="11" y="661"/>
                  </a:lnTo>
                  <a:lnTo>
                    <a:pt x="5" y="546"/>
                  </a:lnTo>
                  <a:lnTo>
                    <a:pt x="0" y="438"/>
                  </a:lnTo>
                  <a:lnTo>
                    <a:pt x="0" y="330"/>
                  </a:lnTo>
                  <a:lnTo>
                    <a:pt x="0" y="216"/>
                  </a:lnTo>
                  <a:lnTo>
                    <a:pt x="0" y="108"/>
                  </a:lnTo>
                  <a:lnTo>
                    <a:pt x="0" y="0"/>
                  </a:lnTo>
                  <a:lnTo>
                    <a:pt x="5252" y="0"/>
                  </a:lnTo>
                  <a:lnTo>
                    <a:pt x="5268" y="19"/>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 name=""/>
            <p:cNvSpPr/>
            <p:nvPr/>
          </p:nvSpPr>
          <p:spPr>
            <a:xfrm>
              <a:off x="5997600" y="5229360"/>
              <a:ext cx="1427400" cy="908280"/>
            </a:xfrm>
            <a:custGeom>
              <a:avLst/>
              <a:gdLst/>
              <a:ahLst/>
              <a:rect l="0" t="0" r="r" b="b"/>
              <a:pathLst>
                <a:path w="3965" h="2523">
                  <a:moveTo>
                    <a:pt x="3965" y="0"/>
                  </a:moveTo>
                  <a:lnTo>
                    <a:pt x="3937" y="50"/>
                  </a:lnTo>
                  <a:lnTo>
                    <a:pt x="3910" y="101"/>
                  </a:lnTo>
                  <a:lnTo>
                    <a:pt x="3877" y="152"/>
                  </a:lnTo>
                  <a:lnTo>
                    <a:pt x="3849" y="203"/>
                  </a:lnTo>
                  <a:lnTo>
                    <a:pt x="3816" y="254"/>
                  </a:lnTo>
                  <a:lnTo>
                    <a:pt x="3788" y="304"/>
                  </a:lnTo>
                  <a:lnTo>
                    <a:pt x="3755" y="355"/>
                  </a:lnTo>
                  <a:lnTo>
                    <a:pt x="3722" y="406"/>
                  </a:lnTo>
                  <a:lnTo>
                    <a:pt x="3689" y="451"/>
                  </a:lnTo>
                  <a:lnTo>
                    <a:pt x="3656" y="501"/>
                  </a:lnTo>
                  <a:lnTo>
                    <a:pt x="3623" y="546"/>
                  </a:lnTo>
                  <a:lnTo>
                    <a:pt x="3584" y="597"/>
                  </a:lnTo>
                  <a:lnTo>
                    <a:pt x="3551" y="641"/>
                  </a:lnTo>
                  <a:lnTo>
                    <a:pt x="3513" y="692"/>
                  </a:lnTo>
                  <a:lnTo>
                    <a:pt x="3480" y="737"/>
                  </a:lnTo>
                  <a:lnTo>
                    <a:pt x="3441" y="781"/>
                  </a:lnTo>
                  <a:lnTo>
                    <a:pt x="3436" y="794"/>
                  </a:lnTo>
                  <a:lnTo>
                    <a:pt x="3309" y="940"/>
                  </a:lnTo>
                  <a:lnTo>
                    <a:pt x="3309" y="946"/>
                  </a:lnTo>
                  <a:lnTo>
                    <a:pt x="3303" y="953"/>
                  </a:lnTo>
                  <a:lnTo>
                    <a:pt x="3303" y="959"/>
                  </a:lnTo>
                  <a:lnTo>
                    <a:pt x="3298" y="959"/>
                  </a:lnTo>
                  <a:lnTo>
                    <a:pt x="3292" y="959"/>
                  </a:lnTo>
                  <a:lnTo>
                    <a:pt x="3292" y="965"/>
                  </a:lnTo>
                  <a:lnTo>
                    <a:pt x="3287" y="965"/>
                  </a:lnTo>
                  <a:lnTo>
                    <a:pt x="3281" y="972"/>
                  </a:lnTo>
                  <a:lnTo>
                    <a:pt x="3276" y="972"/>
                  </a:lnTo>
                  <a:lnTo>
                    <a:pt x="3276" y="978"/>
                  </a:lnTo>
                  <a:lnTo>
                    <a:pt x="3276" y="984"/>
                  </a:lnTo>
                  <a:lnTo>
                    <a:pt x="3276" y="991"/>
                  </a:lnTo>
                  <a:lnTo>
                    <a:pt x="3248" y="1003"/>
                  </a:lnTo>
                  <a:lnTo>
                    <a:pt x="3226" y="1029"/>
                  </a:lnTo>
                  <a:lnTo>
                    <a:pt x="3204" y="1054"/>
                  </a:lnTo>
                  <a:lnTo>
                    <a:pt x="3176" y="1080"/>
                  </a:lnTo>
                  <a:lnTo>
                    <a:pt x="3154" y="1105"/>
                  </a:lnTo>
                  <a:lnTo>
                    <a:pt x="3132" y="1130"/>
                  </a:lnTo>
                  <a:lnTo>
                    <a:pt x="3105" y="1156"/>
                  </a:lnTo>
                  <a:lnTo>
                    <a:pt x="3083" y="1181"/>
                  </a:lnTo>
                  <a:lnTo>
                    <a:pt x="3061" y="1200"/>
                  </a:lnTo>
                  <a:lnTo>
                    <a:pt x="3033" y="1226"/>
                  </a:lnTo>
                  <a:lnTo>
                    <a:pt x="3011" y="1251"/>
                  </a:lnTo>
                  <a:lnTo>
                    <a:pt x="2983" y="1271"/>
                  </a:lnTo>
                  <a:lnTo>
                    <a:pt x="2961" y="1297"/>
                  </a:lnTo>
                  <a:lnTo>
                    <a:pt x="2939" y="1316"/>
                  </a:lnTo>
                  <a:lnTo>
                    <a:pt x="2912" y="1341"/>
                  </a:lnTo>
                  <a:lnTo>
                    <a:pt x="2890" y="1367"/>
                  </a:lnTo>
                  <a:lnTo>
                    <a:pt x="2868" y="1392"/>
                  </a:lnTo>
                  <a:lnTo>
                    <a:pt x="2862" y="1392"/>
                  </a:lnTo>
                  <a:lnTo>
                    <a:pt x="2857" y="1392"/>
                  </a:lnTo>
                  <a:lnTo>
                    <a:pt x="2851" y="1392"/>
                  </a:lnTo>
                  <a:lnTo>
                    <a:pt x="2846" y="1398"/>
                  </a:lnTo>
                  <a:lnTo>
                    <a:pt x="2840" y="1405"/>
                  </a:lnTo>
                  <a:lnTo>
                    <a:pt x="2835" y="1405"/>
                  </a:lnTo>
                  <a:lnTo>
                    <a:pt x="2835" y="1411"/>
                  </a:lnTo>
                  <a:lnTo>
                    <a:pt x="2829" y="1411"/>
                  </a:lnTo>
                  <a:lnTo>
                    <a:pt x="2829" y="1417"/>
                  </a:lnTo>
                  <a:lnTo>
                    <a:pt x="2824" y="1424"/>
                  </a:lnTo>
                  <a:lnTo>
                    <a:pt x="2818" y="1430"/>
                  </a:lnTo>
                  <a:lnTo>
                    <a:pt x="2807" y="1436"/>
                  </a:lnTo>
                  <a:lnTo>
                    <a:pt x="2801" y="1436"/>
                  </a:lnTo>
                  <a:lnTo>
                    <a:pt x="2790" y="1443"/>
                  </a:lnTo>
                  <a:lnTo>
                    <a:pt x="2785" y="1455"/>
                  </a:lnTo>
                  <a:lnTo>
                    <a:pt x="2774" y="1462"/>
                  </a:lnTo>
                  <a:lnTo>
                    <a:pt x="2768" y="1468"/>
                  </a:lnTo>
                  <a:lnTo>
                    <a:pt x="2757" y="1475"/>
                  </a:lnTo>
                  <a:lnTo>
                    <a:pt x="2752" y="1481"/>
                  </a:lnTo>
                  <a:lnTo>
                    <a:pt x="2741" y="1487"/>
                  </a:lnTo>
                  <a:lnTo>
                    <a:pt x="2735" y="1494"/>
                  </a:lnTo>
                  <a:lnTo>
                    <a:pt x="2724" y="1500"/>
                  </a:lnTo>
                  <a:lnTo>
                    <a:pt x="2719" y="1506"/>
                  </a:lnTo>
                  <a:lnTo>
                    <a:pt x="2708" y="1513"/>
                  </a:lnTo>
                  <a:lnTo>
                    <a:pt x="2702" y="1519"/>
                  </a:lnTo>
                  <a:lnTo>
                    <a:pt x="2691" y="1525"/>
                  </a:lnTo>
                  <a:lnTo>
                    <a:pt x="2686" y="1532"/>
                  </a:lnTo>
                  <a:lnTo>
                    <a:pt x="2669" y="1544"/>
                  </a:lnTo>
                  <a:lnTo>
                    <a:pt x="2658" y="1557"/>
                  </a:lnTo>
                  <a:lnTo>
                    <a:pt x="2642" y="1570"/>
                  </a:lnTo>
                  <a:lnTo>
                    <a:pt x="2625" y="1583"/>
                  </a:lnTo>
                  <a:lnTo>
                    <a:pt x="2614" y="1595"/>
                  </a:lnTo>
                  <a:lnTo>
                    <a:pt x="2597" y="1608"/>
                  </a:lnTo>
                  <a:lnTo>
                    <a:pt x="2581" y="1614"/>
                  </a:lnTo>
                  <a:lnTo>
                    <a:pt x="2564" y="1627"/>
                  </a:lnTo>
                  <a:lnTo>
                    <a:pt x="2553" y="1640"/>
                  </a:lnTo>
                  <a:lnTo>
                    <a:pt x="2537" y="1652"/>
                  </a:lnTo>
                  <a:lnTo>
                    <a:pt x="2520" y="1665"/>
                  </a:lnTo>
                  <a:lnTo>
                    <a:pt x="2504" y="1671"/>
                  </a:lnTo>
                  <a:lnTo>
                    <a:pt x="2487" y="1684"/>
                  </a:lnTo>
                  <a:lnTo>
                    <a:pt x="2476" y="1697"/>
                  </a:lnTo>
                  <a:lnTo>
                    <a:pt x="2460" y="1710"/>
                  </a:lnTo>
                  <a:lnTo>
                    <a:pt x="2443" y="1722"/>
                  </a:lnTo>
                  <a:lnTo>
                    <a:pt x="2432" y="1729"/>
                  </a:lnTo>
                  <a:lnTo>
                    <a:pt x="2421" y="1735"/>
                  </a:lnTo>
                  <a:lnTo>
                    <a:pt x="2410" y="1741"/>
                  </a:lnTo>
                  <a:lnTo>
                    <a:pt x="2399" y="1748"/>
                  </a:lnTo>
                  <a:lnTo>
                    <a:pt x="2388" y="1754"/>
                  </a:lnTo>
                  <a:lnTo>
                    <a:pt x="2377" y="1760"/>
                  </a:lnTo>
                  <a:lnTo>
                    <a:pt x="2366" y="1767"/>
                  </a:lnTo>
                  <a:lnTo>
                    <a:pt x="2355" y="1779"/>
                  </a:lnTo>
                  <a:lnTo>
                    <a:pt x="2344" y="1786"/>
                  </a:lnTo>
                  <a:lnTo>
                    <a:pt x="2333" y="1792"/>
                  </a:lnTo>
                  <a:lnTo>
                    <a:pt x="2322" y="1799"/>
                  </a:lnTo>
                  <a:lnTo>
                    <a:pt x="2311" y="1805"/>
                  </a:lnTo>
                  <a:lnTo>
                    <a:pt x="2300" y="1811"/>
                  </a:lnTo>
                  <a:lnTo>
                    <a:pt x="2289" y="1818"/>
                  </a:lnTo>
                  <a:lnTo>
                    <a:pt x="2278" y="1824"/>
                  </a:lnTo>
                  <a:lnTo>
                    <a:pt x="2267" y="1830"/>
                  </a:lnTo>
                  <a:lnTo>
                    <a:pt x="2261" y="1837"/>
                  </a:lnTo>
                  <a:lnTo>
                    <a:pt x="2250" y="1849"/>
                  </a:lnTo>
                  <a:lnTo>
                    <a:pt x="2239" y="1856"/>
                  </a:lnTo>
                  <a:lnTo>
                    <a:pt x="2228" y="1862"/>
                  </a:lnTo>
                  <a:lnTo>
                    <a:pt x="2217" y="1868"/>
                  </a:lnTo>
                  <a:lnTo>
                    <a:pt x="2206" y="1875"/>
                  </a:lnTo>
                  <a:lnTo>
                    <a:pt x="2195" y="1881"/>
                  </a:lnTo>
                  <a:lnTo>
                    <a:pt x="2184" y="1888"/>
                  </a:lnTo>
                  <a:lnTo>
                    <a:pt x="2173" y="1894"/>
                  </a:lnTo>
                  <a:lnTo>
                    <a:pt x="2167" y="1900"/>
                  </a:lnTo>
                  <a:lnTo>
                    <a:pt x="2156" y="1907"/>
                  </a:lnTo>
                  <a:lnTo>
                    <a:pt x="2145" y="1913"/>
                  </a:lnTo>
                  <a:lnTo>
                    <a:pt x="2134" y="1919"/>
                  </a:lnTo>
                  <a:lnTo>
                    <a:pt x="2123" y="1926"/>
                  </a:lnTo>
                  <a:lnTo>
                    <a:pt x="2112" y="1932"/>
                  </a:lnTo>
                  <a:lnTo>
                    <a:pt x="2101" y="1938"/>
                  </a:lnTo>
                  <a:lnTo>
                    <a:pt x="2096" y="1938"/>
                  </a:lnTo>
                  <a:lnTo>
                    <a:pt x="2090" y="1945"/>
                  </a:lnTo>
                  <a:lnTo>
                    <a:pt x="2085" y="1951"/>
                  </a:lnTo>
                  <a:lnTo>
                    <a:pt x="2079" y="1951"/>
                  </a:lnTo>
                  <a:lnTo>
                    <a:pt x="2074" y="1951"/>
                  </a:lnTo>
                  <a:lnTo>
                    <a:pt x="2068" y="1957"/>
                  </a:lnTo>
                  <a:lnTo>
                    <a:pt x="2063" y="1957"/>
                  </a:lnTo>
                  <a:lnTo>
                    <a:pt x="2057" y="1964"/>
                  </a:lnTo>
                  <a:lnTo>
                    <a:pt x="2052" y="1964"/>
                  </a:lnTo>
                  <a:lnTo>
                    <a:pt x="2046" y="1964"/>
                  </a:lnTo>
                  <a:lnTo>
                    <a:pt x="2041" y="1970"/>
                  </a:lnTo>
                  <a:lnTo>
                    <a:pt x="2035" y="1970"/>
                  </a:lnTo>
                  <a:lnTo>
                    <a:pt x="2030" y="1976"/>
                  </a:lnTo>
                  <a:lnTo>
                    <a:pt x="2024" y="1976"/>
                  </a:lnTo>
                  <a:lnTo>
                    <a:pt x="2019" y="1983"/>
                  </a:lnTo>
                  <a:lnTo>
                    <a:pt x="2013" y="1989"/>
                  </a:lnTo>
                  <a:lnTo>
                    <a:pt x="1951" y="2021"/>
                  </a:lnTo>
                  <a:lnTo>
                    <a:pt x="1885" y="2053"/>
                  </a:lnTo>
                  <a:lnTo>
                    <a:pt x="1819" y="2084"/>
                  </a:lnTo>
                  <a:lnTo>
                    <a:pt x="1758" y="2116"/>
                  </a:lnTo>
                  <a:lnTo>
                    <a:pt x="1692" y="2148"/>
                  </a:lnTo>
                  <a:lnTo>
                    <a:pt x="1626" y="2173"/>
                  </a:lnTo>
                  <a:lnTo>
                    <a:pt x="1560" y="2205"/>
                  </a:lnTo>
                  <a:lnTo>
                    <a:pt x="1494" y="2231"/>
                  </a:lnTo>
                  <a:lnTo>
                    <a:pt x="1428" y="2256"/>
                  </a:lnTo>
                  <a:lnTo>
                    <a:pt x="1361" y="2281"/>
                  </a:lnTo>
                  <a:lnTo>
                    <a:pt x="1295" y="2300"/>
                  </a:lnTo>
                  <a:lnTo>
                    <a:pt x="1229" y="2326"/>
                  </a:lnTo>
                  <a:lnTo>
                    <a:pt x="1163" y="2345"/>
                  </a:lnTo>
                  <a:lnTo>
                    <a:pt x="1091" y="2364"/>
                  </a:lnTo>
                  <a:lnTo>
                    <a:pt x="1025" y="2383"/>
                  </a:lnTo>
                  <a:lnTo>
                    <a:pt x="953" y="2396"/>
                  </a:lnTo>
                  <a:lnTo>
                    <a:pt x="909" y="2408"/>
                  </a:lnTo>
                  <a:lnTo>
                    <a:pt x="865" y="2421"/>
                  </a:lnTo>
                  <a:lnTo>
                    <a:pt x="821" y="2428"/>
                  </a:lnTo>
                  <a:lnTo>
                    <a:pt x="777" y="2440"/>
                  </a:lnTo>
                  <a:lnTo>
                    <a:pt x="733" y="2447"/>
                  </a:lnTo>
                  <a:lnTo>
                    <a:pt x="689" y="2459"/>
                  </a:lnTo>
                  <a:lnTo>
                    <a:pt x="645" y="2466"/>
                  </a:lnTo>
                  <a:lnTo>
                    <a:pt x="600" y="2472"/>
                  </a:lnTo>
                  <a:lnTo>
                    <a:pt x="556" y="2478"/>
                  </a:lnTo>
                  <a:lnTo>
                    <a:pt x="507" y="2485"/>
                  </a:lnTo>
                  <a:lnTo>
                    <a:pt x="463" y="2491"/>
                  </a:lnTo>
                  <a:lnTo>
                    <a:pt x="419" y="2491"/>
                  </a:lnTo>
                  <a:lnTo>
                    <a:pt x="374" y="2497"/>
                  </a:lnTo>
                  <a:lnTo>
                    <a:pt x="325" y="2504"/>
                  </a:lnTo>
                  <a:lnTo>
                    <a:pt x="281" y="2510"/>
                  </a:lnTo>
                  <a:lnTo>
                    <a:pt x="237" y="2510"/>
                  </a:lnTo>
                  <a:lnTo>
                    <a:pt x="226" y="2517"/>
                  </a:lnTo>
                  <a:lnTo>
                    <a:pt x="209" y="2517"/>
                  </a:lnTo>
                  <a:lnTo>
                    <a:pt x="192" y="2517"/>
                  </a:lnTo>
                  <a:lnTo>
                    <a:pt x="181" y="2517"/>
                  </a:lnTo>
                  <a:lnTo>
                    <a:pt x="165" y="2517"/>
                  </a:lnTo>
                  <a:lnTo>
                    <a:pt x="154" y="2517"/>
                  </a:lnTo>
                  <a:lnTo>
                    <a:pt x="143" y="2517"/>
                  </a:lnTo>
                  <a:lnTo>
                    <a:pt x="126" y="2517"/>
                  </a:lnTo>
                  <a:lnTo>
                    <a:pt x="115" y="2517"/>
                  </a:lnTo>
                  <a:lnTo>
                    <a:pt x="99" y="2517"/>
                  </a:lnTo>
                  <a:lnTo>
                    <a:pt x="88" y="2517"/>
                  </a:lnTo>
                  <a:lnTo>
                    <a:pt x="71" y="2517"/>
                  </a:lnTo>
                  <a:lnTo>
                    <a:pt x="60" y="2517"/>
                  </a:lnTo>
                  <a:lnTo>
                    <a:pt x="44" y="2517"/>
                  </a:lnTo>
                  <a:lnTo>
                    <a:pt x="33" y="2517"/>
                  </a:lnTo>
                  <a:lnTo>
                    <a:pt x="16" y="2523"/>
                  </a:lnTo>
                  <a:lnTo>
                    <a:pt x="0" y="25"/>
                  </a:lnTo>
                  <a:lnTo>
                    <a:pt x="3965"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 name=""/>
            <p:cNvSpPr/>
            <p:nvPr/>
          </p:nvSpPr>
          <p:spPr>
            <a:xfrm>
              <a:off x="5997600" y="5229360"/>
              <a:ext cx="1427400" cy="908280"/>
            </a:xfrm>
            <a:custGeom>
              <a:avLst/>
              <a:gdLst/>
              <a:ahLst/>
              <a:rect l="0" t="0" r="r" b="b"/>
              <a:pathLst>
                <a:path w="3965" h="2523">
                  <a:moveTo>
                    <a:pt x="3965" y="0"/>
                  </a:moveTo>
                  <a:lnTo>
                    <a:pt x="3937" y="50"/>
                  </a:lnTo>
                  <a:lnTo>
                    <a:pt x="3910" y="101"/>
                  </a:lnTo>
                  <a:lnTo>
                    <a:pt x="3877" y="152"/>
                  </a:lnTo>
                  <a:lnTo>
                    <a:pt x="3849" y="203"/>
                  </a:lnTo>
                  <a:lnTo>
                    <a:pt x="3816" y="254"/>
                  </a:lnTo>
                  <a:lnTo>
                    <a:pt x="3788" y="304"/>
                  </a:lnTo>
                  <a:lnTo>
                    <a:pt x="3755" y="355"/>
                  </a:lnTo>
                  <a:lnTo>
                    <a:pt x="3722" y="406"/>
                  </a:lnTo>
                  <a:lnTo>
                    <a:pt x="3689" y="451"/>
                  </a:lnTo>
                  <a:lnTo>
                    <a:pt x="3656" y="501"/>
                  </a:lnTo>
                  <a:lnTo>
                    <a:pt x="3623" y="546"/>
                  </a:lnTo>
                  <a:lnTo>
                    <a:pt x="3584" y="597"/>
                  </a:lnTo>
                  <a:lnTo>
                    <a:pt x="3551" y="641"/>
                  </a:lnTo>
                  <a:lnTo>
                    <a:pt x="3513" y="692"/>
                  </a:lnTo>
                  <a:lnTo>
                    <a:pt x="3480" y="737"/>
                  </a:lnTo>
                  <a:lnTo>
                    <a:pt x="3441" y="781"/>
                  </a:lnTo>
                  <a:lnTo>
                    <a:pt x="3436" y="794"/>
                  </a:lnTo>
                  <a:lnTo>
                    <a:pt x="3309" y="940"/>
                  </a:lnTo>
                  <a:lnTo>
                    <a:pt x="3309" y="946"/>
                  </a:lnTo>
                  <a:lnTo>
                    <a:pt x="3303" y="953"/>
                  </a:lnTo>
                  <a:lnTo>
                    <a:pt x="3303" y="959"/>
                  </a:lnTo>
                  <a:lnTo>
                    <a:pt x="3298" y="959"/>
                  </a:lnTo>
                  <a:lnTo>
                    <a:pt x="3292" y="959"/>
                  </a:lnTo>
                  <a:lnTo>
                    <a:pt x="3292" y="965"/>
                  </a:lnTo>
                  <a:lnTo>
                    <a:pt x="3287" y="965"/>
                  </a:lnTo>
                  <a:lnTo>
                    <a:pt x="3281" y="972"/>
                  </a:lnTo>
                  <a:lnTo>
                    <a:pt x="3276" y="972"/>
                  </a:lnTo>
                  <a:lnTo>
                    <a:pt x="3276" y="978"/>
                  </a:lnTo>
                  <a:lnTo>
                    <a:pt x="3276" y="984"/>
                  </a:lnTo>
                  <a:lnTo>
                    <a:pt x="3276" y="991"/>
                  </a:lnTo>
                  <a:lnTo>
                    <a:pt x="3248" y="1003"/>
                  </a:lnTo>
                  <a:lnTo>
                    <a:pt x="3226" y="1029"/>
                  </a:lnTo>
                  <a:lnTo>
                    <a:pt x="3204" y="1054"/>
                  </a:lnTo>
                  <a:lnTo>
                    <a:pt x="3176" y="1080"/>
                  </a:lnTo>
                  <a:lnTo>
                    <a:pt x="3154" y="1105"/>
                  </a:lnTo>
                  <a:lnTo>
                    <a:pt x="3132" y="1130"/>
                  </a:lnTo>
                  <a:lnTo>
                    <a:pt x="3105" y="1156"/>
                  </a:lnTo>
                  <a:lnTo>
                    <a:pt x="3083" y="1181"/>
                  </a:lnTo>
                  <a:lnTo>
                    <a:pt x="3061" y="1200"/>
                  </a:lnTo>
                  <a:lnTo>
                    <a:pt x="3033" y="1226"/>
                  </a:lnTo>
                  <a:lnTo>
                    <a:pt x="3011" y="1251"/>
                  </a:lnTo>
                  <a:lnTo>
                    <a:pt x="2983" y="1271"/>
                  </a:lnTo>
                  <a:lnTo>
                    <a:pt x="2961" y="1297"/>
                  </a:lnTo>
                  <a:lnTo>
                    <a:pt x="2939" y="1316"/>
                  </a:lnTo>
                  <a:lnTo>
                    <a:pt x="2912" y="1341"/>
                  </a:lnTo>
                  <a:lnTo>
                    <a:pt x="2890" y="1367"/>
                  </a:lnTo>
                  <a:lnTo>
                    <a:pt x="2868" y="1392"/>
                  </a:lnTo>
                  <a:lnTo>
                    <a:pt x="2862" y="1392"/>
                  </a:lnTo>
                  <a:lnTo>
                    <a:pt x="2857" y="1392"/>
                  </a:lnTo>
                  <a:lnTo>
                    <a:pt x="2851" y="1392"/>
                  </a:lnTo>
                  <a:lnTo>
                    <a:pt x="2846" y="1398"/>
                  </a:lnTo>
                  <a:lnTo>
                    <a:pt x="2840" y="1405"/>
                  </a:lnTo>
                  <a:lnTo>
                    <a:pt x="2835" y="1405"/>
                  </a:lnTo>
                  <a:lnTo>
                    <a:pt x="2835" y="1411"/>
                  </a:lnTo>
                  <a:lnTo>
                    <a:pt x="2829" y="1411"/>
                  </a:lnTo>
                  <a:lnTo>
                    <a:pt x="2829" y="1417"/>
                  </a:lnTo>
                  <a:lnTo>
                    <a:pt x="2824" y="1424"/>
                  </a:lnTo>
                  <a:lnTo>
                    <a:pt x="2818" y="1430"/>
                  </a:lnTo>
                  <a:lnTo>
                    <a:pt x="2807" y="1436"/>
                  </a:lnTo>
                  <a:lnTo>
                    <a:pt x="2801" y="1436"/>
                  </a:lnTo>
                  <a:lnTo>
                    <a:pt x="2790" y="1443"/>
                  </a:lnTo>
                  <a:lnTo>
                    <a:pt x="2785" y="1455"/>
                  </a:lnTo>
                  <a:lnTo>
                    <a:pt x="2774" y="1462"/>
                  </a:lnTo>
                  <a:lnTo>
                    <a:pt x="2768" y="1468"/>
                  </a:lnTo>
                  <a:lnTo>
                    <a:pt x="2757" y="1475"/>
                  </a:lnTo>
                  <a:lnTo>
                    <a:pt x="2752" y="1481"/>
                  </a:lnTo>
                  <a:lnTo>
                    <a:pt x="2741" y="1487"/>
                  </a:lnTo>
                  <a:lnTo>
                    <a:pt x="2735" y="1494"/>
                  </a:lnTo>
                  <a:lnTo>
                    <a:pt x="2724" y="1500"/>
                  </a:lnTo>
                  <a:lnTo>
                    <a:pt x="2719" y="1506"/>
                  </a:lnTo>
                  <a:lnTo>
                    <a:pt x="2708" y="1513"/>
                  </a:lnTo>
                  <a:lnTo>
                    <a:pt x="2702" y="1519"/>
                  </a:lnTo>
                  <a:lnTo>
                    <a:pt x="2691" y="1525"/>
                  </a:lnTo>
                  <a:lnTo>
                    <a:pt x="2686" y="1532"/>
                  </a:lnTo>
                  <a:lnTo>
                    <a:pt x="2669" y="1544"/>
                  </a:lnTo>
                  <a:lnTo>
                    <a:pt x="2658" y="1557"/>
                  </a:lnTo>
                  <a:lnTo>
                    <a:pt x="2642" y="1570"/>
                  </a:lnTo>
                  <a:lnTo>
                    <a:pt x="2625" y="1583"/>
                  </a:lnTo>
                  <a:lnTo>
                    <a:pt x="2614" y="1595"/>
                  </a:lnTo>
                  <a:lnTo>
                    <a:pt x="2597" y="1608"/>
                  </a:lnTo>
                  <a:lnTo>
                    <a:pt x="2581" y="1614"/>
                  </a:lnTo>
                  <a:lnTo>
                    <a:pt x="2564" y="1627"/>
                  </a:lnTo>
                  <a:lnTo>
                    <a:pt x="2553" y="1640"/>
                  </a:lnTo>
                  <a:lnTo>
                    <a:pt x="2537" y="1652"/>
                  </a:lnTo>
                  <a:lnTo>
                    <a:pt x="2520" y="1665"/>
                  </a:lnTo>
                  <a:lnTo>
                    <a:pt x="2504" y="1671"/>
                  </a:lnTo>
                  <a:lnTo>
                    <a:pt x="2487" y="1684"/>
                  </a:lnTo>
                  <a:lnTo>
                    <a:pt x="2476" y="1697"/>
                  </a:lnTo>
                  <a:lnTo>
                    <a:pt x="2460" y="1710"/>
                  </a:lnTo>
                  <a:lnTo>
                    <a:pt x="2443" y="1722"/>
                  </a:lnTo>
                  <a:lnTo>
                    <a:pt x="2432" y="1729"/>
                  </a:lnTo>
                  <a:lnTo>
                    <a:pt x="2421" y="1735"/>
                  </a:lnTo>
                  <a:lnTo>
                    <a:pt x="2410" y="1741"/>
                  </a:lnTo>
                  <a:lnTo>
                    <a:pt x="2399" y="1748"/>
                  </a:lnTo>
                  <a:lnTo>
                    <a:pt x="2388" y="1754"/>
                  </a:lnTo>
                  <a:lnTo>
                    <a:pt x="2377" y="1760"/>
                  </a:lnTo>
                  <a:lnTo>
                    <a:pt x="2366" y="1767"/>
                  </a:lnTo>
                  <a:lnTo>
                    <a:pt x="2355" y="1779"/>
                  </a:lnTo>
                  <a:lnTo>
                    <a:pt x="2344" y="1786"/>
                  </a:lnTo>
                  <a:lnTo>
                    <a:pt x="2333" y="1792"/>
                  </a:lnTo>
                  <a:lnTo>
                    <a:pt x="2322" y="1799"/>
                  </a:lnTo>
                  <a:lnTo>
                    <a:pt x="2311" y="1805"/>
                  </a:lnTo>
                  <a:lnTo>
                    <a:pt x="2300" y="1811"/>
                  </a:lnTo>
                  <a:lnTo>
                    <a:pt x="2289" y="1818"/>
                  </a:lnTo>
                  <a:lnTo>
                    <a:pt x="2278" y="1824"/>
                  </a:lnTo>
                  <a:lnTo>
                    <a:pt x="2267" y="1830"/>
                  </a:lnTo>
                  <a:lnTo>
                    <a:pt x="2261" y="1837"/>
                  </a:lnTo>
                  <a:lnTo>
                    <a:pt x="2250" y="1849"/>
                  </a:lnTo>
                  <a:lnTo>
                    <a:pt x="2239" y="1856"/>
                  </a:lnTo>
                  <a:lnTo>
                    <a:pt x="2228" y="1862"/>
                  </a:lnTo>
                  <a:lnTo>
                    <a:pt x="2217" y="1868"/>
                  </a:lnTo>
                  <a:lnTo>
                    <a:pt x="2206" y="1875"/>
                  </a:lnTo>
                  <a:lnTo>
                    <a:pt x="2195" y="1881"/>
                  </a:lnTo>
                  <a:lnTo>
                    <a:pt x="2184" y="1888"/>
                  </a:lnTo>
                  <a:lnTo>
                    <a:pt x="2173" y="1894"/>
                  </a:lnTo>
                  <a:lnTo>
                    <a:pt x="2167" y="1900"/>
                  </a:lnTo>
                  <a:lnTo>
                    <a:pt x="2156" y="1907"/>
                  </a:lnTo>
                  <a:lnTo>
                    <a:pt x="2145" y="1913"/>
                  </a:lnTo>
                  <a:lnTo>
                    <a:pt x="2134" y="1919"/>
                  </a:lnTo>
                  <a:lnTo>
                    <a:pt x="2123" y="1926"/>
                  </a:lnTo>
                  <a:lnTo>
                    <a:pt x="2112" y="1932"/>
                  </a:lnTo>
                  <a:lnTo>
                    <a:pt x="2101" y="1938"/>
                  </a:lnTo>
                  <a:lnTo>
                    <a:pt x="2096" y="1938"/>
                  </a:lnTo>
                  <a:lnTo>
                    <a:pt x="2090" y="1945"/>
                  </a:lnTo>
                  <a:lnTo>
                    <a:pt x="2085" y="1951"/>
                  </a:lnTo>
                  <a:lnTo>
                    <a:pt x="2079" y="1951"/>
                  </a:lnTo>
                  <a:lnTo>
                    <a:pt x="2074" y="1951"/>
                  </a:lnTo>
                  <a:lnTo>
                    <a:pt x="2068" y="1957"/>
                  </a:lnTo>
                  <a:lnTo>
                    <a:pt x="2063" y="1957"/>
                  </a:lnTo>
                  <a:lnTo>
                    <a:pt x="2057" y="1964"/>
                  </a:lnTo>
                  <a:lnTo>
                    <a:pt x="2052" y="1964"/>
                  </a:lnTo>
                  <a:lnTo>
                    <a:pt x="2046" y="1964"/>
                  </a:lnTo>
                  <a:lnTo>
                    <a:pt x="2041" y="1970"/>
                  </a:lnTo>
                  <a:lnTo>
                    <a:pt x="2035" y="1970"/>
                  </a:lnTo>
                  <a:lnTo>
                    <a:pt x="2030" y="1976"/>
                  </a:lnTo>
                  <a:lnTo>
                    <a:pt x="2024" y="1976"/>
                  </a:lnTo>
                  <a:lnTo>
                    <a:pt x="2019" y="1983"/>
                  </a:lnTo>
                  <a:lnTo>
                    <a:pt x="2013" y="1989"/>
                  </a:lnTo>
                  <a:lnTo>
                    <a:pt x="1951" y="2021"/>
                  </a:lnTo>
                  <a:lnTo>
                    <a:pt x="1885" y="2053"/>
                  </a:lnTo>
                  <a:lnTo>
                    <a:pt x="1819" y="2084"/>
                  </a:lnTo>
                  <a:lnTo>
                    <a:pt x="1758" y="2116"/>
                  </a:lnTo>
                  <a:lnTo>
                    <a:pt x="1692" y="2148"/>
                  </a:lnTo>
                  <a:lnTo>
                    <a:pt x="1626" y="2173"/>
                  </a:lnTo>
                  <a:lnTo>
                    <a:pt x="1560" y="2205"/>
                  </a:lnTo>
                  <a:lnTo>
                    <a:pt x="1494" y="2231"/>
                  </a:lnTo>
                  <a:lnTo>
                    <a:pt x="1428" y="2256"/>
                  </a:lnTo>
                  <a:lnTo>
                    <a:pt x="1361" y="2281"/>
                  </a:lnTo>
                  <a:lnTo>
                    <a:pt x="1295" y="2300"/>
                  </a:lnTo>
                  <a:lnTo>
                    <a:pt x="1229" y="2326"/>
                  </a:lnTo>
                  <a:lnTo>
                    <a:pt x="1163" y="2345"/>
                  </a:lnTo>
                  <a:lnTo>
                    <a:pt x="1091" y="2364"/>
                  </a:lnTo>
                  <a:lnTo>
                    <a:pt x="1025" y="2383"/>
                  </a:lnTo>
                  <a:lnTo>
                    <a:pt x="953" y="2396"/>
                  </a:lnTo>
                  <a:lnTo>
                    <a:pt x="909" y="2408"/>
                  </a:lnTo>
                  <a:lnTo>
                    <a:pt x="865" y="2421"/>
                  </a:lnTo>
                  <a:lnTo>
                    <a:pt x="821" y="2428"/>
                  </a:lnTo>
                  <a:lnTo>
                    <a:pt x="777" y="2440"/>
                  </a:lnTo>
                  <a:lnTo>
                    <a:pt x="733" y="2447"/>
                  </a:lnTo>
                  <a:lnTo>
                    <a:pt x="689" y="2459"/>
                  </a:lnTo>
                  <a:lnTo>
                    <a:pt x="645" y="2466"/>
                  </a:lnTo>
                  <a:lnTo>
                    <a:pt x="600" y="2472"/>
                  </a:lnTo>
                  <a:lnTo>
                    <a:pt x="556" y="2478"/>
                  </a:lnTo>
                  <a:lnTo>
                    <a:pt x="507" y="2485"/>
                  </a:lnTo>
                  <a:lnTo>
                    <a:pt x="463" y="2491"/>
                  </a:lnTo>
                  <a:lnTo>
                    <a:pt x="419" y="2491"/>
                  </a:lnTo>
                  <a:lnTo>
                    <a:pt x="374" y="2497"/>
                  </a:lnTo>
                  <a:lnTo>
                    <a:pt x="325" y="2504"/>
                  </a:lnTo>
                  <a:lnTo>
                    <a:pt x="281" y="2510"/>
                  </a:lnTo>
                  <a:lnTo>
                    <a:pt x="237" y="2510"/>
                  </a:lnTo>
                  <a:lnTo>
                    <a:pt x="226" y="2517"/>
                  </a:lnTo>
                  <a:lnTo>
                    <a:pt x="209" y="2517"/>
                  </a:lnTo>
                  <a:lnTo>
                    <a:pt x="192" y="2517"/>
                  </a:lnTo>
                  <a:lnTo>
                    <a:pt x="181" y="2517"/>
                  </a:lnTo>
                  <a:lnTo>
                    <a:pt x="165" y="2517"/>
                  </a:lnTo>
                  <a:lnTo>
                    <a:pt x="154" y="2517"/>
                  </a:lnTo>
                  <a:lnTo>
                    <a:pt x="143" y="2517"/>
                  </a:lnTo>
                  <a:lnTo>
                    <a:pt x="126" y="2517"/>
                  </a:lnTo>
                  <a:lnTo>
                    <a:pt x="115" y="2517"/>
                  </a:lnTo>
                  <a:lnTo>
                    <a:pt x="99" y="2517"/>
                  </a:lnTo>
                  <a:lnTo>
                    <a:pt x="88" y="2517"/>
                  </a:lnTo>
                  <a:lnTo>
                    <a:pt x="71" y="2517"/>
                  </a:lnTo>
                  <a:lnTo>
                    <a:pt x="60" y="2517"/>
                  </a:lnTo>
                  <a:lnTo>
                    <a:pt x="44" y="2517"/>
                  </a:lnTo>
                  <a:lnTo>
                    <a:pt x="33" y="2517"/>
                  </a:lnTo>
                  <a:lnTo>
                    <a:pt x="16" y="2523"/>
                  </a:lnTo>
                  <a:lnTo>
                    <a:pt x="0" y="25"/>
                  </a:lnTo>
                  <a:lnTo>
                    <a:pt x="3965"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 name=""/>
            <p:cNvSpPr/>
            <p:nvPr/>
          </p:nvSpPr>
          <p:spPr>
            <a:xfrm>
              <a:off x="2354400" y="5229360"/>
              <a:ext cx="1430640" cy="908280"/>
            </a:xfrm>
            <a:custGeom>
              <a:avLst/>
              <a:gdLst/>
              <a:ahLst/>
              <a:rect l="0" t="0" r="r" b="b"/>
              <a:pathLst>
                <a:path w="3974" h="2523">
                  <a:moveTo>
                    <a:pt x="3974" y="25"/>
                  </a:moveTo>
                  <a:lnTo>
                    <a:pt x="3974" y="133"/>
                  </a:lnTo>
                  <a:lnTo>
                    <a:pt x="3974" y="273"/>
                  </a:lnTo>
                  <a:lnTo>
                    <a:pt x="3974" y="439"/>
                  </a:lnTo>
                  <a:lnTo>
                    <a:pt x="3974" y="624"/>
                  </a:lnTo>
                  <a:lnTo>
                    <a:pt x="3974" y="821"/>
                  </a:lnTo>
                  <a:lnTo>
                    <a:pt x="3974" y="1031"/>
                  </a:lnTo>
                  <a:lnTo>
                    <a:pt x="3974" y="1248"/>
                  </a:lnTo>
                  <a:lnTo>
                    <a:pt x="3968" y="1459"/>
                  </a:lnTo>
                  <a:lnTo>
                    <a:pt x="3968" y="1663"/>
                  </a:lnTo>
                  <a:lnTo>
                    <a:pt x="3968" y="1860"/>
                  </a:lnTo>
                  <a:lnTo>
                    <a:pt x="3968" y="2045"/>
                  </a:lnTo>
                  <a:lnTo>
                    <a:pt x="3968" y="2198"/>
                  </a:lnTo>
                  <a:lnTo>
                    <a:pt x="3968" y="2332"/>
                  </a:lnTo>
                  <a:lnTo>
                    <a:pt x="3968" y="2434"/>
                  </a:lnTo>
                  <a:lnTo>
                    <a:pt x="3968" y="2497"/>
                  </a:lnTo>
                  <a:lnTo>
                    <a:pt x="3968" y="2523"/>
                  </a:lnTo>
                  <a:lnTo>
                    <a:pt x="3930" y="2523"/>
                  </a:lnTo>
                  <a:lnTo>
                    <a:pt x="3896" y="2523"/>
                  </a:lnTo>
                  <a:lnTo>
                    <a:pt x="3863" y="2523"/>
                  </a:lnTo>
                  <a:lnTo>
                    <a:pt x="3825" y="2516"/>
                  </a:lnTo>
                  <a:lnTo>
                    <a:pt x="3792" y="2516"/>
                  </a:lnTo>
                  <a:lnTo>
                    <a:pt x="3753" y="2516"/>
                  </a:lnTo>
                  <a:lnTo>
                    <a:pt x="3720" y="2510"/>
                  </a:lnTo>
                  <a:lnTo>
                    <a:pt x="3687" y="2510"/>
                  </a:lnTo>
                  <a:lnTo>
                    <a:pt x="3654" y="2504"/>
                  </a:lnTo>
                  <a:lnTo>
                    <a:pt x="3620" y="2504"/>
                  </a:lnTo>
                  <a:lnTo>
                    <a:pt x="3582" y="2497"/>
                  </a:lnTo>
                  <a:lnTo>
                    <a:pt x="3549" y="2497"/>
                  </a:lnTo>
                  <a:lnTo>
                    <a:pt x="3516" y="2491"/>
                  </a:lnTo>
                  <a:lnTo>
                    <a:pt x="3483" y="2485"/>
                  </a:lnTo>
                  <a:lnTo>
                    <a:pt x="3449" y="2485"/>
                  </a:lnTo>
                  <a:lnTo>
                    <a:pt x="3411" y="2478"/>
                  </a:lnTo>
                  <a:lnTo>
                    <a:pt x="3389" y="2472"/>
                  </a:lnTo>
                  <a:lnTo>
                    <a:pt x="3361" y="2466"/>
                  </a:lnTo>
                  <a:lnTo>
                    <a:pt x="3334" y="2466"/>
                  </a:lnTo>
                  <a:lnTo>
                    <a:pt x="3306" y="2459"/>
                  </a:lnTo>
                  <a:lnTo>
                    <a:pt x="3284" y="2459"/>
                  </a:lnTo>
                  <a:lnTo>
                    <a:pt x="3256" y="2453"/>
                  </a:lnTo>
                  <a:lnTo>
                    <a:pt x="3229" y="2446"/>
                  </a:lnTo>
                  <a:lnTo>
                    <a:pt x="3207" y="2440"/>
                  </a:lnTo>
                  <a:lnTo>
                    <a:pt x="3179" y="2440"/>
                  </a:lnTo>
                  <a:lnTo>
                    <a:pt x="3151" y="2434"/>
                  </a:lnTo>
                  <a:lnTo>
                    <a:pt x="3129" y="2427"/>
                  </a:lnTo>
                  <a:lnTo>
                    <a:pt x="3102" y="2421"/>
                  </a:lnTo>
                  <a:lnTo>
                    <a:pt x="3074" y="2415"/>
                  </a:lnTo>
                  <a:lnTo>
                    <a:pt x="3052" y="2408"/>
                  </a:lnTo>
                  <a:lnTo>
                    <a:pt x="3025" y="2402"/>
                  </a:lnTo>
                  <a:lnTo>
                    <a:pt x="3002" y="2389"/>
                  </a:lnTo>
                  <a:lnTo>
                    <a:pt x="2964" y="2383"/>
                  </a:lnTo>
                  <a:lnTo>
                    <a:pt x="2925" y="2376"/>
                  </a:lnTo>
                  <a:lnTo>
                    <a:pt x="2887" y="2370"/>
                  </a:lnTo>
                  <a:lnTo>
                    <a:pt x="2848" y="2357"/>
                  </a:lnTo>
                  <a:lnTo>
                    <a:pt x="2815" y="2351"/>
                  </a:lnTo>
                  <a:lnTo>
                    <a:pt x="2776" y="2338"/>
                  </a:lnTo>
                  <a:lnTo>
                    <a:pt x="2738" y="2325"/>
                  </a:lnTo>
                  <a:lnTo>
                    <a:pt x="2704" y="2313"/>
                  </a:lnTo>
                  <a:lnTo>
                    <a:pt x="2666" y="2300"/>
                  </a:lnTo>
                  <a:lnTo>
                    <a:pt x="2633" y="2287"/>
                  </a:lnTo>
                  <a:lnTo>
                    <a:pt x="2594" y="2274"/>
                  </a:lnTo>
                  <a:lnTo>
                    <a:pt x="2561" y="2262"/>
                  </a:lnTo>
                  <a:lnTo>
                    <a:pt x="2522" y="2249"/>
                  </a:lnTo>
                  <a:lnTo>
                    <a:pt x="2489" y="2236"/>
                  </a:lnTo>
                  <a:lnTo>
                    <a:pt x="2451" y="2223"/>
                  </a:lnTo>
                  <a:lnTo>
                    <a:pt x="2418" y="2211"/>
                  </a:lnTo>
                  <a:lnTo>
                    <a:pt x="2390" y="2198"/>
                  </a:lnTo>
                  <a:lnTo>
                    <a:pt x="2362" y="2192"/>
                  </a:lnTo>
                  <a:lnTo>
                    <a:pt x="2340" y="2179"/>
                  </a:lnTo>
                  <a:lnTo>
                    <a:pt x="2313" y="2166"/>
                  </a:lnTo>
                  <a:lnTo>
                    <a:pt x="2291" y="2160"/>
                  </a:lnTo>
                  <a:lnTo>
                    <a:pt x="2263" y="2147"/>
                  </a:lnTo>
                  <a:lnTo>
                    <a:pt x="2241" y="2134"/>
                  </a:lnTo>
                  <a:lnTo>
                    <a:pt x="2213" y="2122"/>
                  </a:lnTo>
                  <a:lnTo>
                    <a:pt x="2191" y="2109"/>
                  </a:lnTo>
                  <a:lnTo>
                    <a:pt x="2164" y="2096"/>
                  </a:lnTo>
                  <a:lnTo>
                    <a:pt x="2142" y="2090"/>
                  </a:lnTo>
                  <a:lnTo>
                    <a:pt x="2120" y="2077"/>
                  </a:lnTo>
                  <a:lnTo>
                    <a:pt x="2092" y="2064"/>
                  </a:lnTo>
                  <a:lnTo>
                    <a:pt x="2070" y="2052"/>
                  </a:lnTo>
                  <a:lnTo>
                    <a:pt x="2042" y="2039"/>
                  </a:lnTo>
                  <a:lnTo>
                    <a:pt x="2020" y="2026"/>
                  </a:lnTo>
                  <a:lnTo>
                    <a:pt x="2015" y="2026"/>
                  </a:lnTo>
                  <a:lnTo>
                    <a:pt x="2009" y="2026"/>
                  </a:lnTo>
                  <a:lnTo>
                    <a:pt x="2004" y="2020"/>
                  </a:lnTo>
                  <a:lnTo>
                    <a:pt x="1998" y="2020"/>
                  </a:lnTo>
                  <a:lnTo>
                    <a:pt x="1998" y="2013"/>
                  </a:lnTo>
                  <a:lnTo>
                    <a:pt x="1993" y="2013"/>
                  </a:lnTo>
                  <a:lnTo>
                    <a:pt x="1986" y="2007"/>
                  </a:lnTo>
                  <a:lnTo>
                    <a:pt x="1981" y="2001"/>
                  </a:lnTo>
                  <a:lnTo>
                    <a:pt x="1975" y="1994"/>
                  </a:lnTo>
                  <a:lnTo>
                    <a:pt x="1970" y="1994"/>
                  </a:lnTo>
                  <a:lnTo>
                    <a:pt x="1925" y="1975"/>
                  </a:lnTo>
                  <a:lnTo>
                    <a:pt x="1887" y="1950"/>
                  </a:lnTo>
                  <a:lnTo>
                    <a:pt x="1843" y="1930"/>
                  </a:lnTo>
                  <a:lnTo>
                    <a:pt x="1804" y="1905"/>
                  </a:lnTo>
                  <a:lnTo>
                    <a:pt x="1765" y="1880"/>
                  </a:lnTo>
                  <a:lnTo>
                    <a:pt x="1727" y="1854"/>
                  </a:lnTo>
                  <a:lnTo>
                    <a:pt x="1683" y="1835"/>
                  </a:lnTo>
                  <a:lnTo>
                    <a:pt x="1644" y="1809"/>
                  </a:lnTo>
                  <a:lnTo>
                    <a:pt x="1605" y="1784"/>
                  </a:lnTo>
                  <a:lnTo>
                    <a:pt x="1567" y="1752"/>
                  </a:lnTo>
                  <a:lnTo>
                    <a:pt x="1528" y="1727"/>
                  </a:lnTo>
                  <a:lnTo>
                    <a:pt x="1489" y="1701"/>
                  </a:lnTo>
                  <a:lnTo>
                    <a:pt x="1445" y="1669"/>
                  </a:lnTo>
                  <a:lnTo>
                    <a:pt x="1412" y="1644"/>
                  </a:lnTo>
                  <a:lnTo>
                    <a:pt x="1374" y="1612"/>
                  </a:lnTo>
                  <a:lnTo>
                    <a:pt x="1335" y="1587"/>
                  </a:lnTo>
                  <a:lnTo>
                    <a:pt x="1280" y="1548"/>
                  </a:lnTo>
                  <a:lnTo>
                    <a:pt x="1230" y="1504"/>
                  </a:lnTo>
                  <a:lnTo>
                    <a:pt x="1180" y="1459"/>
                  </a:lnTo>
                  <a:lnTo>
                    <a:pt x="1131" y="1421"/>
                  </a:lnTo>
                  <a:lnTo>
                    <a:pt x="1081" y="1376"/>
                  </a:lnTo>
                  <a:lnTo>
                    <a:pt x="1031" y="1332"/>
                  </a:lnTo>
                  <a:lnTo>
                    <a:pt x="982" y="1281"/>
                  </a:lnTo>
                  <a:lnTo>
                    <a:pt x="938" y="1235"/>
                  </a:lnTo>
                  <a:lnTo>
                    <a:pt x="888" y="1184"/>
                  </a:lnTo>
                  <a:lnTo>
                    <a:pt x="838" y="1140"/>
                  </a:lnTo>
                  <a:lnTo>
                    <a:pt x="794" y="1089"/>
                  </a:lnTo>
                  <a:lnTo>
                    <a:pt x="744" y="1038"/>
                  </a:lnTo>
                  <a:lnTo>
                    <a:pt x="700" y="987"/>
                  </a:lnTo>
                  <a:lnTo>
                    <a:pt x="656" y="936"/>
                  </a:lnTo>
                  <a:lnTo>
                    <a:pt x="612" y="885"/>
                  </a:lnTo>
                  <a:lnTo>
                    <a:pt x="568" y="834"/>
                  </a:lnTo>
                  <a:lnTo>
                    <a:pt x="562" y="834"/>
                  </a:lnTo>
                  <a:lnTo>
                    <a:pt x="557" y="828"/>
                  </a:lnTo>
                  <a:lnTo>
                    <a:pt x="551" y="821"/>
                  </a:lnTo>
                  <a:lnTo>
                    <a:pt x="546" y="815"/>
                  </a:lnTo>
                  <a:lnTo>
                    <a:pt x="540" y="808"/>
                  </a:lnTo>
                  <a:lnTo>
                    <a:pt x="535" y="796"/>
                  </a:lnTo>
                  <a:lnTo>
                    <a:pt x="529" y="796"/>
                  </a:lnTo>
                  <a:lnTo>
                    <a:pt x="524" y="789"/>
                  </a:lnTo>
                  <a:lnTo>
                    <a:pt x="524" y="783"/>
                  </a:lnTo>
                  <a:lnTo>
                    <a:pt x="518" y="777"/>
                  </a:lnTo>
                  <a:lnTo>
                    <a:pt x="513" y="770"/>
                  </a:lnTo>
                  <a:lnTo>
                    <a:pt x="507" y="764"/>
                  </a:lnTo>
                  <a:lnTo>
                    <a:pt x="502" y="757"/>
                  </a:lnTo>
                  <a:lnTo>
                    <a:pt x="496" y="751"/>
                  </a:lnTo>
                  <a:lnTo>
                    <a:pt x="491" y="745"/>
                  </a:lnTo>
                  <a:lnTo>
                    <a:pt x="491" y="738"/>
                  </a:lnTo>
                  <a:lnTo>
                    <a:pt x="474" y="719"/>
                  </a:lnTo>
                  <a:lnTo>
                    <a:pt x="458" y="700"/>
                  </a:lnTo>
                  <a:lnTo>
                    <a:pt x="435" y="675"/>
                  </a:lnTo>
                  <a:lnTo>
                    <a:pt x="419" y="656"/>
                  </a:lnTo>
                  <a:lnTo>
                    <a:pt x="402" y="630"/>
                  </a:lnTo>
                  <a:lnTo>
                    <a:pt x="386" y="611"/>
                  </a:lnTo>
                  <a:lnTo>
                    <a:pt x="369" y="586"/>
                  </a:lnTo>
                  <a:lnTo>
                    <a:pt x="358" y="560"/>
                  </a:lnTo>
                  <a:lnTo>
                    <a:pt x="342" y="541"/>
                  </a:lnTo>
                  <a:lnTo>
                    <a:pt x="325" y="515"/>
                  </a:lnTo>
                  <a:lnTo>
                    <a:pt x="309" y="490"/>
                  </a:lnTo>
                  <a:lnTo>
                    <a:pt x="292" y="471"/>
                  </a:lnTo>
                  <a:lnTo>
                    <a:pt x="275" y="445"/>
                  </a:lnTo>
                  <a:lnTo>
                    <a:pt x="259" y="426"/>
                  </a:lnTo>
                  <a:lnTo>
                    <a:pt x="242" y="401"/>
                  </a:lnTo>
                  <a:lnTo>
                    <a:pt x="226" y="382"/>
                  </a:lnTo>
                  <a:lnTo>
                    <a:pt x="215" y="356"/>
                  </a:lnTo>
                  <a:lnTo>
                    <a:pt x="198" y="331"/>
                  </a:lnTo>
                  <a:lnTo>
                    <a:pt x="182" y="312"/>
                  </a:lnTo>
                  <a:lnTo>
                    <a:pt x="171" y="286"/>
                  </a:lnTo>
                  <a:lnTo>
                    <a:pt x="154" y="267"/>
                  </a:lnTo>
                  <a:lnTo>
                    <a:pt x="137" y="242"/>
                  </a:lnTo>
                  <a:lnTo>
                    <a:pt x="126" y="216"/>
                  </a:lnTo>
                  <a:lnTo>
                    <a:pt x="110" y="197"/>
                  </a:lnTo>
                  <a:lnTo>
                    <a:pt x="99" y="171"/>
                  </a:lnTo>
                  <a:lnTo>
                    <a:pt x="82" y="146"/>
                  </a:lnTo>
                  <a:lnTo>
                    <a:pt x="71" y="127"/>
                  </a:lnTo>
                  <a:lnTo>
                    <a:pt x="55" y="101"/>
                  </a:lnTo>
                  <a:lnTo>
                    <a:pt x="44" y="76"/>
                  </a:lnTo>
                  <a:lnTo>
                    <a:pt x="27" y="50"/>
                  </a:lnTo>
                  <a:lnTo>
                    <a:pt x="16" y="31"/>
                  </a:lnTo>
                  <a:lnTo>
                    <a:pt x="0" y="6"/>
                  </a:lnTo>
                  <a:lnTo>
                    <a:pt x="55" y="6"/>
                  </a:lnTo>
                  <a:lnTo>
                    <a:pt x="182" y="6"/>
                  </a:lnTo>
                  <a:lnTo>
                    <a:pt x="380" y="6"/>
                  </a:lnTo>
                  <a:lnTo>
                    <a:pt x="640" y="6"/>
                  </a:lnTo>
                  <a:lnTo>
                    <a:pt x="938" y="6"/>
                  </a:lnTo>
                  <a:lnTo>
                    <a:pt x="1274" y="6"/>
                  </a:lnTo>
                  <a:lnTo>
                    <a:pt x="1627" y="6"/>
                  </a:lnTo>
                  <a:lnTo>
                    <a:pt x="1993" y="0"/>
                  </a:lnTo>
                  <a:lnTo>
                    <a:pt x="2362" y="0"/>
                  </a:lnTo>
                  <a:lnTo>
                    <a:pt x="2715" y="0"/>
                  </a:lnTo>
                  <a:lnTo>
                    <a:pt x="3047" y="0"/>
                  </a:lnTo>
                  <a:lnTo>
                    <a:pt x="3345" y="0"/>
                  </a:lnTo>
                  <a:lnTo>
                    <a:pt x="3593" y="0"/>
                  </a:lnTo>
                  <a:lnTo>
                    <a:pt x="3786" y="0"/>
                  </a:lnTo>
                  <a:lnTo>
                    <a:pt x="3913" y="0"/>
                  </a:lnTo>
                  <a:lnTo>
                    <a:pt x="3957" y="0"/>
                  </a:lnTo>
                  <a:lnTo>
                    <a:pt x="3974" y="25"/>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 name=""/>
            <p:cNvSpPr/>
            <p:nvPr/>
          </p:nvSpPr>
          <p:spPr>
            <a:xfrm>
              <a:off x="2354400" y="5229360"/>
              <a:ext cx="1430640" cy="908280"/>
            </a:xfrm>
            <a:custGeom>
              <a:avLst/>
              <a:gdLst/>
              <a:ahLst/>
              <a:rect l="0" t="0" r="r" b="b"/>
              <a:pathLst>
                <a:path w="3974" h="2523">
                  <a:moveTo>
                    <a:pt x="3974" y="25"/>
                  </a:moveTo>
                  <a:lnTo>
                    <a:pt x="3974" y="133"/>
                  </a:lnTo>
                  <a:lnTo>
                    <a:pt x="3974" y="273"/>
                  </a:lnTo>
                  <a:lnTo>
                    <a:pt x="3974" y="439"/>
                  </a:lnTo>
                  <a:lnTo>
                    <a:pt x="3974" y="624"/>
                  </a:lnTo>
                  <a:lnTo>
                    <a:pt x="3974" y="821"/>
                  </a:lnTo>
                  <a:lnTo>
                    <a:pt x="3974" y="1031"/>
                  </a:lnTo>
                  <a:lnTo>
                    <a:pt x="3974" y="1248"/>
                  </a:lnTo>
                  <a:lnTo>
                    <a:pt x="3968" y="1459"/>
                  </a:lnTo>
                  <a:lnTo>
                    <a:pt x="3968" y="1663"/>
                  </a:lnTo>
                  <a:lnTo>
                    <a:pt x="3968" y="1860"/>
                  </a:lnTo>
                  <a:lnTo>
                    <a:pt x="3968" y="2045"/>
                  </a:lnTo>
                  <a:lnTo>
                    <a:pt x="3968" y="2198"/>
                  </a:lnTo>
                  <a:lnTo>
                    <a:pt x="3968" y="2332"/>
                  </a:lnTo>
                  <a:lnTo>
                    <a:pt x="3968" y="2434"/>
                  </a:lnTo>
                  <a:lnTo>
                    <a:pt x="3968" y="2497"/>
                  </a:lnTo>
                  <a:lnTo>
                    <a:pt x="3968" y="2523"/>
                  </a:lnTo>
                  <a:lnTo>
                    <a:pt x="3930" y="2523"/>
                  </a:lnTo>
                  <a:lnTo>
                    <a:pt x="3896" y="2523"/>
                  </a:lnTo>
                  <a:lnTo>
                    <a:pt x="3863" y="2523"/>
                  </a:lnTo>
                  <a:lnTo>
                    <a:pt x="3825" y="2516"/>
                  </a:lnTo>
                  <a:lnTo>
                    <a:pt x="3792" y="2516"/>
                  </a:lnTo>
                  <a:lnTo>
                    <a:pt x="3753" y="2516"/>
                  </a:lnTo>
                  <a:lnTo>
                    <a:pt x="3720" y="2510"/>
                  </a:lnTo>
                  <a:lnTo>
                    <a:pt x="3687" y="2510"/>
                  </a:lnTo>
                  <a:lnTo>
                    <a:pt x="3654" y="2504"/>
                  </a:lnTo>
                  <a:lnTo>
                    <a:pt x="3620" y="2504"/>
                  </a:lnTo>
                  <a:lnTo>
                    <a:pt x="3582" y="2497"/>
                  </a:lnTo>
                  <a:lnTo>
                    <a:pt x="3549" y="2497"/>
                  </a:lnTo>
                  <a:lnTo>
                    <a:pt x="3516" y="2491"/>
                  </a:lnTo>
                  <a:lnTo>
                    <a:pt x="3483" y="2485"/>
                  </a:lnTo>
                  <a:lnTo>
                    <a:pt x="3449" y="2485"/>
                  </a:lnTo>
                  <a:lnTo>
                    <a:pt x="3411" y="2478"/>
                  </a:lnTo>
                  <a:lnTo>
                    <a:pt x="3389" y="2472"/>
                  </a:lnTo>
                  <a:lnTo>
                    <a:pt x="3361" y="2466"/>
                  </a:lnTo>
                  <a:lnTo>
                    <a:pt x="3334" y="2466"/>
                  </a:lnTo>
                  <a:lnTo>
                    <a:pt x="3306" y="2459"/>
                  </a:lnTo>
                  <a:lnTo>
                    <a:pt x="3284" y="2459"/>
                  </a:lnTo>
                  <a:lnTo>
                    <a:pt x="3256" y="2453"/>
                  </a:lnTo>
                  <a:lnTo>
                    <a:pt x="3229" y="2446"/>
                  </a:lnTo>
                  <a:lnTo>
                    <a:pt x="3207" y="2440"/>
                  </a:lnTo>
                  <a:lnTo>
                    <a:pt x="3179" y="2440"/>
                  </a:lnTo>
                  <a:lnTo>
                    <a:pt x="3151" y="2434"/>
                  </a:lnTo>
                  <a:lnTo>
                    <a:pt x="3129" y="2427"/>
                  </a:lnTo>
                  <a:lnTo>
                    <a:pt x="3102" y="2421"/>
                  </a:lnTo>
                  <a:lnTo>
                    <a:pt x="3074" y="2415"/>
                  </a:lnTo>
                  <a:lnTo>
                    <a:pt x="3052" y="2408"/>
                  </a:lnTo>
                  <a:lnTo>
                    <a:pt x="3025" y="2402"/>
                  </a:lnTo>
                  <a:lnTo>
                    <a:pt x="3002" y="2389"/>
                  </a:lnTo>
                  <a:lnTo>
                    <a:pt x="2964" y="2383"/>
                  </a:lnTo>
                  <a:lnTo>
                    <a:pt x="2925" y="2376"/>
                  </a:lnTo>
                  <a:lnTo>
                    <a:pt x="2887" y="2370"/>
                  </a:lnTo>
                  <a:lnTo>
                    <a:pt x="2848" y="2357"/>
                  </a:lnTo>
                  <a:lnTo>
                    <a:pt x="2815" y="2351"/>
                  </a:lnTo>
                  <a:lnTo>
                    <a:pt x="2776" y="2338"/>
                  </a:lnTo>
                  <a:lnTo>
                    <a:pt x="2738" y="2325"/>
                  </a:lnTo>
                  <a:lnTo>
                    <a:pt x="2704" y="2313"/>
                  </a:lnTo>
                  <a:lnTo>
                    <a:pt x="2666" y="2300"/>
                  </a:lnTo>
                  <a:lnTo>
                    <a:pt x="2633" y="2287"/>
                  </a:lnTo>
                  <a:lnTo>
                    <a:pt x="2594" y="2274"/>
                  </a:lnTo>
                  <a:lnTo>
                    <a:pt x="2561" y="2262"/>
                  </a:lnTo>
                  <a:lnTo>
                    <a:pt x="2522" y="2249"/>
                  </a:lnTo>
                  <a:lnTo>
                    <a:pt x="2489" y="2236"/>
                  </a:lnTo>
                  <a:lnTo>
                    <a:pt x="2451" y="2223"/>
                  </a:lnTo>
                  <a:lnTo>
                    <a:pt x="2418" y="2211"/>
                  </a:lnTo>
                  <a:lnTo>
                    <a:pt x="2390" y="2198"/>
                  </a:lnTo>
                  <a:lnTo>
                    <a:pt x="2362" y="2192"/>
                  </a:lnTo>
                  <a:lnTo>
                    <a:pt x="2340" y="2179"/>
                  </a:lnTo>
                  <a:lnTo>
                    <a:pt x="2313" y="2166"/>
                  </a:lnTo>
                  <a:lnTo>
                    <a:pt x="2291" y="2160"/>
                  </a:lnTo>
                  <a:lnTo>
                    <a:pt x="2263" y="2147"/>
                  </a:lnTo>
                  <a:lnTo>
                    <a:pt x="2241" y="2134"/>
                  </a:lnTo>
                  <a:lnTo>
                    <a:pt x="2213" y="2122"/>
                  </a:lnTo>
                  <a:lnTo>
                    <a:pt x="2191" y="2109"/>
                  </a:lnTo>
                  <a:lnTo>
                    <a:pt x="2164" y="2096"/>
                  </a:lnTo>
                  <a:lnTo>
                    <a:pt x="2142" y="2090"/>
                  </a:lnTo>
                  <a:lnTo>
                    <a:pt x="2120" y="2077"/>
                  </a:lnTo>
                  <a:lnTo>
                    <a:pt x="2092" y="2064"/>
                  </a:lnTo>
                  <a:lnTo>
                    <a:pt x="2070" y="2052"/>
                  </a:lnTo>
                  <a:lnTo>
                    <a:pt x="2042" y="2039"/>
                  </a:lnTo>
                  <a:lnTo>
                    <a:pt x="2020" y="2026"/>
                  </a:lnTo>
                  <a:lnTo>
                    <a:pt x="2015" y="2026"/>
                  </a:lnTo>
                  <a:lnTo>
                    <a:pt x="2009" y="2026"/>
                  </a:lnTo>
                  <a:lnTo>
                    <a:pt x="2004" y="2020"/>
                  </a:lnTo>
                  <a:lnTo>
                    <a:pt x="1998" y="2020"/>
                  </a:lnTo>
                  <a:lnTo>
                    <a:pt x="1998" y="2013"/>
                  </a:lnTo>
                  <a:lnTo>
                    <a:pt x="1993" y="2013"/>
                  </a:lnTo>
                  <a:lnTo>
                    <a:pt x="1986" y="2007"/>
                  </a:lnTo>
                  <a:lnTo>
                    <a:pt x="1981" y="2001"/>
                  </a:lnTo>
                  <a:lnTo>
                    <a:pt x="1975" y="1994"/>
                  </a:lnTo>
                  <a:lnTo>
                    <a:pt x="1970" y="1994"/>
                  </a:lnTo>
                  <a:lnTo>
                    <a:pt x="1925" y="1975"/>
                  </a:lnTo>
                  <a:lnTo>
                    <a:pt x="1887" y="1950"/>
                  </a:lnTo>
                  <a:lnTo>
                    <a:pt x="1843" y="1930"/>
                  </a:lnTo>
                  <a:lnTo>
                    <a:pt x="1804" y="1905"/>
                  </a:lnTo>
                  <a:lnTo>
                    <a:pt x="1765" y="1880"/>
                  </a:lnTo>
                  <a:lnTo>
                    <a:pt x="1727" y="1854"/>
                  </a:lnTo>
                  <a:lnTo>
                    <a:pt x="1683" y="1835"/>
                  </a:lnTo>
                  <a:lnTo>
                    <a:pt x="1644" y="1809"/>
                  </a:lnTo>
                  <a:lnTo>
                    <a:pt x="1605" y="1784"/>
                  </a:lnTo>
                  <a:lnTo>
                    <a:pt x="1567" y="1752"/>
                  </a:lnTo>
                  <a:lnTo>
                    <a:pt x="1528" y="1727"/>
                  </a:lnTo>
                  <a:lnTo>
                    <a:pt x="1489" y="1701"/>
                  </a:lnTo>
                  <a:lnTo>
                    <a:pt x="1445" y="1669"/>
                  </a:lnTo>
                  <a:lnTo>
                    <a:pt x="1412" y="1644"/>
                  </a:lnTo>
                  <a:lnTo>
                    <a:pt x="1374" y="1612"/>
                  </a:lnTo>
                  <a:lnTo>
                    <a:pt x="1335" y="1587"/>
                  </a:lnTo>
                  <a:lnTo>
                    <a:pt x="1280" y="1548"/>
                  </a:lnTo>
                  <a:lnTo>
                    <a:pt x="1230" y="1504"/>
                  </a:lnTo>
                  <a:lnTo>
                    <a:pt x="1180" y="1459"/>
                  </a:lnTo>
                  <a:lnTo>
                    <a:pt x="1131" y="1421"/>
                  </a:lnTo>
                  <a:lnTo>
                    <a:pt x="1081" y="1376"/>
                  </a:lnTo>
                  <a:lnTo>
                    <a:pt x="1031" y="1332"/>
                  </a:lnTo>
                  <a:lnTo>
                    <a:pt x="982" y="1281"/>
                  </a:lnTo>
                  <a:lnTo>
                    <a:pt x="938" y="1235"/>
                  </a:lnTo>
                  <a:lnTo>
                    <a:pt x="888" y="1184"/>
                  </a:lnTo>
                  <a:lnTo>
                    <a:pt x="838" y="1140"/>
                  </a:lnTo>
                  <a:lnTo>
                    <a:pt x="794" y="1089"/>
                  </a:lnTo>
                  <a:lnTo>
                    <a:pt x="744" y="1038"/>
                  </a:lnTo>
                  <a:lnTo>
                    <a:pt x="700" y="987"/>
                  </a:lnTo>
                  <a:lnTo>
                    <a:pt x="656" y="936"/>
                  </a:lnTo>
                  <a:lnTo>
                    <a:pt x="612" y="885"/>
                  </a:lnTo>
                  <a:lnTo>
                    <a:pt x="568" y="834"/>
                  </a:lnTo>
                  <a:lnTo>
                    <a:pt x="562" y="834"/>
                  </a:lnTo>
                  <a:lnTo>
                    <a:pt x="557" y="828"/>
                  </a:lnTo>
                  <a:lnTo>
                    <a:pt x="551" y="821"/>
                  </a:lnTo>
                  <a:lnTo>
                    <a:pt x="546" y="815"/>
                  </a:lnTo>
                  <a:lnTo>
                    <a:pt x="540" y="808"/>
                  </a:lnTo>
                  <a:lnTo>
                    <a:pt x="535" y="796"/>
                  </a:lnTo>
                  <a:lnTo>
                    <a:pt x="529" y="796"/>
                  </a:lnTo>
                  <a:lnTo>
                    <a:pt x="524" y="789"/>
                  </a:lnTo>
                  <a:lnTo>
                    <a:pt x="524" y="783"/>
                  </a:lnTo>
                  <a:lnTo>
                    <a:pt x="518" y="777"/>
                  </a:lnTo>
                  <a:lnTo>
                    <a:pt x="513" y="770"/>
                  </a:lnTo>
                  <a:lnTo>
                    <a:pt x="507" y="764"/>
                  </a:lnTo>
                  <a:lnTo>
                    <a:pt x="502" y="757"/>
                  </a:lnTo>
                  <a:lnTo>
                    <a:pt x="496" y="751"/>
                  </a:lnTo>
                  <a:lnTo>
                    <a:pt x="491" y="745"/>
                  </a:lnTo>
                  <a:lnTo>
                    <a:pt x="491" y="738"/>
                  </a:lnTo>
                  <a:lnTo>
                    <a:pt x="474" y="719"/>
                  </a:lnTo>
                  <a:lnTo>
                    <a:pt x="458" y="700"/>
                  </a:lnTo>
                  <a:lnTo>
                    <a:pt x="435" y="675"/>
                  </a:lnTo>
                  <a:lnTo>
                    <a:pt x="419" y="656"/>
                  </a:lnTo>
                  <a:lnTo>
                    <a:pt x="402" y="630"/>
                  </a:lnTo>
                  <a:lnTo>
                    <a:pt x="386" y="611"/>
                  </a:lnTo>
                  <a:lnTo>
                    <a:pt x="369" y="586"/>
                  </a:lnTo>
                  <a:lnTo>
                    <a:pt x="358" y="560"/>
                  </a:lnTo>
                  <a:lnTo>
                    <a:pt x="342" y="541"/>
                  </a:lnTo>
                  <a:lnTo>
                    <a:pt x="325" y="515"/>
                  </a:lnTo>
                  <a:lnTo>
                    <a:pt x="309" y="490"/>
                  </a:lnTo>
                  <a:lnTo>
                    <a:pt x="292" y="471"/>
                  </a:lnTo>
                  <a:lnTo>
                    <a:pt x="275" y="445"/>
                  </a:lnTo>
                  <a:lnTo>
                    <a:pt x="259" y="426"/>
                  </a:lnTo>
                  <a:lnTo>
                    <a:pt x="242" y="401"/>
                  </a:lnTo>
                  <a:lnTo>
                    <a:pt x="226" y="382"/>
                  </a:lnTo>
                  <a:lnTo>
                    <a:pt x="215" y="356"/>
                  </a:lnTo>
                  <a:lnTo>
                    <a:pt x="198" y="331"/>
                  </a:lnTo>
                  <a:lnTo>
                    <a:pt x="182" y="312"/>
                  </a:lnTo>
                  <a:lnTo>
                    <a:pt x="171" y="286"/>
                  </a:lnTo>
                  <a:lnTo>
                    <a:pt x="154" y="267"/>
                  </a:lnTo>
                  <a:lnTo>
                    <a:pt x="137" y="242"/>
                  </a:lnTo>
                  <a:lnTo>
                    <a:pt x="126" y="216"/>
                  </a:lnTo>
                  <a:lnTo>
                    <a:pt x="110" y="197"/>
                  </a:lnTo>
                  <a:lnTo>
                    <a:pt x="99" y="171"/>
                  </a:lnTo>
                  <a:lnTo>
                    <a:pt x="82" y="146"/>
                  </a:lnTo>
                  <a:lnTo>
                    <a:pt x="71" y="127"/>
                  </a:lnTo>
                  <a:lnTo>
                    <a:pt x="55" y="101"/>
                  </a:lnTo>
                  <a:lnTo>
                    <a:pt x="44" y="76"/>
                  </a:lnTo>
                  <a:lnTo>
                    <a:pt x="27" y="50"/>
                  </a:lnTo>
                  <a:lnTo>
                    <a:pt x="16" y="31"/>
                  </a:lnTo>
                  <a:lnTo>
                    <a:pt x="0" y="6"/>
                  </a:lnTo>
                  <a:lnTo>
                    <a:pt x="55" y="6"/>
                  </a:lnTo>
                  <a:lnTo>
                    <a:pt x="182" y="6"/>
                  </a:lnTo>
                  <a:lnTo>
                    <a:pt x="380" y="6"/>
                  </a:lnTo>
                  <a:lnTo>
                    <a:pt x="640" y="6"/>
                  </a:lnTo>
                  <a:lnTo>
                    <a:pt x="938" y="6"/>
                  </a:lnTo>
                  <a:lnTo>
                    <a:pt x="1274" y="6"/>
                  </a:lnTo>
                  <a:lnTo>
                    <a:pt x="1627" y="6"/>
                  </a:lnTo>
                  <a:lnTo>
                    <a:pt x="1993" y="0"/>
                  </a:lnTo>
                  <a:lnTo>
                    <a:pt x="2362" y="0"/>
                  </a:lnTo>
                  <a:lnTo>
                    <a:pt x="2715" y="0"/>
                  </a:lnTo>
                  <a:lnTo>
                    <a:pt x="3047" y="0"/>
                  </a:lnTo>
                  <a:lnTo>
                    <a:pt x="3345" y="0"/>
                  </a:lnTo>
                  <a:lnTo>
                    <a:pt x="3593" y="0"/>
                  </a:lnTo>
                  <a:lnTo>
                    <a:pt x="3786" y="0"/>
                  </a:lnTo>
                  <a:lnTo>
                    <a:pt x="3913" y="0"/>
                  </a:lnTo>
                  <a:lnTo>
                    <a:pt x="3957" y="0"/>
                  </a:lnTo>
                  <a:lnTo>
                    <a:pt x="3974" y="25"/>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23" name=""/>
          <p:cNvSpPr txBox="1"/>
          <p:nvPr/>
        </p:nvSpPr>
        <p:spPr>
          <a:xfrm>
            <a:off x="8604360" y="6453360"/>
            <a:ext cx="365040" cy="244440"/>
          </a:xfrm>
          <a:prstGeom prst="rect">
            <a:avLst/>
          </a:prstGeom>
          <a:noFill/>
          <a:ln w="0">
            <a:noFill/>
          </a:ln>
        </p:spPr>
        <p:txBody>
          <a:bodyPr lIns="0" rIns="0" tIns="0" bIns="0" anchor="t">
            <a:noAutofit/>
          </a:bodyPr>
          <a:p>
            <a:pPr algn="r">
              <a:lnSpc>
                <a:spcPct val="100000"/>
              </a:lnSpc>
              <a:spcBef>
                <a:spcPts val="1199"/>
              </a:spcBef>
            </a:pPr>
            <a:fld id="{F3D41BE3-6DE5-4257-A9E0-012EBA2FB9AC}" type="slidenum">
              <a:rPr b="0" lang="en-US" sz="1000" spc="-1" strike="noStrike">
                <a:solidFill>
                  <a:srgbClr val="000000"/>
                </a:solidFill>
                <a:latin typeface="Arial"/>
                <a:ea typeface="Arial"/>
              </a:rPr>
              <a:t>&lt;number&gt;</a:t>
            </a:fld>
            <a:endParaRPr b="0" lang="en-US" sz="1000" spc="-1" strike="noStrike">
              <a:solidFill>
                <a:srgbClr val="000000"/>
              </a:solidFill>
              <a:latin typeface="Arial"/>
            </a:endParaRPr>
          </a:p>
        </p:txBody>
      </p:sp>
      <p:sp>
        <p:nvSpPr>
          <p:cNvPr id="24" name=""/>
          <p:cNvSpPr/>
          <p:nvPr/>
        </p:nvSpPr>
        <p:spPr>
          <a:xfrm>
            <a:off x="8904240" y="398520"/>
            <a:ext cx="69840" cy="483084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 name=""/>
          <p:cNvSpPr/>
          <p:nvPr/>
        </p:nvSpPr>
        <p:spPr>
          <a:xfrm>
            <a:off x="792000" y="6362640"/>
            <a:ext cx="7370640" cy="74520"/>
          </a:xfrm>
          <a:prstGeom prst="rect">
            <a:avLst/>
          </a:prstGeom>
          <a:solidFill>
            <a:srgbClr val="ffffff"/>
          </a:solidFill>
          <a:ln w="0">
            <a:noFill/>
          </a:ln>
        </p:spPr>
        <p:txBody>
          <a:bodyPr lIns="90000" rIns="90000" tIns="29520" bIns="29520" anchor="t">
            <a:noAutofit/>
          </a:bodyPr>
          <a:p>
            <a:endParaRPr b="0" lang="en-US" sz="1800" spc="-1" strike="noStrike">
              <a:solidFill>
                <a:srgbClr val="000000"/>
              </a:solidFill>
              <a:latin typeface="Arial"/>
            </a:endParaRPr>
          </a:p>
        </p:txBody>
      </p:sp>
      <p:sp>
        <p:nvSpPr>
          <p:cNvPr id="26" name=""/>
          <p:cNvSpPr/>
          <p:nvPr/>
        </p:nvSpPr>
        <p:spPr>
          <a:xfrm>
            <a:off x="809640" y="6691320"/>
            <a:ext cx="1020600" cy="46080"/>
          </a:xfrm>
          <a:prstGeom prst="rect">
            <a:avLst/>
          </a:prstGeom>
          <a:noFill/>
          <a:ln w="0">
            <a:noFill/>
          </a:ln>
        </p:spPr>
        <p:txBody>
          <a:bodyPr lIns="90000" rIns="90000" tIns="1080" bIns="1080" anchor="t">
            <a:noAutofit/>
          </a:bodyPr>
          <a:p>
            <a:endParaRPr b="0" lang="en-US" sz="1800" spc="-1" strike="noStrike">
              <a:solidFill>
                <a:srgbClr val="000000"/>
              </a:solidFill>
              <a:latin typeface="Arial"/>
            </a:endParaRPr>
          </a:p>
        </p:txBody>
      </p:sp>
      <p:sp>
        <p:nvSpPr>
          <p:cNvPr id="27" name=""/>
          <p:cNvSpPr txBox="1"/>
          <p:nvPr/>
        </p:nvSpPr>
        <p:spPr>
          <a:xfrm>
            <a:off x="717480" y="6645240"/>
            <a:ext cx="1387440" cy="168120"/>
          </a:xfrm>
          <a:prstGeom prst="rect">
            <a:avLst/>
          </a:prstGeom>
          <a:noFill/>
          <a:ln w="0">
            <a:noFill/>
          </a:ln>
        </p:spPr>
        <p:txBody>
          <a:bodyPr lIns="0" rIns="0" tIns="0" bIns="0" anchor="t">
            <a:noAutofit/>
          </a:bodyPr>
          <a:p>
            <a:pPr>
              <a:lnSpc>
                <a:spcPct val="100000"/>
              </a:lnSpc>
            </a:pPr>
            <a:r>
              <a:rPr b="0" lang="en-US" sz="500" spc="-1" strike="noStrike">
                <a:solidFill>
                  <a:srgbClr val="000000"/>
                </a:solidFill>
                <a:latin typeface="Arial"/>
                <a:ea typeface="Arial"/>
              </a:rPr>
              <a:t>INNOVATRON AND BULL CP8 PATENTS</a:t>
            </a:r>
            <a:endParaRPr b="0" lang="en-US" sz="500" spc="-1" strike="noStrike">
              <a:solidFill>
                <a:srgbClr val="000000"/>
              </a:solidFill>
              <a:latin typeface="Arial"/>
            </a:endParaRPr>
          </a:p>
        </p:txBody>
      </p:sp>
      <p:sp>
        <p:nvSpPr>
          <p:cNvPr id="28" name=""/>
          <p:cNvSpPr/>
          <p:nvPr/>
        </p:nvSpPr>
        <p:spPr>
          <a:xfrm>
            <a:off x="798480" y="6491160"/>
            <a:ext cx="2900520" cy="1206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9" name=""/>
          <p:cNvSpPr txBox="1"/>
          <p:nvPr/>
        </p:nvSpPr>
        <p:spPr>
          <a:xfrm>
            <a:off x="706320" y="6462720"/>
            <a:ext cx="1511280" cy="228600"/>
          </a:xfrm>
          <a:prstGeom prst="rect">
            <a:avLst/>
          </a:prstGeom>
          <a:noFill/>
          <a:ln w="0">
            <a:noFill/>
          </a:ln>
        </p:spPr>
        <p:txBody>
          <a:bodyPr lIns="0" rIns="0" tIns="0" bIns="0" anchor="t">
            <a:noAutofit/>
          </a:bodyPr>
          <a:p>
            <a:pPr>
              <a:lnSpc>
                <a:spcPct val="100000"/>
              </a:lnSpc>
            </a:pPr>
            <a:r>
              <a:rPr b="1" lang="en-US" sz="900" spc="-1" strike="noStrike">
                <a:solidFill>
                  <a:srgbClr val="000000"/>
                </a:solidFill>
                <a:latin typeface="Arial"/>
                <a:ea typeface="Arial"/>
              </a:rPr>
              <a:t>Gemplus copyright 1998</a:t>
            </a:r>
            <a:endParaRPr b="0" lang="en-US" sz="900" spc="-1" strike="noStrike">
              <a:solidFill>
                <a:srgbClr val="000000"/>
              </a:solidFill>
              <a:latin typeface="Arial"/>
            </a:endParaRPr>
          </a:p>
        </p:txBody>
      </p:sp>
      <p:grpSp>
        <p:nvGrpSpPr>
          <p:cNvPr id="30" name=""/>
          <p:cNvGrpSpPr/>
          <p:nvPr/>
        </p:nvGrpSpPr>
        <p:grpSpPr>
          <a:xfrm>
            <a:off x="8520120" y="5695920"/>
            <a:ext cx="541440" cy="736920"/>
            <a:chOff x="8520120" y="5695920"/>
            <a:chExt cx="541440" cy="736920"/>
          </a:xfrm>
        </p:grpSpPr>
        <p:sp>
          <p:nvSpPr>
            <p:cNvPr id="31" name=""/>
            <p:cNvSpPr/>
            <p:nvPr/>
          </p:nvSpPr>
          <p:spPr>
            <a:xfrm>
              <a:off x="8520120" y="6359400"/>
              <a:ext cx="70200" cy="73440"/>
            </a:xfrm>
            <a:custGeom>
              <a:avLst/>
              <a:gdLst/>
              <a:ahLst/>
              <a:rect l="0" t="0" r="r" b="b"/>
              <a:pathLst>
                <a:path w="195" h="204">
                  <a:moveTo>
                    <a:pt x="195" y="173"/>
                  </a:moveTo>
                  <a:lnTo>
                    <a:pt x="192" y="176"/>
                  </a:lnTo>
                  <a:lnTo>
                    <a:pt x="186" y="179"/>
                  </a:lnTo>
                  <a:lnTo>
                    <a:pt x="183" y="183"/>
                  </a:lnTo>
                  <a:lnTo>
                    <a:pt x="177" y="186"/>
                  </a:lnTo>
                  <a:lnTo>
                    <a:pt x="174" y="189"/>
                  </a:lnTo>
                  <a:lnTo>
                    <a:pt x="168" y="192"/>
                  </a:lnTo>
                  <a:lnTo>
                    <a:pt x="162" y="195"/>
                  </a:lnTo>
                  <a:lnTo>
                    <a:pt x="159" y="198"/>
                  </a:lnTo>
                  <a:lnTo>
                    <a:pt x="153" y="198"/>
                  </a:lnTo>
                  <a:lnTo>
                    <a:pt x="147" y="201"/>
                  </a:lnTo>
                  <a:lnTo>
                    <a:pt x="142" y="201"/>
                  </a:lnTo>
                  <a:lnTo>
                    <a:pt x="136" y="204"/>
                  </a:lnTo>
                  <a:lnTo>
                    <a:pt x="130" y="204"/>
                  </a:lnTo>
                  <a:lnTo>
                    <a:pt x="124" y="204"/>
                  </a:lnTo>
                  <a:lnTo>
                    <a:pt x="118" y="204"/>
                  </a:lnTo>
                  <a:lnTo>
                    <a:pt x="112" y="204"/>
                  </a:lnTo>
                  <a:lnTo>
                    <a:pt x="100" y="204"/>
                  </a:lnTo>
                  <a:lnTo>
                    <a:pt x="88" y="204"/>
                  </a:lnTo>
                  <a:lnTo>
                    <a:pt x="79" y="201"/>
                  </a:lnTo>
                  <a:lnTo>
                    <a:pt x="67" y="198"/>
                  </a:lnTo>
                  <a:lnTo>
                    <a:pt x="58" y="192"/>
                  </a:lnTo>
                  <a:lnTo>
                    <a:pt x="49" y="189"/>
                  </a:lnTo>
                  <a:lnTo>
                    <a:pt x="41" y="183"/>
                  </a:lnTo>
                  <a:lnTo>
                    <a:pt x="32" y="176"/>
                  </a:lnTo>
                  <a:lnTo>
                    <a:pt x="23" y="167"/>
                  </a:lnTo>
                  <a:lnTo>
                    <a:pt x="17" y="161"/>
                  </a:lnTo>
                  <a:lnTo>
                    <a:pt x="11" y="150"/>
                  </a:lnTo>
                  <a:lnTo>
                    <a:pt x="8" y="141"/>
                  </a:lnTo>
                  <a:lnTo>
                    <a:pt x="2" y="132"/>
                  </a:lnTo>
                  <a:lnTo>
                    <a:pt x="0" y="122"/>
                  </a:lnTo>
                  <a:lnTo>
                    <a:pt x="0" y="113"/>
                  </a:lnTo>
                  <a:lnTo>
                    <a:pt x="0" y="103"/>
                  </a:lnTo>
                  <a:lnTo>
                    <a:pt x="0" y="91"/>
                  </a:lnTo>
                  <a:lnTo>
                    <a:pt x="0" y="82"/>
                  </a:lnTo>
                  <a:lnTo>
                    <a:pt x="2" y="72"/>
                  </a:lnTo>
                  <a:lnTo>
                    <a:pt x="8" y="63"/>
                  </a:lnTo>
                  <a:lnTo>
                    <a:pt x="11" y="54"/>
                  </a:lnTo>
                  <a:lnTo>
                    <a:pt x="17" y="46"/>
                  </a:lnTo>
                  <a:lnTo>
                    <a:pt x="23" y="37"/>
                  </a:lnTo>
                  <a:lnTo>
                    <a:pt x="32" y="31"/>
                  </a:lnTo>
                  <a:lnTo>
                    <a:pt x="41" y="24"/>
                  </a:lnTo>
                  <a:lnTo>
                    <a:pt x="49" y="18"/>
                  </a:lnTo>
                  <a:lnTo>
                    <a:pt x="58" y="12"/>
                  </a:lnTo>
                  <a:lnTo>
                    <a:pt x="67" y="9"/>
                  </a:lnTo>
                  <a:lnTo>
                    <a:pt x="79" y="6"/>
                  </a:lnTo>
                  <a:lnTo>
                    <a:pt x="88" y="3"/>
                  </a:lnTo>
                  <a:lnTo>
                    <a:pt x="100" y="0"/>
                  </a:lnTo>
                  <a:lnTo>
                    <a:pt x="112" y="0"/>
                  </a:lnTo>
                  <a:lnTo>
                    <a:pt x="118" y="0"/>
                  </a:lnTo>
                  <a:lnTo>
                    <a:pt x="124" y="0"/>
                  </a:lnTo>
                  <a:lnTo>
                    <a:pt x="130" y="3"/>
                  </a:lnTo>
                  <a:lnTo>
                    <a:pt x="136" y="3"/>
                  </a:lnTo>
                  <a:lnTo>
                    <a:pt x="142" y="3"/>
                  </a:lnTo>
                  <a:lnTo>
                    <a:pt x="147" y="6"/>
                  </a:lnTo>
                  <a:lnTo>
                    <a:pt x="150" y="6"/>
                  </a:lnTo>
                  <a:lnTo>
                    <a:pt x="156" y="9"/>
                  </a:lnTo>
                  <a:lnTo>
                    <a:pt x="162" y="9"/>
                  </a:lnTo>
                  <a:lnTo>
                    <a:pt x="168" y="12"/>
                  </a:lnTo>
                  <a:lnTo>
                    <a:pt x="171" y="15"/>
                  </a:lnTo>
                  <a:lnTo>
                    <a:pt x="177" y="18"/>
                  </a:lnTo>
                  <a:lnTo>
                    <a:pt x="180" y="21"/>
                  </a:lnTo>
                  <a:lnTo>
                    <a:pt x="186" y="24"/>
                  </a:lnTo>
                  <a:lnTo>
                    <a:pt x="189" y="28"/>
                  </a:lnTo>
                  <a:lnTo>
                    <a:pt x="192" y="31"/>
                  </a:lnTo>
                  <a:lnTo>
                    <a:pt x="177" y="63"/>
                  </a:lnTo>
                  <a:lnTo>
                    <a:pt x="174" y="60"/>
                  </a:lnTo>
                  <a:lnTo>
                    <a:pt x="171" y="57"/>
                  </a:lnTo>
                  <a:lnTo>
                    <a:pt x="168" y="54"/>
                  </a:lnTo>
                  <a:lnTo>
                    <a:pt x="165" y="49"/>
                  </a:lnTo>
                  <a:lnTo>
                    <a:pt x="159" y="46"/>
                  </a:lnTo>
                  <a:lnTo>
                    <a:pt x="156" y="43"/>
                  </a:lnTo>
                  <a:lnTo>
                    <a:pt x="153" y="43"/>
                  </a:lnTo>
                  <a:lnTo>
                    <a:pt x="147" y="40"/>
                  </a:lnTo>
                  <a:lnTo>
                    <a:pt x="145" y="37"/>
                  </a:lnTo>
                  <a:lnTo>
                    <a:pt x="142" y="37"/>
                  </a:lnTo>
                  <a:lnTo>
                    <a:pt x="136" y="37"/>
                  </a:lnTo>
                  <a:lnTo>
                    <a:pt x="133" y="34"/>
                  </a:lnTo>
                  <a:lnTo>
                    <a:pt x="127" y="34"/>
                  </a:lnTo>
                  <a:lnTo>
                    <a:pt x="121" y="34"/>
                  </a:lnTo>
                  <a:lnTo>
                    <a:pt x="118" y="34"/>
                  </a:lnTo>
                  <a:lnTo>
                    <a:pt x="112" y="34"/>
                  </a:lnTo>
                  <a:lnTo>
                    <a:pt x="106" y="34"/>
                  </a:lnTo>
                  <a:lnTo>
                    <a:pt x="98" y="34"/>
                  </a:lnTo>
                  <a:lnTo>
                    <a:pt x="88" y="37"/>
                  </a:lnTo>
                  <a:lnTo>
                    <a:pt x="82" y="37"/>
                  </a:lnTo>
                  <a:lnTo>
                    <a:pt x="76" y="40"/>
                  </a:lnTo>
                  <a:lnTo>
                    <a:pt x="70" y="46"/>
                  </a:lnTo>
                  <a:lnTo>
                    <a:pt x="61" y="49"/>
                  </a:lnTo>
                  <a:lnTo>
                    <a:pt x="58" y="54"/>
                  </a:lnTo>
                  <a:lnTo>
                    <a:pt x="52" y="60"/>
                  </a:lnTo>
                  <a:lnTo>
                    <a:pt x="47" y="66"/>
                  </a:lnTo>
                  <a:lnTo>
                    <a:pt x="44" y="69"/>
                  </a:lnTo>
                  <a:lnTo>
                    <a:pt x="41" y="75"/>
                  </a:lnTo>
                  <a:lnTo>
                    <a:pt x="38" y="82"/>
                  </a:lnTo>
                  <a:lnTo>
                    <a:pt x="35" y="88"/>
                  </a:lnTo>
                  <a:lnTo>
                    <a:pt x="32" y="97"/>
                  </a:lnTo>
                  <a:lnTo>
                    <a:pt x="32" y="103"/>
                  </a:lnTo>
                  <a:lnTo>
                    <a:pt x="32" y="110"/>
                  </a:lnTo>
                  <a:lnTo>
                    <a:pt x="35" y="116"/>
                  </a:lnTo>
                  <a:lnTo>
                    <a:pt x="38" y="122"/>
                  </a:lnTo>
                  <a:lnTo>
                    <a:pt x="38" y="128"/>
                  </a:lnTo>
                  <a:lnTo>
                    <a:pt x="44" y="135"/>
                  </a:lnTo>
                  <a:lnTo>
                    <a:pt x="47" y="141"/>
                  </a:lnTo>
                  <a:lnTo>
                    <a:pt x="52" y="147"/>
                  </a:lnTo>
                  <a:lnTo>
                    <a:pt x="55" y="150"/>
                  </a:lnTo>
                  <a:lnTo>
                    <a:pt x="61" y="158"/>
                  </a:lnTo>
                  <a:lnTo>
                    <a:pt x="67" y="161"/>
                  </a:lnTo>
                  <a:lnTo>
                    <a:pt x="76" y="164"/>
                  </a:lnTo>
                  <a:lnTo>
                    <a:pt x="82" y="167"/>
                  </a:lnTo>
                  <a:lnTo>
                    <a:pt x="88" y="170"/>
                  </a:lnTo>
                  <a:lnTo>
                    <a:pt x="98" y="170"/>
                  </a:lnTo>
                  <a:lnTo>
                    <a:pt x="103" y="173"/>
                  </a:lnTo>
                  <a:lnTo>
                    <a:pt x="112" y="173"/>
                  </a:lnTo>
                  <a:lnTo>
                    <a:pt x="115" y="173"/>
                  </a:lnTo>
                  <a:lnTo>
                    <a:pt x="118" y="173"/>
                  </a:lnTo>
                  <a:lnTo>
                    <a:pt x="121" y="173"/>
                  </a:lnTo>
                  <a:lnTo>
                    <a:pt x="127" y="173"/>
                  </a:lnTo>
                  <a:lnTo>
                    <a:pt x="130" y="170"/>
                  </a:lnTo>
                  <a:lnTo>
                    <a:pt x="133" y="170"/>
                  </a:lnTo>
                  <a:lnTo>
                    <a:pt x="136" y="170"/>
                  </a:lnTo>
                  <a:lnTo>
                    <a:pt x="139" y="170"/>
                  </a:lnTo>
                  <a:lnTo>
                    <a:pt x="142" y="167"/>
                  </a:lnTo>
                  <a:lnTo>
                    <a:pt x="145" y="167"/>
                  </a:lnTo>
                  <a:lnTo>
                    <a:pt x="147" y="164"/>
                  </a:lnTo>
                  <a:lnTo>
                    <a:pt x="150" y="164"/>
                  </a:lnTo>
                  <a:lnTo>
                    <a:pt x="153" y="161"/>
                  </a:lnTo>
                  <a:lnTo>
                    <a:pt x="156" y="161"/>
                  </a:lnTo>
                  <a:lnTo>
                    <a:pt x="159" y="158"/>
                  </a:lnTo>
                  <a:lnTo>
                    <a:pt x="162" y="158"/>
                  </a:lnTo>
                  <a:lnTo>
                    <a:pt x="162" y="132"/>
                  </a:lnTo>
                  <a:lnTo>
                    <a:pt x="106" y="132"/>
                  </a:lnTo>
                  <a:lnTo>
                    <a:pt x="106" y="97"/>
                  </a:lnTo>
                  <a:lnTo>
                    <a:pt x="195" y="97"/>
                  </a:lnTo>
                  <a:lnTo>
                    <a:pt x="195" y="173"/>
                  </a:lnTo>
                  <a:close/>
                </a:path>
              </a:pathLst>
            </a:custGeom>
            <a:solidFill>
              <a:srgbClr val="000000"/>
            </a:solidFill>
            <a:ln w="0">
              <a:noFill/>
            </a:ln>
          </p:spPr>
          <p:txBody>
            <a:bodyPr lIns="90000" rIns="90000" tIns="28440" bIns="28440" anchor="t">
              <a:noAutofit/>
            </a:bodyPr>
            <a:p>
              <a:endParaRPr b="0" lang="en-US" sz="1800" spc="-1" strike="noStrike">
                <a:solidFill>
                  <a:srgbClr val="ffffff"/>
                </a:solidFill>
                <a:latin typeface="Arial"/>
              </a:endParaRPr>
            </a:p>
          </p:txBody>
        </p:sp>
        <p:sp>
          <p:nvSpPr>
            <p:cNvPr id="32" name=""/>
            <p:cNvSpPr/>
            <p:nvPr/>
          </p:nvSpPr>
          <p:spPr>
            <a:xfrm>
              <a:off x="8607600" y="6362640"/>
              <a:ext cx="59040" cy="66960"/>
            </a:xfrm>
            <a:custGeom>
              <a:avLst/>
              <a:gdLst/>
              <a:ahLst/>
              <a:rect l="0" t="0" r="r" b="b"/>
              <a:pathLst>
                <a:path w="164" h="186">
                  <a:moveTo>
                    <a:pt x="124" y="104"/>
                  </a:moveTo>
                  <a:lnTo>
                    <a:pt x="124" y="104"/>
                  </a:lnTo>
                  <a:lnTo>
                    <a:pt x="121" y="104"/>
                  </a:lnTo>
                  <a:lnTo>
                    <a:pt x="115" y="104"/>
                  </a:lnTo>
                  <a:lnTo>
                    <a:pt x="109" y="104"/>
                  </a:lnTo>
                  <a:lnTo>
                    <a:pt x="104" y="104"/>
                  </a:lnTo>
                  <a:lnTo>
                    <a:pt x="95" y="104"/>
                  </a:lnTo>
                  <a:lnTo>
                    <a:pt x="89" y="104"/>
                  </a:lnTo>
                  <a:lnTo>
                    <a:pt x="80" y="104"/>
                  </a:lnTo>
                  <a:lnTo>
                    <a:pt x="71" y="104"/>
                  </a:lnTo>
                  <a:lnTo>
                    <a:pt x="62" y="104"/>
                  </a:lnTo>
                  <a:lnTo>
                    <a:pt x="57" y="104"/>
                  </a:lnTo>
                  <a:lnTo>
                    <a:pt x="48" y="104"/>
                  </a:lnTo>
                  <a:lnTo>
                    <a:pt x="42" y="104"/>
                  </a:lnTo>
                  <a:lnTo>
                    <a:pt x="40" y="104"/>
                  </a:lnTo>
                  <a:lnTo>
                    <a:pt x="37" y="104"/>
                  </a:lnTo>
                  <a:lnTo>
                    <a:pt x="37" y="107"/>
                  </a:lnTo>
                  <a:lnTo>
                    <a:pt x="37" y="110"/>
                  </a:lnTo>
                  <a:lnTo>
                    <a:pt x="37" y="113"/>
                  </a:lnTo>
                  <a:lnTo>
                    <a:pt x="37" y="116"/>
                  </a:lnTo>
                  <a:lnTo>
                    <a:pt x="37" y="122"/>
                  </a:lnTo>
                  <a:lnTo>
                    <a:pt x="37" y="125"/>
                  </a:lnTo>
                  <a:lnTo>
                    <a:pt x="37" y="131"/>
                  </a:lnTo>
                  <a:lnTo>
                    <a:pt x="37" y="134"/>
                  </a:lnTo>
                  <a:lnTo>
                    <a:pt x="37" y="140"/>
                  </a:lnTo>
                  <a:lnTo>
                    <a:pt x="37" y="143"/>
                  </a:lnTo>
                  <a:lnTo>
                    <a:pt x="37" y="146"/>
                  </a:lnTo>
                  <a:lnTo>
                    <a:pt x="37" y="149"/>
                  </a:lnTo>
                  <a:lnTo>
                    <a:pt x="37" y="152"/>
                  </a:lnTo>
                  <a:lnTo>
                    <a:pt x="37" y="155"/>
                  </a:lnTo>
                  <a:lnTo>
                    <a:pt x="164" y="155"/>
                  </a:lnTo>
                  <a:lnTo>
                    <a:pt x="164" y="186"/>
                  </a:lnTo>
                  <a:lnTo>
                    <a:pt x="0" y="186"/>
                  </a:lnTo>
                  <a:lnTo>
                    <a:pt x="0" y="88"/>
                  </a:lnTo>
                  <a:lnTo>
                    <a:pt x="0" y="0"/>
                  </a:lnTo>
                  <a:lnTo>
                    <a:pt x="161" y="0"/>
                  </a:lnTo>
                  <a:lnTo>
                    <a:pt x="161" y="27"/>
                  </a:lnTo>
                  <a:lnTo>
                    <a:pt x="37" y="27"/>
                  </a:lnTo>
                  <a:lnTo>
                    <a:pt x="37" y="30"/>
                  </a:lnTo>
                  <a:lnTo>
                    <a:pt x="37" y="33"/>
                  </a:lnTo>
                  <a:lnTo>
                    <a:pt x="37" y="36"/>
                  </a:lnTo>
                  <a:lnTo>
                    <a:pt x="37" y="39"/>
                  </a:lnTo>
                  <a:lnTo>
                    <a:pt x="37" y="42"/>
                  </a:lnTo>
                  <a:lnTo>
                    <a:pt x="37" y="48"/>
                  </a:lnTo>
                  <a:lnTo>
                    <a:pt x="37" y="51"/>
                  </a:lnTo>
                  <a:lnTo>
                    <a:pt x="37" y="54"/>
                  </a:lnTo>
                  <a:lnTo>
                    <a:pt x="37" y="60"/>
                  </a:lnTo>
                  <a:lnTo>
                    <a:pt x="37" y="63"/>
                  </a:lnTo>
                  <a:lnTo>
                    <a:pt x="37" y="66"/>
                  </a:lnTo>
                  <a:lnTo>
                    <a:pt x="37" y="69"/>
                  </a:lnTo>
                  <a:lnTo>
                    <a:pt x="37" y="72"/>
                  </a:lnTo>
                  <a:lnTo>
                    <a:pt x="40" y="72"/>
                  </a:lnTo>
                  <a:lnTo>
                    <a:pt x="42" y="72"/>
                  </a:lnTo>
                  <a:lnTo>
                    <a:pt x="48" y="72"/>
                  </a:lnTo>
                  <a:lnTo>
                    <a:pt x="57" y="72"/>
                  </a:lnTo>
                  <a:lnTo>
                    <a:pt x="62" y="72"/>
                  </a:lnTo>
                  <a:lnTo>
                    <a:pt x="71" y="72"/>
                  </a:lnTo>
                  <a:lnTo>
                    <a:pt x="80" y="72"/>
                  </a:lnTo>
                  <a:lnTo>
                    <a:pt x="89" y="72"/>
                  </a:lnTo>
                  <a:lnTo>
                    <a:pt x="95" y="72"/>
                  </a:lnTo>
                  <a:lnTo>
                    <a:pt x="104" y="72"/>
                  </a:lnTo>
                  <a:lnTo>
                    <a:pt x="109" y="72"/>
                  </a:lnTo>
                  <a:lnTo>
                    <a:pt x="115" y="72"/>
                  </a:lnTo>
                  <a:lnTo>
                    <a:pt x="121" y="72"/>
                  </a:lnTo>
                  <a:lnTo>
                    <a:pt x="124" y="72"/>
                  </a:lnTo>
                  <a:lnTo>
                    <a:pt x="124" y="104"/>
                  </a:lnTo>
                  <a:close/>
                </a:path>
              </a:pathLst>
            </a:custGeom>
            <a:solidFill>
              <a:srgbClr val="000000"/>
            </a:solidFill>
            <a:ln w="0">
              <a:noFill/>
            </a:ln>
          </p:spPr>
          <p:txBody>
            <a:bodyPr lIns="90000" rIns="90000" tIns="21960" bIns="21960" anchor="t">
              <a:noAutofit/>
            </a:bodyPr>
            <a:p>
              <a:endParaRPr b="0" lang="en-US" sz="1800" spc="-1" strike="noStrike">
                <a:solidFill>
                  <a:srgbClr val="ffffff"/>
                </a:solidFill>
                <a:latin typeface="Arial"/>
              </a:endParaRPr>
            </a:p>
          </p:txBody>
        </p:sp>
        <p:sp>
          <p:nvSpPr>
            <p:cNvPr id="33" name=""/>
            <p:cNvSpPr/>
            <p:nvPr/>
          </p:nvSpPr>
          <p:spPr>
            <a:xfrm>
              <a:off x="8683560" y="6362640"/>
              <a:ext cx="68760" cy="70200"/>
            </a:xfrm>
            <a:custGeom>
              <a:avLst/>
              <a:gdLst/>
              <a:ahLst/>
              <a:rect l="0" t="0" r="r" b="b"/>
              <a:pathLst>
                <a:path w="191" h="195">
                  <a:moveTo>
                    <a:pt x="95" y="195"/>
                  </a:moveTo>
                  <a:lnTo>
                    <a:pt x="157" y="71"/>
                  </a:lnTo>
                  <a:lnTo>
                    <a:pt x="157" y="191"/>
                  </a:lnTo>
                  <a:lnTo>
                    <a:pt x="191" y="191"/>
                  </a:lnTo>
                  <a:lnTo>
                    <a:pt x="191" y="0"/>
                  </a:lnTo>
                  <a:lnTo>
                    <a:pt x="151" y="0"/>
                  </a:lnTo>
                  <a:lnTo>
                    <a:pt x="95" y="113"/>
                  </a:lnTo>
                  <a:lnTo>
                    <a:pt x="40" y="0"/>
                  </a:lnTo>
                  <a:lnTo>
                    <a:pt x="0" y="0"/>
                  </a:lnTo>
                  <a:lnTo>
                    <a:pt x="0" y="191"/>
                  </a:lnTo>
                  <a:lnTo>
                    <a:pt x="34" y="191"/>
                  </a:lnTo>
                  <a:lnTo>
                    <a:pt x="34" y="71"/>
                  </a:lnTo>
                  <a:lnTo>
                    <a:pt x="95" y="195"/>
                  </a:lnTo>
                  <a:close/>
                </a:path>
              </a:pathLst>
            </a:custGeom>
            <a:solidFill>
              <a:srgbClr val="000000"/>
            </a:solidFill>
            <a:ln w="0">
              <a:noFill/>
            </a:ln>
          </p:spPr>
          <p:txBody>
            <a:bodyPr lIns="90000" rIns="90000" tIns="25200" bIns="25200" anchor="t">
              <a:noAutofit/>
            </a:bodyPr>
            <a:p>
              <a:endParaRPr b="0" lang="en-US" sz="1800" spc="-1" strike="noStrike">
                <a:solidFill>
                  <a:srgbClr val="ffffff"/>
                </a:solidFill>
                <a:latin typeface="Arial"/>
              </a:endParaRPr>
            </a:p>
          </p:txBody>
        </p:sp>
        <p:sp>
          <p:nvSpPr>
            <p:cNvPr id="34" name=""/>
            <p:cNvSpPr/>
            <p:nvPr/>
          </p:nvSpPr>
          <p:spPr>
            <a:xfrm>
              <a:off x="8769240" y="6362640"/>
              <a:ext cx="60840" cy="66960"/>
            </a:xfrm>
            <a:custGeom>
              <a:avLst/>
              <a:gdLst/>
              <a:ahLst/>
              <a:rect l="0" t="0" r="r" b="b"/>
              <a:pathLst>
                <a:path w="169" h="186">
                  <a:moveTo>
                    <a:pt x="0" y="0"/>
                  </a:moveTo>
                  <a:lnTo>
                    <a:pt x="0" y="186"/>
                  </a:lnTo>
                  <a:lnTo>
                    <a:pt x="36" y="186"/>
                  </a:lnTo>
                  <a:lnTo>
                    <a:pt x="36" y="30"/>
                  </a:lnTo>
                  <a:lnTo>
                    <a:pt x="108" y="30"/>
                  </a:lnTo>
                  <a:lnTo>
                    <a:pt x="111" y="33"/>
                  </a:lnTo>
                  <a:lnTo>
                    <a:pt x="114" y="33"/>
                  </a:lnTo>
                  <a:lnTo>
                    <a:pt x="117" y="33"/>
                  </a:lnTo>
                  <a:lnTo>
                    <a:pt x="120" y="33"/>
                  </a:lnTo>
                  <a:lnTo>
                    <a:pt x="123" y="36"/>
                  </a:lnTo>
                  <a:lnTo>
                    <a:pt x="125" y="36"/>
                  </a:lnTo>
                  <a:lnTo>
                    <a:pt x="125" y="39"/>
                  </a:lnTo>
                  <a:lnTo>
                    <a:pt x="129" y="39"/>
                  </a:lnTo>
                  <a:lnTo>
                    <a:pt x="129" y="42"/>
                  </a:lnTo>
                  <a:lnTo>
                    <a:pt x="129" y="45"/>
                  </a:lnTo>
                  <a:lnTo>
                    <a:pt x="132" y="45"/>
                  </a:lnTo>
                  <a:lnTo>
                    <a:pt x="132" y="48"/>
                  </a:lnTo>
                  <a:lnTo>
                    <a:pt x="132" y="51"/>
                  </a:lnTo>
                  <a:lnTo>
                    <a:pt x="132" y="54"/>
                  </a:lnTo>
                  <a:lnTo>
                    <a:pt x="132" y="57"/>
                  </a:lnTo>
                  <a:lnTo>
                    <a:pt x="132" y="60"/>
                  </a:lnTo>
                  <a:lnTo>
                    <a:pt x="129" y="60"/>
                  </a:lnTo>
                  <a:lnTo>
                    <a:pt x="129" y="63"/>
                  </a:lnTo>
                  <a:lnTo>
                    <a:pt x="125" y="66"/>
                  </a:lnTo>
                  <a:lnTo>
                    <a:pt x="123" y="69"/>
                  </a:lnTo>
                  <a:lnTo>
                    <a:pt x="120" y="72"/>
                  </a:lnTo>
                  <a:lnTo>
                    <a:pt x="117" y="72"/>
                  </a:lnTo>
                  <a:lnTo>
                    <a:pt x="114" y="72"/>
                  </a:lnTo>
                  <a:lnTo>
                    <a:pt x="111" y="72"/>
                  </a:lnTo>
                  <a:lnTo>
                    <a:pt x="108" y="72"/>
                  </a:lnTo>
                  <a:lnTo>
                    <a:pt x="106" y="72"/>
                  </a:lnTo>
                  <a:lnTo>
                    <a:pt x="100" y="72"/>
                  </a:lnTo>
                  <a:lnTo>
                    <a:pt x="97" y="72"/>
                  </a:lnTo>
                  <a:lnTo>
                    <a:pt x="91" y="72"/>
                  </a:lnTo>
                  <a:lnTo>
                    <a:pt x="89" y="72"/>
                  </a:lnTo>
                  <a:lnTo>
                    <a:pt x="83" y="72"/>
                  </a:lnTo>
                  <a:lnTo>
                    <a:pt x="77" y="72"/>
                  </a:lnTo>
                  <a:lnTo>
                    <a:pt x="74" y="72"/>
                  </a:lnTo>
                  <a:lnTo>
                    <a:pt x="72" y="72"/>
                  </a:lnTo>
                  <a:lnTo>
                    <a:pt x="66" y="72"/>
                  </a:lnTo>
                  <a:lnTo>
                    <a:pt x="63" y="72"/>
                  </a:lnTo>
                  <a:lnTo>
                    <a:pt x="63" y="107"/>
                  </a:lnTo>
                  <a:lnTo>
                    <a:pt x="120" y="107"/>
                  </a:lnTo>
                  <a:lnTo>
                    <a:pt x="129" y="107"/>
                  </a:lnTo>
                  <a:lnTo>
                    <a:pt x="135" y="104"/>
                  </a:lnTo>
                  <a:lnTo>
                    <a:pt x="138" y="104"/>
                  </a:lnTo>
                  <a:lnTo>
                    <a:pt x="144" y="101"/>
                  </a:lnTo>
                  <a:lnTo>
                    <a:pt x="149" y="98"/>
                  </a:lnTo>
                  <a:lnTo>
                    <a:pt x="152" y="95"/>
                  </a:lnTo>
                  <a:lnTo>
                    <a:pt x="155" y="91"/>
                  </a:lnTo>
                  <a:lnTo>
                    <a:pt x="158" y="88"/>
                  </a:lnTo>
                  <a:lnTo>
                    <a:pt x="161" y="81"/>
                  </a:lnTo>
                  <a:lnTo>
                    <a:pt x="163" y="78"/>
                  </a:lnTo>
                  <a:lnTo>
                    <a:pt x="166" y="75"/>
                  </a:lnTo>
                  <a:lnTo>
                    <a:pt x="166" y="69"/>
                  </a:lnTo>
                  <a:lnTo>
                    <a:pt x="169" y="66"/>
                  </a:lnTo>
                  <a:lnTo>
                    <a:pt x="169" y="60"/>
                  </a:lnTo>
                  <a:lnTo>
                    <a:pt x="169" y="57"/>
                  </a:lnTo>
                  <a:lnTo>
                    <a:pt x="169" y="51"/>
                  </a:lnTo>
                  <a:lnTo>
                    <a:pt x="169" y="48"/>
                  </a:lnTo>
                  <a:lnTo>
                    <a:pt x="169" y="42"/>
                  </a:lnTo>
                  <a:lnTo>
                    <a:pt x="166" y="39"/>
                  </a:lnTo>
                  <a:lnTo>
                    <a:pt x="166" y="33"/>
                  </a:lnTo>
                  <a:lnTo>
                    <a:pt x="163" y="30"/>
                  </a:lnTo>
                  <a:lnTo>
                    <a:pt x="161" y="24"/>
                  </a:lnTo>
                  <a:lnTo>
                    <a:pt x="158" y="21"/>
                  </a:lnTo>
                  <a:lnTo>
                    <a:pt x="155" y="15"/>
                  </a:lnTo>
                  <a:lnTo>
                    <a:pt x="152" y="12"/>
                  </a:lnTo>
                  <a:lnTo>
                    <a:pt x="146" y="9"/>
                  </a:lnTo>
                  <a:lnTo>
                    <a:pt x="144" y="6"/>
                  </a:lnTo>
                  <a:lnTo>
                    <a:pt x="138" y="3"/>
                  </a:lnTo>
                  <a:lnTo>
                    <a:pt x="135" y="3"/>
                  </a:lnTo>
                  <a:lnTo>
                    <a:pt x="129" y="0"/>
                  </a:lnTo>
                  <a:lnTo>
                    <a:pt x="123" y="0"/>
                  </a:lnTo>
                  <a:lnTo>
                    <a:pt x="120" y="0"/>
                  </a:lnTo>
                  <a:lnTo>
                    <a:pt x="0" y="0"/>
                  </a:lnTo>
                  <a:close/>
                </a:path>
              </a:pathLst>
            </a:custGeom>
            <a:solidFill>
              <a:srgbClr val="000000"/>
            </a:solidFill>
            <a:ln w="0">
              <a:noFill/>
            </a:ln>
          </p:spPr>
          <p:txBody>
            <a:bodyPr lIns="90000" rIns="90000" tIns="21960" bIns="21960" anchor="t">
              <a:noAutofit/>
            </a:bodyPr>
            <a:p>
              <a:endParaRPr b="0" lang="en-US" sz="1800" spc="-1" strike="noStrike">
                <a:solidFill>
                  <a:srgbClr val="ffffff"/>
                </a:solidFill>
                <a:latin typeface="Arial"/>
              </a:endParaRPr>
            </a:p>
          </p:txBody>
        </p:sp>
        <p:sp>
          <p:nvSpPr>
            <p:cNvPr id="35" name=""/>
            <p:cNvSpPr/>
            <p:nvPr/>
          </p:nvSpPr>
          <p:spPr>
            <a:xfrm>
              <a:off x="8842320" y="6362640"/>
              <a:ext cx="59040" cy="66960"/>
            </a:xfrm>
            <a:custGeom>
              <a:avLst/>
              <a:gdLst/>
              <a:ahLst/>
              <a:rect l="0" t="0" r="r" b="b"/>
              <a:pathLst>
                <a:path w="164" h="186">
                  <a:moveTo>
                    <a:pt x="0" y="0"/>
                  </a:moveTo>
                  <a:lnTo>
                    <a:pt x="0" y="186"/>
                  </a:lnTo>
                  <a:lnTo>
                    <a:pt x="164" y="186"/>
                  </a:lnTo>
                  <a:lnTo>
                    <a:pt x="164" y="149"/>
                  </a:lnTo>
                  <a:lnTo>
                    <a:pt x="38" y="149"/>
                  </a:lnTo>
                  <a:lnTo>
                    <a:pt x="38" y="0"/>
                  </a:lnTo>
                  <a:lnTo>
                    <a:pt x="0" y="0"/>
                  </a:lnTo>
                  <a:close/>
                </a:path>
              </a:pathLst>
            </a:custGeom>
            <a:solidFill>
              <a:srgbClr val="000000"/>
            </a:solidFill>
            <a:ln w="0">
              <a:noFill/>
            </a:ln>
          </p:spPr>
          <p:txBody>
            <a:bodyPr lIns="90000" rIns="90000" tIns="21960" bIns="21960" anchor="t">
              <a:noAutofit/>
            </a:bodyPr>
            <a:p>
              <a:endParaRPr b="0" lang="en-US" sz="1800" spc="-1" strike="noStrike">
                <a:solidFill>
                  <a:srgbClr val="ffffff"/>
                </a:solidFill>
                <a:latin typeface="Arial"/>
              </a:endParaRPr>
            </a:p>
          </p:txBody>
        </p:sp>
        <p:sp>
          <p:nvSpPr>
            <p:cNvPr id="36" name=""/>
            <p:cNvSpPr/>
            <p:nvPr/>
          </p:nvSpPr>
          <p:spPr>
            <a:xfrm>
              <a:off x="8915400" y="6362640"/>
              <a:ext cx="62280" cy="70200"/>
            </a:xfrm>
            <a:custGeom>
              <a:avLst/>
              <a:gdLst/>
              <a:ahLst/>
              <a:rect l="0" t="0" r="r" b="b"/>
              <a:pathLst>
                <a:path w="173" h="195">
                  <a:moveTo>
                    <a:pt x="86" y="195"/>
                  </a:moveTo>
                  <a:lnTo>
                    <a:pt x="95" y="195"/>
                  </a:lnTo>
                  <a:lnTo>
                    <a:pt x="103" y="191"/>
                  </a:lnTo>
                  <a:lnTo>
                    <a:pt x="111" y="191"/>
                  </a:lnTo>
                  <a:lnTo>
                    <a:pt x="120" y="191"/>
                  </a:lnTo>
                  <a:lnTo>
                    <a:pt x="125" y="188"/>
                  </a:lnTo>
                  <a:lnTo>
                    <a:pt x="135" y="185"/>
                  </a:lnTo>
                  <a:lnTo>
                    <a:pt x="140" y="182"/>
                  </a:lnTo>
                  <a:lnTo>
                    <a:pt x="146" y="179"/>
                  </a:lnTo>
                  <a:lnTo>
                    <a:pt x="151" y="176"/>
                  </a:lnTo>
                  <a:lnTo>
                    <a:pt x="157" y="173"/>
                  </a:lnTo>
                  <a:lnTo>
                    <a:pt x="162" y="167"/>
                  </a:lnTo>
                  <a:lnTo>
                    <a:pt x="165" y="161"/>
                  </a:lnTo>
                  <a:lnTo>
                    <a:pt x="168" y="154"/>
                  </a:lnTo>
                  <a:lnTo>
                    <a:pt x="171" y="148"/>
                  </a:lnTo>
                  <a:lnTo>
                    <a:pt x="173" y="142"/>
                  </a:lnTo>
                  <a:lnTo>
                    <a:pt x="173" y="136"/>
                  </a:lnTo>
                  <a:lnTo>
                    <a:pt x="173" y="0"/>
                  </a:lnTo>
                  <a:lnTo>
                    <a:pt x="137" y="0"/>
                  </a:lnTo>
                  <a:lnTo>
                    <a:pt x="137" y="130"/>
                  </a:lnTo>
                  <a:lnTo>
                    <a:pt x="137" y="133"/>
                  </a:lnTo>
                  <a:lnTo>
                    <a:pt x="137" y="139"/>
                  </a:lnTo>
                  <a:lnTo>
                    <a:pt x="135" y="142"/>
                  </a:lnTo>
                  <a:lnTo>
                    <a:pt x="132" y="145"/>
                  </a:lnTo>
                  <a:lnTo>
                    <a:pt x="132" y="148"/>
                  </a:lnTo>
                  <a:lnTo>
                    <a:pt x="128" y="148"/>
                  </a:lnTo>
                  <a:lnTo>
                    <a:pt x="125" y="151"/>
                  </a:lnTo>
                  <a:lnTo>
                    <a:pt x="120" y="154"/>
                  </a:lnTo>
                  <a:lnTo>
                    <a:pt x="117" y="154"/>
                  </a:lnTo>
                  <a:lnTo>
                    <a:pt x="114" y="158"/>
                  </a:lnTo>
                  <a:lnTo>
                    <a:pt x="109" y="158"/>
                  </a:lnTo>
                  <a:lnTo>
                    <a:pt x="106" y="158"/>
                  </a:lnTo>
                  <a:lnTo>
                    <a:pt x="100" y="161"/>
                  </a:lnTo>
                  <a:lnTo>
                    <a:pt x="95" y="161"/>
                  </a:lnTo>
                  <a:lnTo>
                    <a:pt x="92" y="161"/>
                  </a:lnTo>
                  <a:lnTo>
                    <a:pt x="86" y="161"/>
                  </a:lnTo>
                  <a:lnTo>
                    <a:pt x="81" y="161"/>
                  </a:lnTo>
                  <a:lnTo>
                    <a:pt x="78" y="161"/>
                  </a:lnTo>
                  <a:lnTo>
                    <a:pt x="73" y="161"/>
                  </a:lnTo>
                  <a:lnTo>
                    <a:pt x="67" y="158"/>
                  </a:lnTo>
                  <a:lnTo>
                    <a:pt x="64" y="158"/>
                  </a:lnTo>
                  <a:lnTo>
                    <a:pt x="59" y="158"/>
                  </a:lnTo>
                  <a:lnTo>
                    <a:pt x="56" y="154"/>
                  </a:lnTo>
                  <a:lnTo>
                    <a:pt x="53" y="154"/>
                  </a:lnTo>
                  <a:lnTo>
                    <a:pt x="50" y="151"/>
                  </a:lnTo>
                  <a:lnTo>
                    <a:pt x="45" y="148"/>
                  </a:lnTo>
                  <a:lnTo>
                    <a:pt x="41" y="148"/>
                  </a:lnTo>
                  <a:lnTo>
                    <a:pt x="41" y="145"/>
                  </a:lnTo>
                  <a:lnTo>
                    <a:pt x="38" y="142"/>
                  </a:lnTo>
                  <a:lnTo>
                    <a:pt x="38" y="139"/>
                  </a:lnTo>
                  <a:lnTo>
                    <a:pt x="36" y="133"/>
                  </a:lnTo>
                  <a:lnTo>
                    <a:pt x="36" y="130"/>
                  </a:lnTo>
                  <a:lnTo>
                    <a:pt x="36" y="0"/>
                  </a:lnTo>
                  <a:lnTo>
                    <a:pt x="0" y="0"/>
                  </a:lnTo>
                  <a:lnTo>
                    <a:pt x="0" y="136"/>
                  </a:lnTo>
                  <a:lnTo>
                    <a:pt x="2" y="142"/>
                  </a:lnTo>
                  <a:lnTo>
                    <a:pt x="2" y="148"/>
                  </a:lnTo>
                  <a:lnTo>
                    <a:pt x="5" y="154"/>
                  </a:lnTo>
                  <a:lnTo>
                    <a:pt x="8" y="161"/>
                  </a:lnTo>
                  <a:lnTo>
                    <a:pt x="11" y="167"/>
                  </a:lnTo>
                  <a:lnTo>
                    <a:pt x="16" y="173"/>
                  </a:lnTo>
                  <a:lnTo>
                    <a:pt x="22" y="176"/>
                  </a:lnTo>
                  <a:lnTo>
                    <a:pt x="27" y="179"/>
                  </a:lnTo>
                  <a:lnTo>
                    <a:pt x="33" y="182"/>
                  </a:lnTo>
                  <a:lnTo>
                    <a:pt x="38" y="185"/>
                  </a:lnTo>
                  <a:lnTo>
                    <a:pt x="48" y="188"/>
                  </a:lnTo>
                  <a:lnTo>
                    <a:pt x="53" y="191"/>
                  </a:lnTo>
                  <a:lnTo>
                    <a:pt x="62" y="191"/>
                  </a:lnTo>
                  <a:lnTo>
                    <a:pt x="70" y="191"/>
                  </a:lnTo>
                  <a:lnTo>
                    <a:pt x="78" y="195"/>
                  </a:lnTo>
                  <a:lnTo>
                    <a:pt x="86" y="195"/>
                  </a:lnTo>
                  <a:close/>
                </a:path>
              </a:pathLst>
            </a:custGeom>
            <a:solidFill>
              <a:srgbClr val="000000"/>
            </a:solidFill>
            <a:ln w="0">
              <a:noFill/>
            </a:ln>
          </p:spPr>
          <p:txBody>
            <a:bodyPr lIns="90000" rIns="90000" tIns="25200" bIns="25200" anchor="t">
              <a:noAutofit/>
            </a:bodyPr>
            <a:p>
              <a:endParaRPr b="0" lang="en-US" sz="1800" spc="-1" strike="noStrike">
                <a:solidFill>
                  <a:srgbClr val="ffffff"/>
                </a:solidFill>
                <a:latin typeface="Arial"/>
              </a:endParaRPr>
            </a:p>
          </p:txBody>
        </p:sp>
        <p:sp>
          <p:nvSpPr>
            <p:cNvPr id="37" name=""/>
            <p:cNvSpPr/>
            <p:nvPr/>
          </p:nvSpPr>
          <p:spPr>
            <a:xfrm>
              <a:off x="8994600" y="6359400"/>
              <a:ext cx="66960" cy="73440"/>
            </a:xfrm>
            <a:custGeom>
              <a:avLst/>
              <a:gdLst/>
              <a:ahLst/>
              <a:rect l="0" t="0" r="r" b="b"/>
              <a:pathLst>
                <a:path w="186" h="204">
                  <a:moveTo>
                    <a:pt x="86" y="118"/>
                  </a:moveTo>
                  <a:lnTo>
                    <a:pt x="81" y="118"/>
                  </a:lnTo>
                  <a:lnTo>
                    <a:pt x="75" y="118"/>
                  </a:lnTo>
                  <a:lnTo>
                    <a:pt x="72" y="118"/>
                  </a:lnTo>
                  <a:lnTo>
                    <a:pt x="66" y="118"/>
                  </a:lnTo>
                  <a:lnTo>
                    <a:pt x="57" y="115"/>
                  </a:lnTo>
                  <a:lnTo>
                    <a:pt x="52" y="115"/>
                  </a:lnTo>
                  <a:lnTo>
                    <a:pt x="46" y="111"/>
                  </a:lnTo>
                  <a:lnTo>
                    <a:pt x="40" y="108"/>
                  </a:lnTo>
                  <a:lnTo>
                    <a:pt x="31" y="105"/>
                  </a:lnTo>
                  <a:lnTo>
                    <a:pt x="26" y="102"/>
                  </a:lnTo>
                  <a:lnTo>
                    <a:pt x="20" y="96"/>
                  </a:lnTo>
                  <a:lnTo>
                    <a:pt x="17" y="92"/>
                  </a:lnTo>
                  <a:lnTo>
                    <a:pt x="11" y="86"/>
                  </a:lnTo>
                  <a:lnTo>
                    <a:pt x="8" y="80"/>
                  </a:lnTo>
                  <a:lnTo>
                    <a:pt x="8" y="70"/>
                  </a:lnTo>
                  <a:lnTo>
                    <a:pt x="8" y="64"/>
                  </a:lnTo>
                  <a:lnTo>
                    <a:pt x="8" y="54"/>
                  </a:lnTo>
                  <a:lnTo>
                    <a:pt x="11" y="44"/>
                  </a:lnTo>
                  <a:lnTo>
                    <a:pt x="14" y="34"/>
                  </a:lnTo>
                  <a:lnTo>
                    <a:pt x="20" y="28"/>
                  </a:lnTo>
                  <a:lnTo>
                    <a:pt x="23" y="22"/>
                  </a:lnTo>
                  <a:lnTo>
                    <a:pt x="31" y="19"/>
                  </a:lnTo>
                  <a:lnTo>
                    <a:pt x="37" y="15"/>
                  </a:lnTo>
                  <a:lnTo>
                    <a:pt x="43" y="9"/>
                  </a:lnTo>
                  <a:lnTo>
                    <a:pt x="52" y="9"/>
                  </a:lnTo>
                  <a:lnTo>
                    <a:pt x="57" y="6"/>
                  </a:lnTo>
                  <a:lnTo>
                    <a:pt x="66" y="3"/>
                  </a:lnTo>
                  <a:lnTo>
                    <a:pt x="72" y="3"/>
                  </a:lnTo>
                  <a:lnTo>
                    <a:pt x="78" y="3"/>
                  </a:lnTo>
                  <a:lnTo>
                    <a:pt x="83" y="0"/>
                  </a:lnTo>
                  <a:lnTo>
                    <a:pt x="86" y="0"/>
                  </a:lnTo>
                  <a:lnTo>
                    <a:pt x="89" y="0"/>
                  </a:lnTo>
                  <a:lnTo>
                    <a:pt x="92" y="0"/>
                  </a:lnTo>
                  <a:lnTo>
                    <a:pt x="99" y="0"/>
                  </a:lnTo>
                  <a:lnTo>
                    <a:pt x="102" y="0"/>
                  </a:lnTo>
                  <a:lnTo>
                    <a:pt x="108" y="3"/>
                  </a:lnTo>
                  <a:lnTo>
                    <a:pt x="113" y="3"/>
                  </a:lnTo>
                  <a:lnTo>
                    <a:pt x="119" y="3"/>
                  </a:lnTo>
                  <a:lnTo>
                    <a:pt x="125" y="6"/>
                  </a:lnTo>
                  <a:lnTo>
                    <a:pt x="131" y="6"/>
                  </a:lnTo>
                  <a:lnTo>
                    <a:pt x="137" y="9"/>
                  </a:lnTo>
                  <a:lnTo>
                    <a:pt x="145" y="12"/>
                  </a:lnTo>
                  <a:lnTo>
                    <a:pt x="151" y="12"/>
                  </a:lnTo>
                  <a:lnTo>
                    <a:pt x="160" y="19"/>
                  </a:lnTo>
                  <a:lnTo>
                    <a:pt x="165" y="22"/>
                  </a:lnTo>
                  <a:lnTo>
                    <a:pt x="174" y="25"/>
                  </a:lnTo>
                  <a:lnTo>
                    <a:pt x="180" y="31"/>
                  </a:lnTo>
                  <a:lnTo>
                    <a:pt x="186" y="38"/>
                  </a:lnTo>
                  <a:lnTo>
                    <a:pt x="183" y="41"/>
                  </a:lnTo>
                  <a:lnTo>
                    <a:pt x="180" y="44"/>
                  </a:lnTo>
                  <a:lnTo>
                    <a:pt x="177" y="47"/>
                  </a:lnTo>
                  <a:lnTo>
                    <a:pt x="174" y="50"/>
                  </a:lnTo>
                  <a:lnTo>
                    <a:pt x="171" y="54"/>
                  </a:lnTo>
                  <a:lnTo>
                    <a:pt x="168" y="58"/>
                  </a:lnTo>
                  <a:lnTo>
                    <a:pt x="165" y="61"/>
                  </a:lnTo>
                  <a:lnTo>
                    <a:pt x="163" y="64"/>
                  </a:lnTo>
                  <a:lnTo>
                    <a:pt x="160" y="61"/>
                  </a:lnTo>
                  <a:lnTo>
                    <a:pt x="157" y="58"/>
                  </a:lnTo>
                  <a:lnTo>
                    <a:pt x="154" y="54"/>
                  </a:lnTo>
                  <a:lnTo>
                    <a:pt x="148" y="50"/>
                  </a:lnTo>
                  <a:lnTo>
                    <a:pt x="145" y="47"/>
                  </a:lnTo>
                  <a:lnTo>
                    <a:pt x="139" y="44"/>
                  </a:lnTo>
                  <a:lnTo>
                    <a:pt x="137" y="44"/>
                  </a:lnTo>
                  <a:lnTo>
                    <a:pt x="131" y="41"/>
                  </a:lnTo>
                  <a:lnTo>
                    <a:pt x="125" y="41"/>
                  </a:lnTo>
                  <a:lnTo>
                    <a:pt x="122" y="38"/>
                  </a:lnTo>
                  <a:lnTo>
                    <a:pt x="116" y="38"/>
                  </a:lnTo>
                  <a:lnTo>
                    <a:pt x="110" y="34"/>
                  </a:lnTo>
                  <a:lnTo>
                    <a:pt x="108" y="34"/>
                  </a:lnTo>
                  <a:lnTo>
                    <a:pt x="102" y="34"/>
                  </a:lnTo>
                  <a:lnTo>
                    <a:pt x="99" y="34"/>
                  </a:lnTo>
                  <a:lnTo>
                    <a:pt x="92" y="34"/>
                  </a:lnTo>
                  <a:lnTo>
                    <a:pt x="86" y="34"/>
                  </a:lnTo>
                  <a:lnTo>
                    <a:pt x="83" y="34"/>
                  </a:lnTo>
                  <a:lnTo>
                    <a:pt x="78" y="34"/>
                  </a:lnTo>
                  <a:lnTo>
                    <a:pt x="75" y="34"/>
                  </a:lnTo>
                  <a:lnTo>
                    <a:pt x="72" y="34"/>
                  </a:lnTo>
                  <a:lnTo>
                    <a:pt x="66" y="38"/>
                  </a:lnTo>
                  <a:lnTo>
                    <a:pt x="63" y="38"/>
                  </a:lnTo>
                  <a:lnTo>
                    <a:pt x="60" y="38"/>
                  </a:lnTo>
                  <a:lnTo>
                    <a:pt x="57" y="41"/>
                  </a:lnTo>
                  <a:lnTo>
                    <a:pt x="54" y="44"/>
                  </a:lnTo>
                  <a:lnTo>
                    <a:pt x="52" y="44"/>
                  </a:lnTo>
                  <a:lnTo>
                    <a:pt x="49" y="47"/>
                  </a:lnTo>
                  <a:lnTo>
                    <a:pt x="49" y="50"/>
                  </a:lnTo>
                  <a:lnTo>
                    <a:pt x="46" y="54"/>
                  </a:lnTo>
                  <a:lnTo>
                    <a:pt x="46" y="58"/>
                  </a:lnTo>
                  <a:lnTo>
                    <a:pt x="46" y="61"/>
                  </a:lnTo>
                  <a:lnTo>
                    <a:pt x="46" y="64"/>
                  </a:lnTo>
                  <a:lnTo>
                    <a:pt x="49" y="67"/>
                  </a:lnTo>
                  <a:lnTo>
                    <a:pt x="49" y="70"/>
                  </a:lnTo>
                  <a:lnTo>
                    <a:pt x="52" y="70"/>
                  </a:lnTo>
                  <a:lnTo>
                    <a:pt x="54" y="73"/>
                  </a:lnTo>
                  <a:lnTo>
                    <a:pt x="57" y="73"/>
                  </a:lnTo>
                  <a:lnTo>
                    <a:pt x="60" y="77"/>
                  </a:lnTo>
                  <a:lnTo>
                    <a:pt x="63" y="77"/>
                  </a:lnTo>
                  <a:lnTo>
                    <a:pt x="69" y="77"/>
                  </a:lnTo>
                  <a:lnTo>
                    <a:pt x="72" y="77"/>
                  </a:lnTo>
                  <a:lnTo>
                    <a:pt x="78" y="80"/>
                  </a:lnTo>
                  <a:lnTo>
                    <a:pt x="83" y="80"/>
                  </a:lnTo>
                  <a:lnTo>
                    <a:pt x="89" y="80"/>
                  </a:lnTo>
                  <a:lnTo>
                    <a:pt x="96" y="80"/>
                  </a:lnTo>
                  <a:lnTo>
                    <a:pt x="102" y="80"/>
                  </a:lnTo>
                  <a:lnTo>
                    <a:pt x="108" y="83"/>
                  </a:lnTo>
                  <a:lnTo>
                    <a:pt x="110" y="83"/>
                  </a:lnTo>
                  <a:lnTo>
                    <a:pt x="116" y="83"/>
                  </a:lnTo>
                  <a:lnTo>
                    <a:pt x="122" y="83"/>
                  </a:lnTo>
                  <a:lnTo>
                    <a:pt x="128" y="86"/>
                  </a:lnTo>
                  <a:lnTo>
                    <a:pt x="137" y="86"/>
                  </a:lnTo>
                  <a:lnTo>
                    <a:pt x="142" y="89"/>
                  </a:lnTo>
                  <a:lnTo>
                    <a:pt x="148" y="92"/>
                  </a:lnTo>
                  <a:lnTo>
                    <a:pt x="157" y="96"/>
                  </a:lnTo>
                  <a:lnTo>
                    <a:pt x="163" y="102"/>
                  </a:lnTo>
                  <a:lnTo>
                    <a:pt x="168" y="105"/>
                  </a:lnTo>
                  <a:lnTo>
                    <a:pt x="171" y="111"/>
                  </a:lnTo>
                  <a:lnTo>
                    <a:pt x="177" y="118"/>
                  </a:lnTo>
                  <a:lnTo>
                    <a:pt x="180" y="127"/>
                  </a:lnTo>
                  <a:lnTo>
                    <a:pt x="180" y="137"/>
                  </a:lnTo>
                  <a:lnTo>
                    <a:pt x="183" y="146"/>
                  </a:lnTo>
                  <a:lnTo>
                    <a:pt x="180" y="157"/>
                  </a:lnTo>
                  <a:lnTo>
                    <a:pt x="180" y="163"/>
                  </a:lnTo>
                  <a:lnTo>
                    <a:pt x="174" y="173"/>
                  </a:lnTo>
                  <a:lnTo>
                    <a:pt x="171" y="179"/>
                  </a:lnTo>
                  <a:lnTo>
                    <a:pt x="165" y="185"/>
                  </a:lnTo>
                  <a:lnTo>
                    <a:pt x="157" y="188"/>
                  </a:lnTo>
                  <a:lnTo>
                    <a:pt x="151" y="195"/>
                  </a:lnTo>
                  <a:lnTo>
                    <a:pt x="142" y="198"/>
                  </a:lnTo>
                  <a:lnTo>
                    <a:pt x="134" y="198"/>
                  </a:lnTo>
                  <a:lnTo>
                    <a:pt x="128" y="201"/>
                  </a:lnTo>
                  <a:lnTo>
                    <a:pt x="119" y="204"/>
                  </a:lnTo>
                  <a:lnTo>
                    <a:pt x="113" y="204"/>
                  </a:lnTo>
                  <a:lnTo>
                    <a:pt x="108" y="204"/>
                  </a:lnTo>
                  <a:lnTo>
                    <a:pt x="102" y="204"/>
                  </a:lnTo>
                  <a:lnTo>
                    <a:pt x="96" y="204"/>
                  </a:lnTo>
                  <a:lnTo>
                    <a:pt x="92" y="204"/>
                  </a:lnTo>
                  <a:lnTo>
                    <a:pt x="89" y="204"/>
                  </a:lnTo>
                  <a:lnTo>
                    <a:pt x="86" y="204"/>
                  </a:lnTo>
                  <a:lnTo>
                    <a:pt x="83" y="204"/>
                  </a:lnTo>
                  <a:lnTo>
                    <a:pt x="78" y="204"/>
                  </a:lnTo>
                  <a:lnTo>
                    <a:pt x="72" y="204"/>
                  </a:lnTo>
                  <a:lnTo>
                    <a:pt x="66" y="201"/>
                  </a:lnTo>
                  <a:lnTo>
                    <a:pt x="60" y="201"/>
                  </a:lnTo>
                  <a:lnTo>
                    <a:pt x="54" y="201"/>
                  </a:lnTo>
                  <a:lnTo>
                    <a:pt x="46" y="198"/>
                  </a:lnTo>
                  <a:lnTo>
                    <a:pt x="40" y="195"/>
                  </a:lnTo>
                  <a:lnTo>
                    <a:pt x="31" y="192"/>
                  </a:lnTo>
                  <a:lnTo>
                    <a:pt x="26" y="188"/>
                  </a:lnTo>
                  <a:lnTo>
                    <a:pt x="20" y="185"/>
                  </a:lnTo>
                  <a:lnTo>
                    <a:pt x="11" y="179"/>
                  </a:lnTo>
                  <a:lnTo>
                    <a:pt x="5" y="176"/>
                  </a:lnTo>
                  <a:lnTo>
                    <a:pt x="0" y="169"/>
                  </a:lnTo>
                  <a:lnTo>
                    <a:pt x="0" y="166"/>
                  </a:lnTo>
                  <a:lnTo>
                    <a:pt x="2" y="163"/>
                  </a:lnTo>
                  <a:lnTo>
                    <a:pt x="5" y="160"/>
                  </a:lnTo>
                  <a:lnTo>
                    <a:pt x="5" y="157"/>
                  </a:lnTo>
                  <a:lnTo>
                    <a:pt x="8" y="154"/>
                  </a:lnTo>
                  <a:lnTo>
                    <a:pt x="11" y="149"/>
                  </a:lnTo>
                  <a:lnTo>
                    <a:pt x="14" y="146"/>
                  </a:lnTo>
                  <a:lnTo>
                    <a:pt x="14" y="143"/>
                  </a:lnTo>
                  <a:lnTo>
                    <a:pt x="17" y="143"/>
                  </a:lnTo>
                  <a:lnTo>
                    <a:pt x="17" y="140"/>
                  </a:lnTo>
                  <a:lnTo>
                    <a:pt x="20" y="140"/>
                  </a:lnTo>
                  <a:lnTo>
                    <a:pt x="23" y="143"/>
                  </a:lnTo>
                  <a:lnTo>
                    <a:pt x="26" y="146"/>
                  </a:lnTo>
                  <a:lnTo>
                    <a:pt x="28" y="149"/>
                  </a:lnTo>
                  <a:lnTo>
                    <a:pt x="34" y="154"/>
                  </a:lnTo>
                  <a:lnTo>
                    <a:pt x="37" y="157"/>
                  </a:lnTo>
                  <a:lnTo>
                    <a:pt x="43" y="160"/>
                  </a:lnTo>
                  <a:lnTo>
                    <a:pt x="46" y="160"/>
                  </a:lnTo>
                  <a:lnTo>
                    <a:pt x="52" y="163"/>
                  </a:lnTo>
                  <a:lnTo>
                    <a:pt x="57" y="166"/>
                  </a:lnTo>
                  <a:lnTo>
                    <a:pt x="63" y="166"/>
                  </a:lnTo>
                  <a:lnTo>
                    <a:pt x="66" y="169"/>
                  </a:lnTo>
                  <a:lnTo>
                    <a:pt x="72" y="169"/>
                  </a:lnTo>
                  <a:lnTo>
                    <a:pt x="78" y="169"/>
                  </a:lnTo>
                  <a:lnTo>
                    <a:pt x="83" y="173"/>
                  </a:lnTo>
                  <a:lnTo>
                    <a:pt x="86" y="173"/>
                  </a:lnTo>
                  <a:lnTo>
                    <a:pt x="92" y="173"/>
                  </a:lnTo>
                  <a:lnTo>
                    <a:pt x="96" y="173"/>
                  </a:lnTo>
                  <a:lnTo>
                    <a:pt x="102" y="173"/>
                  </a:lnTo>
                  <a:lnTo>
                    <a:pt x="105" y="173"/>
                  </a:lnTo>
                  <a:lnTo>
                    <a:pt x="110" y="169"/>
                  </a:lnTo>
                  <a:lnTo>
                    <a:pt x="113" y="169"/>
                  </a:lnTo>
                  <a:lnTo>
                    <a:pt x="119" y="169"/>
                  </a:lnTo>
                  <a:lnTo>
                    <a:pt x="122" y="166"/>
                  </a:lnTo>
                  <a:lnTo>
                    <a:pt x="125" y="166"/>
                  </a:lnTo>
                  <a:lnTo>
                    <a:pt x="128" y="163"/>
                  </a:lnTo>
                  <a:lnTo>
                    <a:pt x="134" y="163"/>
                  </a:lnTo>
                  <a:lnTo>
                    <a:pt x="137" y="160"/>
                  </a:lnTo>
                  <a:lnTo>
                    <a:pt x="137" y="157"/>
                  </a:lnTo>
                  <a:lnTo>
                    <a:pt x="139" y="154"/>
                  </a:lnTo>
                  <a:lnTo>
                    <a:pt x="142" y="146"/>
                  </a:lnTo>
                  <a:lnTo>
                    <a:pt x="142" y="143"/>
                  </a:lnTo>
                  <a:lnTo>
                    <a:pt x="142" y="140"/>
                  </a:lnTo>
                  <a:lnTo>
                    <a:pt x="139" y="137"/>
                  </a:lnTo>
                  <a:lnTo>
                    <a:pt x="139" y="134"/>
                  </a:lnTo>
                  <a:lnTo>
                    <a:pt x="137" y="130"/>
                  </a:lnTo>
                  <a:lnTo>
                    <a:pt x="134" y="130"/>
                  </a:lnTo>
                  <a:lnTo>
                    <a:pt x="131" y="127"/>
                  </a:lnTo>
                  <a:lnTo>
                    <a:pt x="128" y="127"/>
                  </a:lnTo>
                  <a:lnTo>
                    <a:pt x="125" y="124"/>
                  </a:lnTo>
                  <a:lnTo>
                    <a:pt x="119" y="124"/>
                  </a:lnTo>
                  <a:lnTo>
                    <a:pt x="116" y="124"/>
                  </a:lnTo>
                  <a:lnTo>
                    <a:pt x="110" y="121"/>
                  </a:lnTo>
                  <a:lnTo>
                    <a:pt x="105" y="121"/>
                  </a:lnTo>
                  <a:lnTo>
                    <a:pt x="99" y="121"/>
                  </a:lnTo>
                  <a:lnTo>
                    <a:pt x="92" y="121"/>
                  </a:lnTo>
                  <a:lnTo>
                    <a:pt x="86" y="118"/>
                  </a:lnTo>
                  <a:close/>
                </a:path>
              </a:pathLst>
            </a:custGeom>
            <a:solidFill>
              <a:srgbClr val="000000"/>
            </a:solidFill>
            <a:ln w="0">
              <a:noFill/>
            </a:ln>
          </p:spPr>
          <p:txBody>
            <a:bodyPr lIns="90000" rIns="90000" tIns="28440" bIns="28440" anchor="t">
              <a:noAutofit/>
            </a:bodyPr>
            <a:p>
              <a:endParaRPr b="0" lang="en-US" sz="1800" spc="-1" strike="noStrike">
                <a:solidFill>
                  <a:srgbClr val="ffffff"/>
                </a:solidFill>
                <a:latin typeface="Arial"/>
              </a:endParaRPr>
            </a:p>
          </p:txBody>
        </p:sp>
        <p:grpSp>
          <p:nvGrpSpPr>
            <p:cNvPr id="38" name=""/>
            <p:cNvGrpSpPr/>
            <p:nvPr/>
          </p:nvGrpSpPr>
          <p:grpSpPr>
            <a:xfrm>
              <a:off x="8613720" y="5695920"/>
              <a:ext cx="360720" cy="594360"/>
              <a:chOff x="8613720" y="5695920"/>
              <a:chExt cx="360720" cy="594360"/>
            </a:xfrm>
          </p:grpSpPr>
          <p:grpSp>
            <p:nvGrpSpPr>
              <p:cNvPr id="39" name=""/>
              <p:cNvGrpSpPr/>
              <p:nvPr/>
            </p:nvGrpSpPr>
            <p:grpSpPr>
              <a:xfrm>
                <a:off x="8613720" y="5699160"/>
                <a:ext cx="357480" cy="578160"/>
                <a:chOff x="8613720" y="5699160"/>
                <a:chExt cx="357480" cy="578160"/>
              </a:xfrm>
            </p:grpSpPr>
            <p:sp>
              <p:nvSpPr>
                <p:cNvPr id="40" name=""/>
                <p:cNvSpPr/>
                <p:nvPr/>
              </p:nvSpPr>
              <p:spPr>
                <a:xfrm>
                  <a:off x="8613720" y="5699160"/>
                  <a:ext cx="357480" cy="290880"/>
                </a:xfrm>
                <a:custGeom>
                  <a:avLst/>
                  <a:gdLst/>
                  <a:ahLst/>
                  <a:rect l="0" t="0" r="r" b="b"/>
                  <a:pathLst>
                    <a:path w="993" h="808">
                      <a:moveTo>
                        <a:pt x="0" y="705"/>
                      </a:moveTo>
                      <a:lnTo>
                        <a:pt x="993" y="0"/>
                      </a:lnTo>
                      <a:lnTo>
                        <a:pt x="993" y="106"/>
                      </a:lnTo>
                      <a:lnTo>
                        <a:pt x="0" y="808"/>
                      </a:lnTo>
                      <a:lnTo>
                        <a:pt x="0" y="705"/>
                      </a:lnTo>
                      <a:close/>
                    </a:path>
                  </a:pathLst>
                </a:custGeom>
                <a:solidFill>
                  <a:srgbClr val="0088f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1" name=""/>
                <p:cNvSpPr/>
                <p:nvPr/>
              </p:nvSpPr>
              <p:spPr>
                <a:xfrm>
                  <a:off x="8613720" y="5754600"/>
                  <a:ext cx="357480" cy="292320"/>
                </a:xfrm>
                <a:custGeom>
                  <a:avLst/>
                  <a:gdLst/>
                  <a:ahLst/>
                  <a:rect l="0" t="0" r="r" b="b"/>
                  <a:pathLst>
                    <a:path w="993" h="812">
                      <a:moveTo>
                        <a:pt x="0" y="708"/>
                      </a:moveTo>
                      <a:lnTo>
                        <a:pt x="993" y="0"/>
                      </a:lnTo>
                      <a:lnTo>
                        <a:pt x="993" y="107"/>
                      </a:lnTo>
                      <a:lnTo>
                        <a:pt x="0" y="812"/>
                      </a:lnTo>
                      <a:lnTo>
                        <a:pt x="0" y="708"/>
                      </a:lnTo>
                      <a:close/>
                    </a:path>
                  </a:pathLst>
                </a:custGeom>
                <a:solidFill>
                  <a:srgbClr val="0088f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2" name=""/>
                <p:cNvSpPr/>
                <p:nvPr/>
              </p:nvSpPr>
              <p:spPr>
                <a:xfrm>
                  <a:off x="8613720" y="5813280"/>
                  <a:ext cx="357480" cy="292320"/>
                </a:xfrm>
                <a:custGeom>
                  <a:avLst/>
                  <a:gdLst/>
                  <a:ahLst/>
                  <a:rect l="0" t="0" r="r" b="b"/>
                  <a:pathLst>
                    <a:path w="993" h="812">
                      <a:moveTo>
                        <a:pt x="0" y="708"/>
                      </a:moveTo>
                      <a:lnTo>
                        <a:pt x="993" y="0"/>
                      </a:lnTo>
                      <a:lnTo>
                        <a:pt x="993" y="107"/>
                      </a:lnTo>
                      <a:lnTo>
                        <a:pt x="0" y="812"/>
                      </a:lnTo>
                      <a:lnTo>
                        <a:pt x="0" y="708"/>
                      </a:lnTo>
                      <a:close/>
                    </a:path>
                  </a:pathLst>
                </a:custGeom>
                <a:solidFill>
                  <a:srgbClr val="0088f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3" name=""/>
                <p:cNvSpPr/>
                <p:nvPr/>
              </p:nvSpPr>
              <p:spPr>
                <a:xfrm>
                  <a:off x="8613720" y="6012000"/>
                  <a:ext cx="194040" cy="152640"/>
                </a:xfrm>
                <a:custGeom>
                  <a:avLst/>
                  <a:gdLst/>
                  <a:ahLst/>
                  <a:rect l="0" t="0" r="r" b="b"/>
                  <a:pathLst>
                    <a:path w="539" h="424">
                      <a:moveTo>
                        <a:pt x="539" y="43"/>
                      </a:moveTo>
                      <a:lnTo>
                        <a:pt x="0" y="424"/>
                      </a:lnTo>
                      <a:lnTo>
                        <a:pt x="0" y="323"/>
                      </a:lnTo>
                      <a:lnTo>
                        <a:pt x="455" y="0"/>
                      </a:lnTo>
                      <a:lnTo>
                        <a:pt x="539" y="43"/>
                      </a:lnTo>
                      <a:close/>
                    </a:path>
                  </a:pathLst>
                </a:custGeom>
                <a:solidFill>
                  <a:srgbClr val="0088f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4" name=""/>
                <p:cNvSpPr/>
                <p:nvPr/>
              </p:nvSpPr>
              <p:spPr>
                <a:xfrm>
                  <a:off x="8613720" y="5925960"/>
                  <a:ext cx="357480" cy="292320"/>
                </a:xfrm>
                <a:custGeom>
                  <a:avLst/>
                  <a:gdLst/>
                  <a:ahLst/>
                  <a:rect l="0" t="0" r="r" b="b"/>
                  <a:pathLst>
                    <a:path w="993" h="812">
                      <a:moveTo>
                        <a:pt x="0" y="708"/>
                      </a:moveTo>
                      <a:lnTo>
                        <a:pt x="993" y="0"/>
                      </a:lnTo>
                      <a:lnTo>
                        <a:pt x="993" y="110"/>
                      </a:lnTo>
                      <a:lnTo>
                        <a:pt x="0" y="812"/>
                      </a:lnTo>
                      <a:lnTo>
                        <a:pt x="0" y="708"/>
                      </a:lnTo>
                      <a:close/>
                    </a:path>
                  </a:pathLst>
                </a:custGeom>
                <a:solidFill>
                  <a:srgbClr val="0088f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5" name=""/>
                <p:cNvSpPr/>
                <p:nvPr/>
              </p:nvSpPr>
              <p:spPr>
                <a:xfrm>
                  <a:off x="8613720" y="5985000"/>
                  <a:ext cx="357480" cy="292320"/>
                </a:xfrm>
                <a:custGeom>
                  <a:avLst/>
                  <a:gdLst/>
                  <a:ahLst/>
                  <a:rect l="0" t="0" r="r" b="b"/>
                  <a:pathLst>
                    <a:path w="993" h="812">
                      <a:moveTo>
                        <a:pt x="0" y="708"/>
                      </a:moveTo>
                      <a:lnTo>
                        <a:pt x="993" y="0"/>
                      </a:lnTo>
                      <a:lnTo>
                        <a:pt x="993" y="110"/>
                      </a:lnTo>
                      <a:lnTo>
                        <a:pt x="0" y="812"/>
                      </a:lnTo>
                      <a:lnTo>
                        <a:pt x="0" y="708"/>
                      </a:lnTo>
                      <a:close/>
                    </a:path>
                  </a:pathLst>
                </a:custGeom>
                <a:solidFill>
                  <a:srgbClr val="0088fe"/>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46" name=""/>
              <p:cNvSpPr/>
              <p:nvPr/>
            </p:nvSpPr>
            <p:spPr>
              <a:xfrm>
                <a:off x="8831160" y="5805360"/>
                <a:ext cx="46440" cy="284400"/>
              </a:xfrm>
              <a:custGeom>
                <a:avLst/>
                <a:gdLst/>
                <a:ahLst/>
                <a:rect l="0" t="0" r="r" b="b"/>
                <a:pathLst>
                  <a:path w="129" h="790">
                    <a:moveTo>
                      <a:pt x="110" y="790"/>
                    </a:moveTo>
                    <a:lnTo>
                      <a:pt x="113" y="773"/>
                    </a:lnTo>
                    <a:lnTo>
                      <a:pt x="113" y="759"/>
                    </a:lnTo>
                    <a:lnTo>
                      <a:pt x="116" y="742"/>
                    </a:lnTo>
                    <a:lnTo>
                      <a:pt x="118" y="725"/>
                    </a:lnTo>
                    <a:lnTo>
                      <a:pt x="121" y="707"/>
                    </a:lnTo>
                    <a:lnTo>
                      <a:pt x="121" y="690"/>
                    </a:lnTo>
                    <a:lnTo>
                      <a:pt x="124" y="673"/>
                    </a:lnTo>
                    <a:lnTo>
                      <a:pt x="124" y="656"/>
                    </a:lnTo>
                    <a:lnTo>
                      <a:pt x="127" y="635"/>
                    </a:lnTo>
                    <a:lnTo>
                      <a:pt x="127" y="618"/>
                    </a:lnTo>
                    <a:lnTo>
                      <a:pt x="127" y="601"/>
                    </a:lnTo>
                    <a:lnTo>
                      <a:pt x="127" y="584"/>
                    </a:lnTo>
                    <a:lnTo>
                      <a:pt x="129" y="563"/>
                    </a:lnTo>
                    <a:lnTo>
                      <a:pt x="129" y="546"/>
                    </a:lnTo>
                    <a:lnTo>
                      <a:pt x="129" y="526"/>
                    </a:lnTo>
                    <a:lnTo>
                      <a:pt x="129" y="508"/>
                    </a:lnTo>
                    <a:lnTo>
                      <a:pt x="129" y="474"/>
                    </a:lnTo>
                    <a:lnTo>
                      <a:pt x="129" y="440"/>
                    </a:lnTo>
                    <a:lnTo>
                      <a:pt x="127" y="405"/>
                    </a:lnTo>
                    <a:lnTo>
                      <a:pt x="124" y="374"/>
                    </a:lnTo>
                    <a:lnTo>
                      <a:pt x="124" y="343"/>
                    </a:lnTo>
                    <a:lnTo>
                      <a:pt x="121" y="308"/>
                    </a:lnTo>
                    <a:lnTo>
                      <a:pt x="116" y="277"/>
                    </a:lnTo>
                    <a:lnTo>
                      <a:pt x="113" y="250"/>
                    </a:lnTo>
                    <a:lnTo>
                      <a:pt x="110" y="219"/>
                    </a:lnTo>
                    <a:lnTo>
                      <a:pt x="105" y="192"/>
                    </a:lnTo>
                    <a:lnTo>
                      <a:pt x="99" y="164"/>
                    </a:lnTo>
                    <a:lnTo>
                      <a:pt x="93" y="137"/>
                    </a:lnTo>
                    <a:lnTo>
                      <a:pt x="88" y="109"/>
                    </a:lnTo>
                    <a:lnTo>
                      <a:pt x="82" y="85"/>
                    </a:lnTo>
                    <a:lnTo>
                      <a:pt x="77" y="58"/>
                    </a:lnTo>
                    <a:lnTo>
                      <a:pt x="69" y="37"/>
                    </a:lnTo>
                    <a:lnTo>
                      <a:pt x="0" y="0"/>
                    </a:lnTo>
                    <a:lnTo>
                      <a:pt x="5" y="24"/>
                    </a:lnTo>
                    <a:lnTo>
                      <a:pt x="10" y="48"/>
                    </a:lnTo>
                    <a:lnTo>
                      <a:pt x="16" y="72"/>
                    </a:lnTo>
                    <a:lnTo>
                      <a:pt x="21" y="96"/>
                    </a:lnTo>
                    <a:lnTo>
                      <a:pt x="27" y="123"/>
                    </a:lnTo>
                    <a:lnTo>
                      <a:pt x="33" y="151"/>
                    </a:lnTo>
                    <a:lnTo>
                      <a:pt x="36" y="178"/>
                    </a:lnTo>
                    <a:lnTo>
                      <a:pt x="41" y="209"/>
                    </a:lnTo>
                    <a:lnTo>
                      <a:pt x="44" y="236"/>
                    </a:lnTo>
                    <a:lnTo>
                      <a:pt x="47" y="267"/>
                    </a:lnTo>
                    <a:lnTo>
                      <a:pt x="49" y="298"/>
                    </a:lnTo>
                    <a:lnTo>
                      <a:pt x="52" y="329"/>
                    </a:lnTo>
                    <a:lnTo>
                      <a:pt x="52" y="360"/>
                    </a:lnTo>
                    <a:lnTo>
                      <a:pt x="55" y="391"/>
                    </a:lnTo>
                    <a:lnTo>
                      <a:pt x="55" y="426"/>
                    </a:lnTo>
                    <a:lnTo>
                      <a:pt x="55" y="457"/>
                    </a:lnTo>
                    <a:lnTo>
                      <a:pt x="55" y="478"/>
                    </a:lnTo>
                    <a:lnTo>
                      <a:pt x="55" y="495"/>
                    </a:lnTo>
                    <a:lnTo>
                      <a:pt x="55" y="515"/>
                    </a:lnTo>
                    <a:lnTo>
                      <a:pt x="55" y="532"/>
                    </a:lnTo>
                    <a:lnTo>
                      <a:pt x="52" y="550"/>
                    </a:lnTo>
                    <a:lnTo>
                      <a:pt x="52" y="570"/>
                    </a:lnTo>
                    <a:lnTo>
                      <a:pt x="52" y="587"/>
                    </a:lnTo>
                    <a:lnTo>
                      <a:pt x="49" y="605"/>
                    </a:lnTo>
                    <a:lnTo>
                      <a:pt x="49" y="622"/>
                    </a:lnTo>
                    <a:lnTo>
                      <a:pt x="47" y="639"/>
                    </a:lnTo>
                    <a:lnTo>
                      <a:pt x="47" y="656"/>
                    </a:lnTo>
                    <a:lnTo>
                      <a:pt x="44" y="673"/>
                    </a:lnTo>
                    <a:lnTo>
                      <a:pt x="41" y="690"/>
                    </a:lnTo>
                    <a:lnTo>
                      <a:pt x="41" y="707"/>
                    </a:lnTo>
                    <a:lnTo>
                      <a:pt x="39" y="725"/>
                    </a:lnTo>
                    <a:lnTo>
                      <a:pt x="36" y="738"/>
                    </a:lnTo>
                    <a:lnTo>
                      <a:pt x="110" y="79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7" name=""/>
              <p:cNvSpPr/>
              <p:nvPr/>
            </p:nvSpPr>
            <p:spPr>
              <a:xfrm>
                <a:off x="8945640" y="5856120"/>
                <a:ext cx="25920" cy="46440"/>
              </a:xfrm>
              <a:custGeom>
                <a:avLst/>
                <a:gdLst/>
                <a:ahLst/>
                <a:rect l="0" t="0" r="r" b="b"/>
                <a:pathLst>
                  <a:path w="72" h="129">
                    <a:moveTo>
                      <a:pt x="72" y="129"/>
                    </a:moveTo>
                    <a:lnTo>
                      <a:pt x="72" y="38"/>
                    </a:lnTo>
                    <a:lnTo>
                      <a:pt x="0" y="0"/>
                    </a:lnTo>
                    <a:lnTo>
                      <a:pt x="0" y="91"/>
                    </a:lnTo>
                    <a:lnTo>
                      <a:pt x="72" y="129"/>
                    </a:lnTo>
                    <a:close/>
                  </a:path>
                </a:pathLst>
              </a:custGeom>
              <a:solidFill>
                <a:srgbClr val="ffffff"/>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48" name=""/>
              <p:cNvSpPr/>
              <p:nvPr/>
            </p:nvSpPr>
            <p:spPr>
              <a:xfrm>
                <a:off x="8815320" y="5872320"/>
                <a:ext cx="159120" cy="147960"/>
              </a:xfrm>
              <a:custGeom>
                <a:avLst/>
                <a:gdLst/>
                <a:ahLst/>
                <a:rect l="0" t="0" r="r" b="b"/>
                <a:pathLst>
                  <a:path w="442" h="411">
                    <a:moveTo>
                      <a:pt x="442" y="107"/>
                    </a:moveTo>
                    <a:lnTo>
                      <a:pt x="442" y="0"/>
                    </a:lnTo>
                    <a:lnTo>
                      <a:pt x="0" y="306"/>
                    </a:lnTo>
                    <a:lnTo>
                      <a:pt x="0" y="411"/>
                    </a:lnTo>
                    <a:lnTo>
                      <a:pt x="442" y="107"/>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9" name=""/>
              <p:cNvSpPr/>
              <p:nvPr/>
            </p:nvSpPr>
            <p:spPr>
              <a:xfrm>
                <a:off x="8783640" y="5856120"/>
                <a:ext cx="187560" cy="124200"/>
              </a:xfrm>
              <a:custGeom>
                <a:avLst/>
                <a:gdLst/>
                <a:ahLst/>
                <a:rect l="0" t="0" r="r" b="b"/>
                <a:pathLst>
                  <a:path w="521" h="345">
                    <a:moveTo>
                      <a:pt x="521" y="40"/>
                    </a:moveTo>
                    <a:lnTo>
                      <a:pt x="86" y="345"/>
                    </a:lnTo>
                    <a:lnTo>
                      <a:pt x="0" y="302"/>
                    </a:lnTo>
                    <a:lnTo>
                      <a:pt x="438" y="0"/>
                    </a:lnTo>
                    <a:lnTo>
                      <a:pt x="521" y="4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0" name=""/>
              <p:cNvSpPr/>
              <p:nvPr/>
            </p:nvSpPr>
            <p:spPr>
              <a:xfrm>
                <a:off x="8707320" y="5872320"/>
                <a:ext cx="263880" cy="417960"/>
              </a:xfrm>
              <a:custGeom>
                <a:avLst/>
                <a:gdLst/>
                <a:ahLst/>
                <a:rect l="0" t="0" r="r" b="b"/>
                <a:pathLst>
                  <a:path w="733" h="1161">
                    <a:moveTo>
                      <a:pt x="733" y="0"/>
                    </a:moveTo>
                    <a:lnTo>
                      <a:pt x="733" y="111"/>
                    </a:lnTo>
                    <a:lnTo>
                      <a:pt x="569" y="230"/>
                    </a:lnTo>
                    <a:lnTo>
                      <a:pt x="569" y="237"/>
                    </a:lnTo>
                    <a:lnTo>
                      <a:pt x="569" y="244"/>
                    </a:lnTo>
                    <a:lnTo>
                      <a:pt x="569" y="248"/>
                    </a:lnTo>
                    <a:lnTo>
                      <a:pt x="572" y="255"/>
                    </a:lnTo>
                    <a:lnTo>
                      <a:pt x="572" y="261"/>
                    </a:lnTo>
                    <a:lnTo>
                      <a:pt x="572" y="268"/>
                    </a:lnTo>
                    <a:lnTo>
                      <a:pt x="572" y="275"/>
                    </a:lnTo>
                    <a:lnTo>
                      <a:pt x="572" y="282"/>
                    </a:lnTo>
                    <a:lnTo>
                      <a:pt x="572" y="294"/>
                    </a:lnTo>
                    <a:lnTo>
                      <a:pt x="572" y="297"/>
                    </a:lnTo>
                    <a:lnTo>
                      <a:pt x="572" y="308"/>
                    </a:lnTo>
                    <a:lnTo>
                      <a:pt x="572" y="315"/>
                    </a:lnTo>
                    <a:lnTo>
                      <a:pt x="572" y="322"/>
                    </a:lnTo>
                    <a:lnTo>
                      <a:pt x="572" y="329"/>
                    </a:lnTo>
                    <a:lnTo>
                      <a:pt x="572" y="336"/>
                    </a:lnTo>
                    <a:lnTo>
                      <a:pt x="572" y="343"/>
                    </a:lnTo>
                    <a:lnTo>
                      <a:pt x="572" y="427"/>
                    </a:lnTo>
                    <a:lnTo>
                      <a:pt x="566" y="507"/>
                    </a:lnTo>
                    <a:lnTo>
                      <a:pt x="556" y="584"/>
                    </a:lnTo>
                    <a:lnTo>
                      <a:pt x="544" y="661"/>
                    </a:lnTo>
                    <a:lnTo>
                      <a:pt x="532" y="731"/>
                    </a:lnTo>
                    <a:lnTo>
                      <a:pt x="513" y="797"/>
                    </a:lnTo>
                    <a:lnTo>
                      <a:pt x="495" y="860"/>
                    </a:lnTo>
                    <a:lnTo>
                      <a:pt x="473" y="920"/>
                    </a:lnTo>
                    <a:lnTo>
                      <a:pt x="448" y="973"/>
                    </a:lnTo>
                    <a:lnTo>
                      <a:pt x="421" y="1022"/>
                    </a:lnTo>
                    <a:lnTo>
                      <a:pt x="393" y="1060"/>
                    </a:lnTo>
                    <a:lnTo>
                      <a:pt x="361" y="1095"/>
                    </a:lnTo>
                    <a:lnTo>
                      <a:pt x="330" y="1123"/>
                    </a:lnTo>
                    <a:lnTo>
                      <a:pt x="299" y="1144"/>
                    </a:lnTo>
                    <a:lnTo>
                      <a:pt x="265" y="1154"/>
                    </a:lnTo>
                    <a:lnTo>
                      <a:pt x="228" y="1161"/>
                    </a:lnTo>
                    <a:lnTo>
                      <a:pt x="213" y="1158"/>
                    </a:lnTo>
                    <a:lnTo>
                      <a:pt x="197" y="1158"/>
                    </a:lnTo>
                    <a:lnTo>
                      <a:pt x="179" y="1151"/>
                    </a:lnTo>
                    <a:lnTo>
                      <a:pt x="163" y="1144"/>
                    </a:lnTo>
                    <a:lnTo>
                      <a:pt x="148" y="1137"/>
                    </a:lnTo>
                    <a:lnTo>
                      <a:pt x="132" y="1126"/>
                    </a:lnTo>
                    <a:lnTo>
                      <a:pt x="120" y="1116"/>
                    </a:lnTo>
                    <a:lnTo>
                      <a:pt x="105" y="1105"/>
                    </a:lnTo>
                    <a:lnTo>
                      <a:pt x="89" y="1091"/>
                    </a:lnTo>
                    <a:lnTo>
                      <a:pt x="77" y="1074"/>
                    </a:lnTo>
                    <a:lnTo>
                      <a:pt x="61" y="1056"/>
                    </a:lnTo>
                    <a:lnTo>
                      <a:pt x="49" y="1039"/>
                    </a:lnTo>
                    <a:lnTo>
                      <a:pt x="37" y="1018"/>
                    </a:lnTo>
                    <a:lnTo>
                      <a:pt x="24" y="997"/>
                    </a:lnTo>
                    <a:lnTo>
                      <a:pt x="12" y="976"/>
                    </a:lnTo>
                    <a:lnTo>
                      <a:pt x="0" y="952"/>
                    </a:lnTo>
                    <a:lnTo>
                      <a:pt x="80" y="896"/>
                    </a:lnTo>
                    <a:lnTo>
                      <a:pt x="86" y="913"/>
                    </a:lnTo>
                    <a:lnTo>
                      <a:pt x="95" y="927"/>
                    </a:lnTo>
                    <a:lnTo>
                      <a:pt x="105" y="945"/>
                    </a:lnTo>
                    <a:lnTo>
                      <a:pt x="114" y="959"/>
                    </a:lnTo>
                    <a:lnTo>
                      <a:pt x="123" y="969"/>
                    </a:lnTo>
                    <a:lnTo>
                      <a:pt x="129" y="983"/>
                    </a:lnTo>
                    <a:lnTo>
                      <a:pt x="138" y="994"/>
                    </a:lnTo>
                    <a:lnTo>
                      <a:pt x="151" y="1004"/>
                    </a:lnTo>
                    <a:lnTo>
                      <a:pt x="160" y="1011"/>
                    </a:lnTo>
                    <a:lnTo>
                      <a:pt x="169" y="1022"/>
                    </a:lnTo>
                    <a:lnTo>
                      <a:pt x="179" y="1029"/>
                    </a:lnTo>
                    <a:lnTo>
                      <a:pt x="188" y="1032"/>
                    </a:lnTo>
                    <a:lnTo>
                      <a:pt x="200" y="1036"/>
                    </a:lnTo>
                    <a:lnTo>
                      <a:pt x="210" y="1039"/>
                    </a:lnTo>
                    <a:lnTo>
                      <a:pt x="222" y="1042"/>
                    </a:lnTo>
                    <a:lnTo>
                      <a:pt x="231" y="1042"/>
                    </a:lnTo>
                    <a:lnTo>
                      <a:pt x="256" y="1039"/>
                    </a:lnTo>
                    <a:lnTo>
                      <a:pt x="281" y="1029"/>
                    </a:lnTo>
                    <a:lnTo>
                      <a:pt x="305" y="1011"/>
                    </a:lnTo>
                    <a:lnTo>
                      <a:pt x="327" y="987"/>
                    </a:lnTo>
                    <a:lnTo>
                      <a:pt x="349" y="959"/>
                    </a:lnTo>
                    <a:lnTo>
                      <a:pt x="371" y="924"/>
                    </a:lnTo>
                    <a:lnTo>
                      <a:pt x="390" y="882"/>
                    </a:lnTo>
                    <a:lnTo>
                      <a:pt x="408" y="835"/>
                    </a:lnTo>
                    <a:lnTo>
                      <a:pt x="424" y="786"/>
                    </a:lnTo>
                    <a:lnTo>
                      <a:pt x="439" y="731"/>
                    </a:lnTo>
                    <a:lnTo>
                      <a:pt x="451" y="675"/>
                    </a:lnTo>
                    <a:lnTo>
                      <a:pt x="464" y="612"/>
                    </a:lnTo>
                    <a:lnTo>
                      <a:pt x="470" y="549"/>
                    </a:lnTo>
                    <a:lnTo>
                      <a:pt x="476" y="479"/>
                    </a:lnTo>
                    <a:lnTo>
                      <a:pt x="482" y="413"/>
                    </a:lnTo>
                    <a:lnTo>
                      <a:pt x="482" y="339"/>
                    </a:lnTo>
                    <a:lnTo>
                      <a:pt x="482" y="336"/>
                    </a:lnTo>
                    <a:lnTo>
                      <a:pt x="482" y="332"/>
                    </a:lnTo>
                    <a:lnTo>
                      <a:pt x="482" y="329"/>
                    </a:lnTo>
                    <a:lnTo>
                      <a:pt x="482" y="325"/>
                    </a:lnTo>
                    <a:lnTo>
                      <a:pt x="482" y="322"/>
                    </a:lnTo>
                    <a:lnTo>
                      <a:pt x="482" y="318"/>
                    </a:lnTo>
                    <a:lnTo>
                      <a:pt x="482" y="315"/>
                    </a:lnTo>
                    <a:lnTo>
                      <a:pt x="482" y="311"/>
                    </a:lnTo>
                    <a:lnTo>
                      <a:pt x="482" y="308"/>
                    </a:lnTo>
                    <a:lnTo>
                      <a:pt x="482" y="304"/>
                    </a:lnTo>
                    <a:lnTo>
                      <a:pt x="482" y="301"/>
                    </a:lnTo>
                    <a:lnTo>
                      <a:pt x="482" y="297"/>
                    </a:lnTo>
                    <a:lnTo>
                      <a:pt x="482" y="294"/>
                    </a:lnTo>
                    <a:lnTo>
                      <a:pt x="293" y="427"/>
                    </a:lnTo>
                    <a:lnTo>
                      <a:pt x="733"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1" name=""/>
              <p:cNvSpPr/>
              <p:nvPr/>
            </p:nvSpPr>
            <p:spPr>
              <a:xfrm>
                <a:off x="8669160" y="5695920"/>
                <a:ext cx="240120" cy="219600"/>
              </a:xfrm>
              <a:custGeom>
                <a:avLst/>
                <a:gdLst/>
                <a:ahLst/>
                <a:rect l="0" t="0" r="r" b="b"/>
                <a:pathLst>
                  <a:path w="667" h="610">
                    <a:moveTo>
                      <a:pt x="667" y="548"/>
                    </a:moveTo>
                    <a:lnTo>
                      <a:pt x="655" y="490"/>
                    </a:lnTo>
                    <a:lnTo>
                      <a:pt x="645" y="434"/>
                    </a:lnTo>
                    <a:lnTo>
                      <a:pt x="633" y="379"/>
                    </a:lnTo>
                    <a:lnTo>
                      <a:pt x="617" y="327"/>
                    </a:lnTo>
                    <a:lnTo>
                      <a:pt x="599" y="279"/>
                    </a:lnTo>
                    <a:lnTo>
                      <a:pt x="583" y="234"/>
                    </a:lnTo>
                    <a:lnTo>
                      <a:pt x="561" y="193"/>
                    </a:lnTo>
                    <a:lnTo>
                      <a:pt x="542" y="155"/>
                    </a:lnTo>
                    <a:lnTo>
                      <a:pt x="520" y="120"/>
                    </a:lnTo>
                    <a:lnTo>
                      <a:pt x="494" y="89"/>
                    </a:lnTo>
                    <a:lnTo>
                      <a:pt x="469" y="61"/>
                    </a:lnTo>
                    <a:lnTo>
                      <a:pt x="444" y="41"/>
                    </a:lnTo>
                    <a:lnTo>
                      <a:pt x="419" y="24"/>
                    </a:lnTo>
                    <a:lnTo>
                      <a:pt x="391" y="10"/>
                    </a:lnTo>
                    <a:lnTo>
                      <a:pt x="363" y="3"/>
                    </a:lnTo>
                    <a:lnTo>
                      <a:pt x="335" y="0"/>
                    </a:lnTo>
                    <a:lnTo>
                      <a:pt x="307" y="3"/>
                    </a:lnTo>
                    <a:lnTo>
                      <a:pt x="276" y="10"/>
                    </a:lnTo>
                    <a:lnTo>
                      <a:pt x="247" y="24"/>
                    </a:lnTo>
                    <a:lnTo>
                      <a:pt x="219" y="44"/>
                    </a:lnTo>
                    <a:lnTo>
                      <a:pt x="194" y="68"/>
                    </a:lnTo>
                    <a:lnTo>
                      <a:pt x="169" y="99"/>
                    </a:lnTo>
                    <a:lnTo>
                      <a:pt x="143" y="130"/>
                    </a:lnTo>
                    <a:lnTo>
                      <a:pt x="121" y="169"/>
                    </a:lnTo>
                    <a:lnTo>
                      <a:pt x="100" y="214"/>
                    </a:lnTo>
                    <a:lnTo>
                      <a:pt x="81" y="258"/>
                    </a:lnTo>
                    <a:lnTo>
                      <a:pt x="62" y="306"/>
                    </a:lnTo>
                    <a:lnTo>
                      <a:pt x="43" y="361"/>
                    </a:lnTo>
                    <a:lnTo>
                      <a:pt x="31" y="417"/>
                    </a:lnTo>
                    <a:lnTo>
                      <a:pt x="18" y="476"/>
                    </a:lnTo>
                    <a:lnTo>
                      <a:pt x="6" y="538"/>
                    </a:lnTo>
                    <a:lnTo>
                      <a:pt x="0" y="600"/>
                    </a:lnTo>
                    <a:lnTo>
                      <a:pt x="109" y="524"/>
                    </a:lnTo>
                    <a:lnTo>
                      <a:pt x="115" y="479"/>
                    </a:lnTo>
                    <a:lnTo>
                      <a:pt x="125" y="437"/>
                    </a:lnTo>
                    <a:lnTo>
                      <a:pt x="134" y="396"/>
                    </a:lnTo>
                    <a:lnTo>
                      <a:pt x="146" y="358"/>
                    </a:lnTo>
                    <a:lnTo>
                      <a:pt x="156" y="320"/>
                    </a:lnTo>
                    <a:lnTo>
                      <a:pt x="172" y="286"/>
                    </a:lnTo>
                    <a:lnTo>
                      <a:pt x="185" y="255"/>
                    </a:lnTo>
                    <a:lnTo>
                      <a:pt x="201" y="227"/>
                    </a:lnTo>
                    <a:lnTo>
                      <a:pt x="213" y="200"/>
                    </a:lnTo>
                    <a:lnTo>
                      <a:pt x="232" y="176"/>
                    </a:lnTo>
                    <a:lnTo>
                      <a:pt x="247" y="159"/>
                    </a:lnTo>
                    <a:lnTo>
                      <a:pt x="263" y="140"/>
                    </a:lnTo>
                    <a:lnTo>
                      <a:pt x="282" y="127"/>
                    </a:lnTo>
                    <a:lnTo>
                      <a:pt x="301" y="116"/>
                    </a:lnTo>
                    <a:lnTo>
                      <a:pt x="319" y="110"/>
                    </a:lnTo>
                    <a:lnTo>
                      <a:pt x="338" y="110"/>
                    </a:lnTo>
                    <a:lnTo>
                      <a:pt x="360" y="113"/>
                    </a:lnTo>
                    <a:lnTo>
                      <a:pt x="379" y="120"/>
                    </a:lnTo>
                    <a:lnTo>
                      <a:pt x="401" y="130"/>
                    </a:lnTo>
                    <a:lnTo>
                      <a:pt x="419" y="147"/>
                    </a:lnTo>
                    <a:lnTo>
                      <a:pt x="438" y="166"/>
                    </a:lnTo>
                    <a:lnTo>
                      <a:pt x="457" y="190"/>
                    </a:lnTo>
                    <a:lnTo>
                      <a:pt x="476" y="217"/>
                    </a:lnTo>
                    <a:lnTo>
                      <a:pt x="491" y="251"/>
                    </a:lnTo>
                    <a:lnTo>
                      <a:pt x="508" y="286"/>
                    </a:lnTo>
                    <a:lnTo>
                      <a:pt x="520" y="324"/>
                    </a:lnTo>
                    <a:lnTo>
                      <a:pt x="536" y="365"/>
                    </a:lnTo>
                    <a:lnTo>
                      <a:pt x="549" y="406"/>
                    </a:lnTo>
                    <a:lnTo>
                      <a:pt x="558" y="454"/>
                    </a:lnTo>
                    <a:lnTo>
                      <a:pt x="567" y="503"/>
                    </a:lnTo>
                    <a:lnTo>
                      <a:pt x="577" y="555"/>
                    </a:lnTo>
                    <a:lnTo>
                      <a:pt x="583" y="610"/>
                    </a:lnTo>
                    <a:lnTo>
                      <a:pt x="667" y="548"/>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2" name=""/>
              <p:cNvSpPr/>
              <p:nvPr/>
            </p:nvSpPr>
            <p:spPr>
              <a:xfrm>
                <a:off x="8783640" y="5964120"/>
                <a:ext cx="32040" cy="63720"/>
              </a:xfrm>
              <a:custGeom>
                <a:avLst/>
                <a:gdLst/>
                <a:ahLst/>
                <a:rect l="0" t="0" r="r" b="b"/>
                <a:pathLst>
                  <a:path w="89" h="177">
                    <a:moveTo>
                      <a:pt x="89" y="177"/>
                    </a:moveTo>
                    <a:lnTo>
                      <a:pt x="89" y="52"/>
                    </a:lnTo>
                    <a:lnTo>
                      <a:pt x="0" y="0"/>
                    </a:lnTo>
                    <a:lnTo>
                      <a:pt x="0" y="125"/>
                    </a:lnTo>
                    <a:lnTo>
                      <a:pt x="89" y="177"/>
                    </a:lnTo>
                    <a:close/>
                  </a:path>
                </a:pathLst>
              </a:custGeom>
              <a:solidFill>
                <a:srgbClr val="ffffff"/>
              </a:solidFill>
              <a:ln w="0">
                <a:noFill/>
              </a:ln>
            </p:spPr>
            <p:txBody>
              <a:bodyPr lIns="90000" rIns="90000" tIns="18720" bIns="18720" anchor="t">
                <a:noAutofit/>
              </a:bodyPr>
              <a:p>
                <a:endParaRPr b="0" lang="en-US" sz="1800" spc="-1" strike="noStrike">
                  <a:solidFill>
                    <a:srgbClr val="000000"/>
                  </a:solidFill>
                  <a:latin typeface="Arial"/>
                </a:endParaRPr>
              </a:p>
            </p:txBody>
          </p:sp>
        </p:grpSp>
      </p:grpSp>
      <p:sp>
        <p:nvSpPr>
          <p:cNvPr id="53"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4" name="PlaceHolder 2"/>
          <p:cNvSpPr>
            <a:spLocks noGrp="1"/>
          </p:cNvSpPr>
          <p:nvPr>
            <p:ph type="body"/>
          </p:nvPr>
        </p:nvSpPr>
        <p:spPr>
          <a:xfrm>
            <a:off x="488520" y="1604520"/>
            <a:ext cx="8796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ff0"/>
        </a:solidFill>
      </p:bgPr>
    </p:bg>
    <p:spTree>
      <p:nvGrpSpPr>
        <p:cNvPr id="1" name=""/>
        <p:cNvGrpSpPr/>
        <p:nvPr/>
      </p:nvGrpSpPr>
      <p:grpSpPr>
        <a:xfrm>
          <a:off x="0" y="0"/>
          <a:ext cx="0" cy="0"/>
          <a:chOff x="0" y="0"/>
          <a:chExt cx="0" cy="0"/>
        </a:xfrm>
      </p:grpSpPr>
      <p:sp>
        <p:nvSpPr>
          <p:cNvPr id="91" name=""/>
          <p:cNvSpPr txBox="1"/>
          <p:nvPr/>
        </p:nvSpPr>
        <p:spPr>
          <a:xfrm>
            <a:off x="1000080" y="2286000"/>
            <a:ext cx="7772400" cy="1536120"/>
          </a:xfrm>
          <a:prstGeom prst="rect">
            <a:avLst/>
          </a:prstGeom>
          <a:noFill/>
          <a:ln w="0">
            <a:noFill/>
          </a:ln>
        </p:spPr>
        <p:txBody>
          <a:bodyPr lIns="0" rIns="0" tIns="0" bIns="0" anchor="t">
            <a:noAutofit/>
          </a:bodyPr>
          <a:p>
            <a:pPr algn="ctr">
              <a:lnSpc>
                <a:spcPct val="100000"/>
              </a:lnSpc>
            </a:pPr>
            <a:r>
              <a:rPr b="1" lang="en-US" sz="3600" spc="-1" strike="noStrike">
                <a:solidFill>
                  <a:srgbClr val="0088fe"/>
                </a:solidFill>
                <a:latin typeface="Arial"/>
                <a:ea typeface="Arial"/>
              </a:rPr>
              <a:t>How to use Java applets</a:t>
            </a:r>
            <a:br>
              <a:rPr sz="3600"/>
            </a:br>
            <a:r>
              <a:rPr b="1" lang="en-US" sz="3600" spc="-1" strike="noStrike">
                <a:solidFill>
                  <a:srgbClr val="0088fe"/>
                </a:solidFill>
                <a:latin typeface="Arial"/>
                <a:ea typeface="Arial"/>
              </a:rPr>
              <a:t>making native invocations</a:t>
            </a:r>
            <a:br>
              <a:rPr sz="3600"/>
            </a:br>
            <a:r>
              <a:rPr b="1" lang="en-US" sz="3600" spc="-1" strike="noStrike">
                <a:solidFill>
                  <a:srgbClr val="0088fe"/>
                </a:solidFill>
                <a:latin typeface="Arial"/>
                <a:ea typeface="Arial"/>
              </a:rPr>
              <a:t>in standard Web browsers</a:t>
            </a:r>
            <a:endParaRPr b="0" lang="en-US" sz="3600" spc="-1" strike="noStrike">
              <a:solidFill>
                <a:srgbClr val="000000"/>
              </a:solidFill>
              <a:latin typeface="Arial"/>
            </a:endParaRPr>
          </a:p>
        </p:txBody>
      </p:sp>
      <p:sp>
        <p:nvSpPr>
          <p:cNvPr id="92" name=""/>
          <p:cNvSpPr txBox="1"/>
          <p:nvPr/>
        </p:nvSpPr>
        <p:spPr>
          <a:xfrm>
            <a:off x="1685880" y="3886200"/>
            <a:ext cx="6400800" cy="1752480"/>
          </a:xfrm>
          <a:prstGeom prst="rect">
            <a:avLst/>
          </a:prstGeom>
          <a:noFill/>
          <a:ln w="0">
            <a:noFill/>
          </a:ln>
        </p:spPr>
        <p:txBody>
          <a:bodyPr lIns="0" rIns="0" tIns="0" bIns="0" anchor="t">
            <a:noAutofit/>
          </a:bodyPr>
          <a:p>
            <a:pPr marL="320760" indent="-320760" algn="ctr">
              <a:lnSpc>
                <a:spcPct val="120000"/>
              </a:lnSpc>
              <a:spcBef>
                <a:spcPts val="479"/>
              </a:spcBef>
            </a:pPr>
            <a:endParaRPr b="0" lang="en-US" sz="2400" spc="-1" strike="noStrike">
              <a:solidFill>
                <a:srgbClr val="000000"/>
              </a:solidFill>
              <a:latin typeface="Arial"/>
            </a:endParaRPr>
          </a:p>
          <a:p>
            <a:pPr marL="320760" indent="-320760" algn="ctr">
              <a:lnSpc>
                <a:spcPct val="120000"/>
              </a:lnSpc>
              <a:spcBef>
                <a:spcPts val="479"/>
              </a:spcBef>
            </a:pPr>
            <a:r>
              <a:rPr b="0" lang="en-US" sz="2400" spc="-1" strike="noStrike">
                <a:solidFill>
                  <a:srgbClr val="000000"/>
                </a:solidFill>
                <a:latin typeface="Arial"/>
                <a:ea typeface="Arial"/>
              </a:rPr>
              <a:t>Patrick Biget</a:t>
            </a:r>
            <a:endParaRPr b="0" lang="en-US" sz="2400" spc="-1" strike="noStrike">
              <a:solidFill>
                <a:srgbClr val="000000"/>
              </a:solidFill>
              <a:latin typeface="Arial"/>
            </a:endParaRPr>
          </a:p>
          <a:p>
            <a:pPr marL="320760" indent="-320760" algn="ctr">
              <a:lnSpc>
                <a:spcPct val="120000"/>
              </a:lnSpc>
              <a:spcBef>
                <a:spcPts val="479"/>
              </a:spcBef>
            </a:pPr>
            <a:r>
              <a:rPr b="0" lang="en-US" sz="2400" spc="-1" strike="noStrike">
                <a:solidFill>
                  <a:srgbClr val="000000"/>
                </a:solidFill>
                <a:latin typeface="Arial"/>
                <a:ea typeface="Arial"/>
              </a:rPr>
              <a:t>Gemplus Research Grou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ff0"/>
        </a:solidFill>
      </p:bgPr>
    </p:bg>
    <p:spTree>
      <p:nvGrpSpPr>
        <p:cNvPr id="1" name=""/>
        <p:cNvGrpSpPr/>
        <p:nvPr/>
      </p:nvGrpSpPr>
      <p:grpSpPr>
        <a:xfrm>
          <a:off x="0" y="0"/>
          <a:ext cx="0" cy="0"/>
          <a:chOff x="0" y="0"/>
          <a:chExt cx="0" cy="0"/>
        </a:xfrm>
      </p:grpSpPr>
      <p:sp>
        <p:nvSpPr>
          <p:cNvPr id="123" name=""/>
          <p:cNvSpPr txBox="1"/>
          <p:nvPr/>
        </p:nvSpPr>
        <p:spPr>
          <a:xfrm>
            <a:off x="1076400" y="314280"/>
            <a:ext cx="7772400" cy="701640"/>
          </a:xfrm>
          <a:prstGeom prst="rect">
            <a:avLst/>
          </a:prstGeom>
          <a:noFill/>
          <a:ln w="0">
            <a:noFill/>
          </a:ln>
        </p:spPr>
        <p:txBody>
          <a:bodyPr lIns="0" rIns="0" tIns="0" bIns="0" anchor="t">
            <a:noAutofit/>
          </a:bodyPr>
          <a:p>
            <a:pPr algn="ctr">
              <a:lnSpc>
                <a:spcPct val="100000"/>
              </a:lnSpc>
            </a:pPr>
            <a:r>
              <a:rPr b="1" lang="en-US" sz="3600" spc="-1" strike="noStrike">
                <a:solidFill>
                  <a:srgbClr val="0088fe"/>
                </a:solidFill>
                <a:latin typeface="Arial"/>
                <a:ea typeface="Arial"/>
              </a:rPr>
              <a:t>The Class Loader</a:t>
            </a:r>
            <a:endParaRPr b="0" lang="en-US" sz="3600" spc="-1" strike="noStrike">
              <a:solidFill>
                <a:srgbClr val="000000"/>
              </a:solidFill>
              <a:latin typeface="Arial"/>
            </a:endParaRPr>
          </a:p>
        </p:txBody>
      </p:sp>
      <p:sp>
        <p:nvSpPr>
          <p:cNvPr id="124" name=""/>
          <p:cNvSpPr txBox="1"/>
          <p:nvPr/>
        </p:nvSpPr>
        <p:spPr>
          <a:xfrm>
            <a:off x="1076400" y="1906560"/>
            <a:ext cx="7772400" cy="3657600"/>
          </a:xfrm>
          <a:prstGeom prst="rect">
            <a:avLst/>
          </a:prstGeom>
          <a:noFill/>
          <a:ln w="0">
            <a:noFill/>
          </a:ln>
        </p:spPr>
        <p:txBody>
          <a:bodyPr lIns="0" rIns="0" tIns="0" bIns="0" anchor="t">
            <a:noAutofit/>
          </a:bodyPr>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The Class Loader ensures that classes do not violate name spaces or access restrictions when they are loaded</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400" spc="-1" strike="noStrike">
                <a:solidFill>
                  <a:srgbClr val="000000"/>
                </a:solidFill>
                <a:latin typeface="Arial"/>
                <a:ea typeface="Arial"/>
              </a:rPr>
              <a:t>guarantees a unique name space </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400" spc="-1" strike="noStrike">
                <a:solidFill>
                  <a:srgbClr val="000000"/>
                </a:solidFill>
                <a:latin typeface="Arial"/>
                <a:ea typeface="Arial"/>
              </a:rPr>
              <a:t>no spoofing, built-in classes is accessed fir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ff0"/>
        </a:solidFill>
      </p:bgPr>
    </p:bg>
    <p:spTree>
      <p:nvGrpSpPr>
        <p:cNvPr id="1" name=""/>
        <p:cNvGrpSpPr/>
        <p:nvPr/>
      </p:nvGrpSpPr>
      <p:grpSpPr>
        <a:xfrm>
          <a:off x="0" y="0"/>
          <a:ext cx="0" cy="0"/>
          <a:chOff x="0" y="0"/>
          <a:chExt cx="0" cy="0"/>
        </a:xfrm>
      </p:grpSpPr>
      <p:sp>
        <p:nvSpPr>
          <p:cNvPr id="125" name=""/>
          <p:cNvSpPr txBox="1"/>
          <p:nvPr/>
        </p:nvSpPr>
        <p:spPr>
          <a:xfrm>
            <a:off x="1076400" y="314280"/>
            <a:ext cx="7772400" cy="701640"/>
          </a:xfrm>
          <a:prstGeom prst="rect">
            <a:avLst/>
          </a:prstGeom>
          <a:noFill/>
          <a:ln w="0">
            <a:noFill/>
          </a:ln>
        </p:spPr>
        <p:txBody>
          <a:bodyPr lIns="0" rIns="0" tIns="0" bIns="0" anchor="t">
            <a:noAutofit/>
          </a:bodyPr>
          <a:p>
            <a:pPr algn="ctr">
              <a:lnSpc>
                <a:spcPct val="100000"/>
              </a:lnSpc>
            </a:pPr>
            <a:r>
              <a:rPr b="1" lang="en-US" sz="3600" spc="-1" strike="noStrike">
                <a:solidFill>
                  <a:srgbClr val="0088fe"/>
                </a:solidFill>
                <a:latin typeface="Arial"/>
                <a:ea typeface="Arial"/>
              </a:rPr>
              <a:t>The Security Manager (1/2)</a:t>
            </a:r>
            <a:endParaRPr b="0" lang="en-US" sz="3600" spc="-1" strike="noStrike">
              <a:solidFill>
                <a:srgbClr val="000000"/>
              </a:solidFill>
              <a:latin typeface="Arial"/>
            </a:endParaRPr>
          </a:p>
        </p:txBody>
      </p:sp>
      <p:sp>
        <p:nvSpPr>
          <p:cNvPr id="126" name=""/>
          <p:cNvSpPr txBox="1"/>
          <p:nvPr/>
        </p:nvSpPr>
        <p:spPr>
          <a:xfrm>
            <a:off x="1076400" y="1906560"/>
            <a:ext cx="7772400" cy="3657600"/>
          </a:xfrm>
          <a:prstGeom prst="rect">
            <a:avLst/>
          </a:prstGeom>
          <a:noFill/>
          <a:ln w="0">
            <a:noFill/>
          </a:ln>
        </p:spPr>
        <p:txBody>
          <a:bodyPr lIns="0" rIns="0" tIns="0" bIns="0" anchor="t">
            <a:noAutofit/>
          </a:bodyPr>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The Security Manager is the cop</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400" spc="-1" strike="noStrike">
                <a:solidFill>
                  <a:srgbClr val="000000"/>
                </a:solidFill>
                <a:latin typeface="Arial"/>
                <a:ea typeface="Arial"/>
              </a:rPr>
              <a:t>Implements security policies</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400" spc="-1" strike="noStrike">
                <a:solidFill>
                  <a:srgbClr val="000000"/>
                </a:solidFill>
                <a:latin typeface="Arial"/>
                <a:ea typeface="Arial"/>
              </a:rPr>
              <a:t>Throughout the system, security checks are done at sensitive positions</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400" spc="-1" strike="noStrike">
                <a:solidFill>
                  <a:srgbClr val="000000"/>
                </a:solidFill>
                <a:latin typeface="Arial"/>
                <a:ea typeface="Arial"/>
              </a:rPr>
              <a:t>Restricts access to the file system, network, and other system resour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ff0"/>
        </a:solidFill>
      </p:bgPr>
    </p:bg>
    <p:spTree>
      <p:nvGrpSpPr>
        <p:cNvPr id="1" name=""/>
        <p:cNvGrpSpPr/>
        <p:nvPr/>
      </p:nvGrpSpPr>
      <p:grpSpPr>
        <a:xfrm>
          <a:off x="0" y="0"/>
          <a:ext cx="0" cy="0"/>
          <a:chOff x="0" y="0"/>
          <a:chExt cx="0" cy="0"/>
        </a:xfrm>
      </p:grpSpPr>
      <p:sp>
        <p:nvSpPr>
          <p:cNvPr id="127" name=""/>
          <p:cNvSpPr txBox="1"/>
          <p:nvPr/>
        </p:nvSpPr>
        <p:spPr>
          <a:xfrm>
            <a:off x="1076400" y="314280"/>
            <a:ext cx="7772400" cy="701640"/>
          </a:xfrm>
          <a:prstGeom prst="rect">
            <a:avLst/>
          </a:prstGeom>
          <a:noFill/>
          <a:ln w="0">
            <a:noFill/>
          </a:ln>
        </p:spPr>
        <p:txBody>
          <a:bodyPr lIns="0" rIns="0" tIns="0" bIns="0" anchor="t">
            <a:noAutofit/>
          </a:bodyPr>
          <a:p>
            <a:pPr algn="ctr">
              <a:lnSpc>
                <a:spcPct val="100000"/>
              </a:lnSpc>
            </a:pPr>
            <a:r>
              <a:rPr b="1" lang="en-US" sz="3600" spc="-1" strike="noStrike">
                <a:solidFill>
                  <a:srgbClr val="0088fe"/>
                </a:solidFill>
                <a:latin typeface="Arial"/>
                <a:ea typeface="Arial"/>
              </a:rPr>
              <a:t>The Security Manager (2/2)</a:t>
            </a:r>
            <a:endParaRPr b="0" lang="en-US" sz="3600" spc="-1" strike="noStrike">
              <a:solidFill>
                <a:srgbClr val="000000"/>
              </a:solidFill>
              <a:latin typeface="Arial"/>
            </a:endParaRPr>
          </a:p>
        </p:txBody>
      </p:sp>
      <p:sp>
        <p:nvSpPr>
          <p:cNvPr id="128" name=""/>
          <p:cNvSpPr txBox="1"/>
          <p:nvPr/>
        </p:nvSpPr>
        <p:spPr>
          <a:xfrm>
            <a:off x="1076400" y="1906560"/>
            <a:ext cx="7772400" cy="3657600"/>
          </a:xfrm>
          <a:prstGeom prst="rect">
            <a:avLst/>
          </a:prstGeom>
          <a:noFill/>
          <a:ln w="0">
            <a:noFill/>
          </a:ln>
        </p:spPr>
        <p:txBody>
          <a:bodyPr lIns="0" rIns="0" tIns="0" bIns="0" anchor="t">
            <a:noAutofit/>
          </a:bodyPr>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The Security Manager also is responsible for watching applets</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400" spc="-1" strike="noStrike">
                <a:solidFill>
                  <a:srgbClr val="000000"/>
                </a:solidFill>
                <a:latin typeface="Arial"/>
                <a:ea typeface="Arial"/>
              </a:rPr>
              <a:t>Java mechanism for enforcing applet restrictions</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400" spc="-1" strike="noStrike">
                <a:solidFill>
                  <a:srgbClr val="000000"/>
                </a:solidFill>
                <a:latin typeface="Arial"/>
                <a:ea typeface="Arial"/>
              </a:rPr>
              <a:t>Appletviewer security manager is implemented by sun.applet.AppletSecurity</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400" spc="-1" strike="noStrike">
                <a:solidFill>
                  <a:srgbClr val="000000"/>
                </a:solidFill>
                <a:latin typeface="Arial"/>
                <a:ea typeface="Arial"/>
              </a:rPr>
              <a:t>Browser may only have one security manager, which is established at startup and cannot be replaced, overridden, or extended in any w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ff0"/>
        </a:solidFill>
      </p:bgPr>
    </p:bg>
    <p:spTree>
      <p:nvGrpSpPr>
        <p:cNvPr id="1" name=""/>
        <p:cNvGrpSpPr/>
        <p:nvPr/>
      </p:nvGrpSpPr>
      <p:grpSpPr>
        <a:xfrm>
          <a:off x="0" y="0"/>
          <a:ext cx="0" cy="0"/>
          <a:chOff x="0" y="0"/>
          <a:chExt cx="0" cy="0"/>
        </a:xfrm>
      </p:grpSpPr>
      <p:sp>
        <p:nvSpPr>
          <p:cNvPr id="129" name=""/>
          <p:cNvSpPr txBox="1"/>
          <p:nvPr/>
        </p:nvSpPr>
        <p:spPr>
          <a:xfrm>
            <a:off x="1076400" y="314280"/>
            <a:ext cx="7772400" cy="701640"/>
          </a:xfrm>
          <a:prstGeom prst="rect">
            <a:avLst/>
          </a:prstGeom>
          <a:noFill/>
          <a:ln w="0">
            <a:noFill/>
          </a:ln>
        </p:spPr>
        <p:txBody>
          <a:bodyPr lIns="0" rIns="0" tIns="0" bIns="0" anchor="t">
            <a:noAutofit/>
          </a:bodyPr>
          <a:p>
            <a:pPr algn="ctr">
              <a:lnSpc>
                <a:spcPct val="100000"/>
              </a:lnSpc>
            </a:pPr>
            <a:r>
              <a:rPr b="1" lang="en-US" sz="3600" spc="-1" strike="noStrike">
                <a:solidFill>
                  <a:srgbClr val="0088fe"/>
                </a:solidFill>
                <a:latin typeface="Arial"/>
                <a:ea typeface="Arial"/>
              </a:rPr>
              <a:t>Application vs Applet</a:t>
            </a:r>
            <a:endParaRPr b="0" lang="en-US" sz="3600" spc="-1" strike="noStrike">
              <a:solidFill>
                <a:srgbClr val="000000"/>
              </a:solidFill>
              <a:latin typeface="Arial"/>
            </a:endParaRPr>
          </a:p>
        </p:txBody>
      </p:sp>
      <p:sp>
        <p:nvSpPr>
          <p:cNvPr id="130" name=""/>
          <p:cNvSpPr txBox="1"/>
          <p:nvPr/>
        </p:nvSpPr>
        <p:spPr>
          <a:xfrm>
            <a:off x="2752560" y="3809880"/>
            <a:ext cx="4343400" cy="838080"/>
          </a:xfrm>
          <a:prstGeom prst="rect">
            <a:avLst/>
          </a:prstGeom>
          <a:solidFill>
            <a:srgbClr val="d49fff"/>
          </a:solidFill>
          <a:ln w="12600">
            <a:solidFill>
              <a:srgbClr val="000000"/>
            </a:solidFill>
            <a:round/>
          </a:ln>
        </p:spPr>
        <p:txBody>
          <a:bodyPr lIns="0" rIns="0" tIns="0" bIns="0" anchor="t">
            <a:noAutofit/>
          </a:bodyPr>
          <a:p>
            <a:pPr algn="ctr">
              <a:lnSpc>
                <a:spcPct val="100000"/>
              </a:lnSpc>
            </a:pPr>
            <a:r>
              <a:rPr b="1" lang="en-US" sz="2000" spc="-1" strike="noStrike">
                <a:solidFill>
                  <a:srgbClr val="000000"/>
                </a:solidFill>
                <a:latin typeface="Times New Roman"/>
                <a:ea typeface="Times New Roman"/>
              </a:rPr>
              <a:t>Operating System</a:t>
            </a:r>
            <a:endParaRPr b="0" lang="en-US" sz="2000" spc="-1" strike="noStrike">
              <a:solidFill>
                <a:srgbClr val="000000"/>
              </a:solidFill>
              <a:latin typeface="Arial"/>
            </a:endParaRPr>
          </a:p>
        </p:txBody>
      </p:sp>
      <p:sp>
        <p:nvSpPr>
          <p:cNvPr id="131" name=""/>
          <p:cNvSpPr txBox="1"/>
          <p:nvPr/>
        </p:nvSpPr>
        <p:spPr>
          <a:xfrm>
            <a:off x="2752560" y="3124080"/>
            <a:ext cx="2895480" cy="685800"/>
          </a:xfrm>
          <a:prstGeom prst="rect">
            <a:avLst/>
          </a:prstGeom>
          <a:solidFill>
            <a:srgbClr val="f39fd1"/>
          </a:solidFill>
          <a:ln w="12600">
            <a:solidFill>
              <a:srgbClr val="000000"/>
            </a:solidFill>
            <a:round/>
          </a:ln>
        </p:spPr>
        <p:txBody>
          <a:bodyPr lIns="0" rIns="0" tIns="0" bIns="0" anchor="t">
            <a:noAutofit/>
          </a:bodyPr>
          <a:p>
            <a:pPr algn="ctr">
              <a:lnSpc>
                <a:spcPct val="100000"/>
              </a:lnSpc>
            </a:pPr>
            <a:r>
              <a:rPr b="1" lang="en-US" sz="2000" spc="-1" strike="noStrike">
                <a:solidFill>
                  <a:srgbClr val="000000"/>
                </a:solidFill>
                <a:latin typeface="Times New Roman"/>
                <a:ea typeface="Times New Roman"/>
              </a:rPr>
              <a:t>Java VM</a:t>
            </a:r>
            <a:endParaRPr b="0" lang="en-US" sz="2000" spc="-1" strike="noStrike">
              <a:solidFill>
                <a:srgbClr val="000000"/>
              </a:solidFill>
              <a:latin typeface="Arial"/>
            </a:endParaRPr>
          </a:p>
        </p:txBody>
      </p:sp>
      <p:sp>
        <p:nvSpPr>
          <p:cNvPr id="132" name=""/>
          <p:cNvSpPr txBox="1"/>
          <p:nvPr/>
        </p:nvSpPr>
        <p:spPr>
          <a:xfrm>
            <a:off x="5648400" y="2438280"/>
            <a:ext cx="1447920" cy="1371600"/>
          </a:xfrm>
          <a:prstGeom prst="rect">
            <a:avLst/>
          </a:prstGeom>
          <a:solidFill>
            <a:srgbClr val="f6bf69"/>
          </a:solidFill>
          <a:ln w="12600">
            <a:solidFill>
              <a:srgbClr val="000000"/>
            </a:solidFill>
            <a:round/>
          </a:ln>
        </p:spPr>
        <p:txBody>
          <a:bodyPr lIns="0" rIns="0" tIns="0" bIns="0" anchor="t">
            <a:noAutofit/>
          </a:bodyPr>
          <a:p>
            <a:pPr algn="ctr">
              <a:lnSpc>
                <a:spcPct val="100000"/>
              </a:lnSpc>
            </a:pPr>
            <a:r>
              <a:rPr b="1" lang="en-US" sz="2000" spc="-1" strike="noStrike">
                <a:solidFill>
                  <a:srgbClr val="000000"/>
                </a:solidFill>
                <a:latin typeface="Times New Roman"/>
                <a:ea typeface="Times New Roman"/>
              </a:rPr>
              <a:t>Browser</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Times New Roman"/>
                <a:ea typeface="Times New Roman"/>
              </a:rPr>
              <a:t>with a</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Times New Roman"/>
                <a:ea typeface="Times New Roman"/>
              </a:rPr>
              <a:t>Java VM</a:t>
            </a:r>
            <a:endParaRPr b="0" lang="en-US" sz="2000" spc="-1" strike="noStrike">
              <a:solidFill>
                <a:srgbClr val="000000"/>
              </a:solidFill>
              <a:latin typeface="Arial"/>
            </a:endParaRPr>
          </a:p>
        </p:txBody>
      </p:sp>
      <p:sp>
        <p:nvSpPr>
          <p:cNvPr id="133" name=""/>
          <p:cNvSpPr txBox="1"/>
          <p:nvPr/>
        </p:nvSpPr>
        <p:spPr>
          <a:xfrm>
            <a:off x="4200480" y="2438280"/>
            <a:ext cx="1447920" cy="685800"/>
          </a:xfrm>
          <a:prstGeom prst="rect">
            <a:avLst/>
          </a:prstGeom>
          <a:solidFill>
            <a:srgbClr val="00ff00"/>
          </a:solidFill>
          <a:ln w="12600">
            <a:solidFill>
              <a:srgbClr val="000000"/>
            </a:solidFill>
            <a:round/>
          </a:ln>
        </p:spPr>
        <p:txBody>
          <a:bodyPr lIns="0" rIns="0" tIns="0" bIns="0" anchor="t">
            <a:noAutofit/>
          </a:bodyPr>
          <a:p>
            <a:pPr algn="ctr">
              <a:lnSpc>
                <a:spcPct val="100000"/>
              </a:lnSpc>
            </a:pPr>
            <a:r>
              <a:rPr b="1" lang="en-US" sz="2000" spc="-1" strike="noStrike">
                <a:solidFill>
                  <a:srgbClr val="000000"/>
                </a:solidFill>
                <a:latin typeface="Times New Roman"/>
                <a:ea typeface="Times New Roman"/>
              </a:rPr>
              <a:t>Browser</a:t>
            </a:r>
            <a:endParaRPr b="0" lang="en-US" sz="2000" spc="-1" strike="noStrike">
              <a:solidFill>
                <a:srgbClr val="000000"/>
              </a:solidFill>
              <a:latin typeface="Arial"/>
            </a:endParaRPr>
          </a:p>
        </p:txBody>
      </p:sp>
      <p:sp>
        <p:nvSpPr>
          <p:cNvPr id="134" name=""/>
          <p:cNvSpPr txBox="1"/>
          <p:nvPr/>
        </p:nvSpPr>
        <p:spPr>
          <a:xfrm>
            <a:off x="2752560" y="1676520"/>
            <a:ext cx="1447920" cy="1447920"/>
          </a:xfrm>
          <a:prstGeom prst="rect">
            <a:avLst/>
          </a:prstGeom>
          <a:solidFill>
            <a:srgbClr val="fafd00"/>
          </a:solidFill>
          <a:ln w="12600">
            <a:solidFill>
              <a:srgbClr val="000000"/>
            </a:solidFill>
            <a:round/>
          </a:ln>
        </p:spPr>
        <p:txBody>
          <a:bodyPr lIns="0" rIns="0" tIns="0" bIns="0" anchor="t">
            <a:noAutofit/>
          </a:bodyPr>
          <a:p>
            <a:pPr algn="ctr">
              <a:lnSpc>
                <a:spcPct val="100000"/>
              </a:lnSpc>
            </a:pPr>
            <a:r>
              <a:rPr b="1" lang="en-US" sz="2000" spc="-1" strike="noStrike">
                <a:solidFill>
                  <a:srgbClr val="000000"/>
                </a:solidFill>
                <a:latin typeface="Times New Roman"/>
                <a:ea typeface="Times New Roman"/>
              </a:rPr>
              <a:t>Application</a:t>
            </a:r>
            <a:endParaRPr b="0" lang="en-US" sz="2000" spc="-1" strike="noStrike">
              <a:solidFill>
                <a:srgbClr val="000000"/>
              </a:solidFill>
              <a:latin typeface="Arial"/>
            </a:endParaRPr>
          </a:p>
        </p:txBody>
      </p:sp>
      <p:sp>
        <p:nvSpPr>
          <p:cNvPr id="135" name=""/>
          <p:cNvSpPr txBox="1"/>
          <p:nvPr/>
        </p:nvSpPr>
        <p:spPr>
          <a:xfrm>
            <a:off x="4200480" y="1676520"/>
            <a:ext cx="1447920" cy="762120"/>
          </a:xfrm>
          <a:prstGeom prst="rect">
            <a:avLst/>
          </a:prstGeom>
          <a:solidFill>
            <a:srgbClr val="00dfca"/>
          </a:solidFill>
          <a:ln w="12600">
            <a:solidFill>
              <a:srgbClr val="000000"/>
            </a:solidFill>
            <a:round/>
          </a:ln>
        </p:spPr>
        <p:txBody>
          <a:bodyPr lIns="0" rIns="0" tIns="0" bIns="0" anchor="t">
            <a:noAutofit/>
          </a:bodyPr>
          <a:p>
            <a:pPr algn="ctr">
              <a:lnSpc>
                <a:spcPct val="100000"/>
              </a:lnSpc>
            </a:pPr>
            <a:r>
              <a:rPr b="1" lang="en-US" sz="2000" spc="-1" strike="noStrike">
                <a:solidFill>
                  <a:srgbClr val="000000"/>
                </a:solidFill>
                <a:latin typeface="Times New Roman"/>
                <a:ea typeface="Times New Roman"/>
              </a:rPr>
              <a:t>Applet</a:t>
            </a:r>
            <a:endParaRPr b="0" lang="en-US" sz="2000" spc="-1" strike="noStrike">
              <a:solidFill>
                <a:srgbClr val="000000"/>
              </a:solidFill>
              <a:latin typeface="Arial"/>
            </a:endParaRPr>
          </a:p>
        </p:txBody>
      </p:sp>
      <p:sp>
        <p:nvSpPr>
          <p:cNvPr id="136" name=""/>
          <p:cNvSpPr txBox="1"/>
          <p:nvPr/>
        </p:nvSpPr>
        <p:spPr>
          <a:xfrm>
            <a:off x="5648400" y="1676520"/>
            <a:ext cx="1447920" cy="762120"/>
          </a:xfrm>
          <a:prstGeom prst="rect">
            <a:avLst/>
          </a:prstGeom>
          <a:solidFill>
            <a:srgbClr val="00dfca"/>
          </a:solidFill>
          <a:ln w="12600">
            <a:solidFill>
              <a:srgbClr val="000000"/>
            </a:solidFill>
            <a:round/>
          </a:ln>
        </p:spPr>
        <p:txBody>
          <a:bodyPr lIns="0" rIns="0" tIns="0" bIns="0" anchor="t">
            <a:noAutofit/>
          </a:bodyPr>
          <a:p>
            <a:pPr algn="ctr">
              <a:lnSpc>
                <a:spcPct val="100000"/>
              </a:lnSpc>
            </a:pPr>
            <a:r>
              <a:rPr b="1" lang="en-US" sz="2000" spc="-1" strike="noStrike">
                <a:solidFill>
                  <a:srgbClr val="000000"/>
                </a:solidFill>
                <a:latin typeface="Times New Roman"/>
                <a:ea typeface="Times New Roman"/>
              </a:rPr>
              <a:t>Applet</a:t>
            </a:r>
            <a:endParaRPr b="0" lang="en-US" sz="2000" spc="-1" strike="noStrike">
              <a:solidFill>
                <a:srgbClr val="000000"/>
              </a:solidFill>
              <a:latin typeface="Arial"/>
            </a:endParaRPr>
          </a:p>
        </p:txBody>
      </p:sp>
      <p:sp>
        <p:nvSpPr>
          <p:cNvPr id="137" name=""/>
          <p:cNvSpPr txBox="1"/>
          <p:nvPr/>
        </p:nvSpPr>
        <p:spPr>
          <a:xfrm>
            <a:off x="1704960" y="5318280"/>
            <a:ext cx="6381720" cy="457200"/>
          </a:xfrm>
          <a:prstGeom prst="rect">
            <a:avLst/>
          </a:prstGeom>
          <a:noFill/>
          <a:ln w="0">
            <a:noFill/>
          </a:ln>
        </p:spPr>
        <p:txBody>
          <a:bodyPr lIns="0" rIns="0" tIns="0" bIns="0" anchor="t">
            <a:noAutofit/>
          </a:bodyPr>
          <a:p>
            <a:pPr algn="ctr">
              <a:lnSpc>
                <a:spcPct val="100000"/>
              </a:lnSpc>
            </a:pPr>
            <a:r>
              <a:rPr b="0" lang="en-US" sz="2400" spc="-1" strike="noStrike">
                <a:solidFill>
                  <a:srgbClr val="fc0128"/>
                </a:solidFill>
                <a:latin typeface="Arial"/>
                <a:ea typeface="Arial"/>
              </a:rPr>
              <a:t>Only the execution context make them diff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ff0"/>
        </a:solidFill>
      </p:bgPr>
    </p:bg>
    <p:spTree>
      <p:nvGrpSpPr>
        <p:cNvPr id="1" name=""/>
        <p:cNvGrpSpPr/>
        <p:nvPr/>
      </p:nvGrpSpPr>
      <p:grpSpPr>
        <a:xfrm>
          <a:off x="0" y="0"/>
          <a:ext cx="0" cy="0"/>
          <a:chOff x="0" y="0"/>
          <a:chExt cx="0" cy="0"/>
        </a:xfrm>
      </p:grpSpPr>
      <p:sp>
        <p:nvSpPr>
          <p:cNvPr id="138" name=""/>
          <p:cNvSpPr txBox="1"/>
          <p:nvPr/>
        </p:nvSpPr>
        <p:spPr>
          <a:xfrm>
            <a:off x="1076400" y="314280"/>
            <a:ext cx="7772400" cy="701640"/>
          </a:xfrm>
          <a:prstGeom prst="rect">
            <a:avLst/>
          </a:prstGeom>
          <a:noFill/>
          <a:ln w="0">
            <a:noFill/>
          </a:ln>
        </p:spPr>
        <p:txBody>
          <a:bodyPr lIns="0" rIns="0" tIns="0" bIns="0" anchor="t">
            <a:noAutofit/>
          </a:bodyPr>
          <a:p>
            <a:pPr algn="ctr">
              <a:lnSpc>
                <a:spcPct val="100000"/>
              </a:lnSpc>
            </a:pPr>
            <a:r>
              <a:rPr b="1" lang="en-US" sz="3600" spc="-1" strike="noStrike">
                <a:solidFill>
                  <a:srgbClr val="0088fe"/>
                </a:solidFill>
                <a:latin typeface="Arial"/>
                <a:ea typeface="Arial"/>
              </a:rPr>
              <a:t>Applet Security (1/3)</a:t>
            </a:r>
            <a:endParaRPr b="0" lang="en-US" sz="3600" spc="-1" strike="noStrike">
              <a:solidFill>
                <a:srgbClr val="000000"/>
              </a:solidFill>
              <a:latin typeface="Arial"/>
            </a:endParaRPr>
          </a:p>
        </p:txBody>
      </p:sp>
      <p:sp>
        <p:nvSpPr>
          <p:cNvPr id="139" name=""/>
          <p:cNvSpPr txBox="1"/>
          <p:nvPr/>
        </p:nvSpPr>
        <p:spPr>
          <a:xfrm>
            <a:off x="1076400" y="1906560"/>
            <a:ext cx="7772400" cy="3694680"/>
          </a:xfrm>
          <a:prstGeom prst="rect">
            <a:avLst/>
          </a:prstGeom>
          <a:noFill/>
          <a:ln w="0">
            <a:noFill/>
          </a:ln>
        </p:spPr>
        <p:txBody>
          <a:bodyPr lIns="0" rIns="0" tIns="0" bIns="0" anchor="t">
            <a:noAutofit/>
          </a:bodyPr>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Applets loaded into a client's Virtual Machine are managed by the Security Manager, which provides a high-level of supervised freedom. </a:t>
            </a:r>
            <a:endParaRPr b="0" lang="en-US" sz="2400" spc="-1" strike="noStrike">
              <a:solidFill>
                <a:srgbClr val="000000"/>
              </a:solidFill>
              <a:latin typeface="Arial"/>
            </a:endParaRPr>
          </a:p>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Applets loaded over the Net are prevented from</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000" spc="-1" strike="noStrike">
                <a:solidFill>
                  <a:srgbClr val="000000"/>
                </a:solidFill>
                <a:latin typeface="Arial"/>
                <a:ea typeface="Arial"/>
              </a:rPr>
              <a:t>Reading and Writing files on the client file system</a:t>
            </a:r>
            <a:endParaRPr b="0" lang="en-US" sz="20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000" spc="-1" strike="noStrike">
                <a:solidFill>
                  <a:srgbClr val="000000"/>
                </a:solidFill>
                <a:latin typeface="Arial"/>
                <a:ea typeface="Arial"/>
              </a:rPr>
              <a:t>Making network connections except to its originating host</a:t>
            </a:r>
            <a:endParaRPr b="0" lang="en-US" sz="20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000" spc="-1" strike="noStrike">
                <a:solidFill>
                  <a:srgbClr val="000000"/>
                </a:solidFill>
                <a:latin typeface="Arial"/>
                <a:ea typeface="Arial"/>
              </a:rPr>
              <a:t>Starting other programs on the client machine</a:t>
            </a:r>
            <a:endParaRPr b="0" lang="en-US" sz="20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000" spc="-1" strike="noStrike">
                <a:solidFill>
                  <a:srgbClr val="000000"/>
                </a:solidFill>
                <a:latin typeface="Arial"/>
                <a:ea typeface="Arial"/>
              </a:rPr>
              <a:t>Loading Java libraries</a:t>
            </a:r>
            <a:endParaRPr b="0" lang="en-US" sz="20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000" spc="-1" strike="noStrike">
                <a:solidFill>
                  <a:srgbClr val="000000"/>
                </a:solidFill>
                <a:latin typeface="Arial"/>
                <a:ea typeface="Arial"/>
              </a:rPr>
              <a:t>Defining native method cal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ff0"/>
        </a:solidFill>
      </p:bgPr>
    </p:bg>
    <p:spTree>
      <p:nvGrpSpPr>
        <p:cNvPr id="1" name=""/>
        <p:cNvGrpSpPr/>
        <p:nvPr/>
      </p:nvGrpSpPr>
      <p:grpSpPr>
        <a:xfrm>
          <a:off x="0" y="0"/>
          <a:ext cx="0" cy="0"/>
          <a:chOff x="0" y="0"/>
          <a:chExt cx="0" cy="0"/>
        </a:xfrm>
      </p:grpSpPr>
      <p:sp>
        <p:nvSpPr>
          <p:cNvPr id="140" name=""/>
          <p:cNvSpPr txBox="1"/>
          <p:nvPr/>
        </p:nvSpPr>
        <p:spPr>
          <a:xfrm>
            <a:off x="1076400" y="314280"/>
            <a:ext cx="7772400" cy="701640"/>
          </a:xfrm>
          <a:prstGeom prst="rect">
            <a:avLst/>
          </a:prstGeom>
          <a:noFill/>
          <a:ln w="0">
            <a:noFill/>
          </a:ln>
        </p:spPr>
        <p:txBody>
          <a:bodyPr lIns="0" rIns="0" tIns="0" bIns="0" anchor="t">
            <a:noAutofit/>
          </a:bodyPr>
          <a:p>
            <a:pPr algn="ctr">
              <a:lnSpc>
                <a:spcPct val="100000"/>
              </a:lnSpc>
            </a:pPr>
            <a:r>
              <a:rPr b="1" lang="en-US" sz="3600" spc="-1" strike="noStrike">
                <a:solidFill>
                  <a:srgbClr val="0088fe"/>
                </a:solidFill>
                <a:latin typeface="Arial"/>
                <a:ea typeface="Arial"/>
              </a:rPr>
              <a:t>Applet Security (2/3)</a:t>
            </a:r>
            <a:endParaRPr b="0" lang="en-US" sz="3600" spc="-1" strike="noStrike">
              <a:solidFill>
                <a:srgbClr val="000000"/>
              </a:solidFill>
              <a:latin typeface="Arial"/>
            </a:endParaRPr>
          </a:p>
        </p:txBody>
      </p:sp>
      <p:sp>
        <p:nvSpPr>
          <p:cNvPr id="141" name=""/>
          <p:cNvSpPr txBox="1"/>
          <p:nvPr/>
        </p:nvSpPr>
        <p:spPr>
          <a:xfrm>
            <a:off x="1076400" y="1906560"/>
            <a:ext cx="7772400" cy="3657600"/>
          </a:xfrm>
          <a:prstGeom prst="rect">
            <a:avLst/>
          </a:prstGeom>
          <a:noFill/>
          <a:ln w="0">
            <a:noFill/>
          </a:ln>
        </p:spPr>
        <p:txBody>
          <a:bodyPr lIns="0" rIns="0" tIns="0" bIns="0" anchor="t">
            <a:noAutofit/>
          </a:bodyPr>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Specifically, applets cannot access a client's file system to do the following</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000" spc="-1" strike="noStrike">
                <a:solidFill>
                  <a:srgbClr val="000000"/>
                </a:solidFill>
                <a:latin typeface="Arial"/>
                <a:ea typeface="Arial"/>
              </a:rPr>
              <a:t>Check for the existence of a file</a:t>
            </a:r>
            <a:endParaRPr b="0" lang="en-US" sz="20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000" spc="-1" strike="noStrike">
                <a:solidFill>
                  <a:srgbClr val="000000"/>
                </a:solidFill>
                <a:latin typeface="Arial"/>
                <a:ea typeface="Arial"/>
              </a:rPr>
              <a:t>Read or write a file</a:t>
            </a:r>
            <a:endParaRPr b="0" lang="en-US" sz="20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000" spc="-1" strike="noStrike">
                <a:solidFill>
                  <a:srgbClr val="000000"/>
                </a:solidFill>
                <a:latin typeface="Arial"/>
                <a:ea typeface="Arial"/>
              </a:rPr>
              <a:t>Rename files</a:t>
            </a:r>
            <a:endParaRPr b="0" lang="en-US" sz="20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000" spc="-1" strike="noStrike">
                <a:solidFill>
                  <a:srgbClr val="000000"/>
                </a:solidFill>
                <a:latin typeface="Arial"/>
                <a:ea typeface="Arial"/>
              </a:rPr>
              <a:t>Create directories on the client or get a directory listing</a:t>
            </a:r>
            <a:endParaRPr b="0" lang="en-US" sz="20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000" spc="-1" strike="noStrike">
                <a:solidFill>
                  <a:srgbClr val="000000"/>
                </a:solidFill>
                <a:latin typeface="Arial"/>
                <a:ea typeface="Arial"/>
              </a:rPr>
              <a:t>Check a file's type</a:t>
            </a:r>
            <a:endParaRPr b="0" lang="en-US" sz="20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000" spc="-1" strike="noStrike">
                <a:solidFill>
                  <a:srgbClr val="000000"/>
                </a:solidFill>
                <a:latin typeface="Arial"/>
                <a:ea typeface="Arial"/>
              </a:rPr>
              <a:t>Check a file's size or it's last modification timestam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ff0"/>
        </a:solidFill>
      </p:bgPr>
    </p:bg>
    <p:spTree>
      <p:nvGrpSpPr>
        <p:cNvPr id="1" name=""/>
        <p:cNvGrpSpPr/>
        <p:nvPr/>
      </p:nvGrpSpPr>
      <p:grpSpPr>
        <a:xfrm>
          <a:off x="0" y="0"/>
          <a:ext cx="0" cy="0"/>
          <a:chOff x="0" y="0"/>
          <a:chExt cx="0" cy="0"/>
        </a:xfrm>
      </p:grpSpPr>
      <p:sp>
        <p:nvSpPr>
          <p:cNvPr id="142" name=""/>
          <p:cNvSpPr txBox="1"/>
          <p:nvPr/>
        </p:nvSpPr>
        <p:spPr>
          <a:xfrm>
            <a:off x="1076400" y="314280"/>
            <a:ext cx="7772400" cy="701640"/>
          </a:xfrm>
          <a:prstGeom prst="rect">
            <a:avLst/>
          </a:prstGeom>
          <a:noFill/>
          <a:ln w="0">
            <a:noFill/>
          </a:ln>
        </p:spPr>
        <p:txBody>
          <a:bodyPr lIns="0" rIns="0" tIns="0" bIns="0" anchor="t">
            <a:noAutofit/>
          </a:bodyPr>
          <a:p>
            <a:pPr algn="ctr">
              <a:lnSpc>
                <a:spcPct val="100000"/>
              </a:lnSpc>
            </a:pPr>
            <a:r>
              <a:rPr b="1" lang="en-US" sz="3600" spc="-1" strike="noStrike">
                <a:solidFill>
                  <a:srgbClr val="0088fe"/>
                </a:solidFill>
                <a:latin typeface="Arial"/>
                <a:ea typeface="Arial"/>
              </a:rPr>
              <a:t>Applet Security (3/3)</a:t>
            </a:r>
            <a:endParaRPr b="0" lang="en-US" sz="3600" spc="-1" strike="noStrike">
              <a:solidFill>
                <a:srgbClr val="000000"/>
              </a:solidFill>
              <a:latin typeface="Arial"/>
            </a:endParaRPr>
          </a:p>
        </p:txBody>
      </p:sp>
      <p:sp>
        <p:nvSpPr>
          <p:cNvPr id="143" name=""/>
          <p:cNvSpPr txBox="1"/>
          <p:nvPr/>
        </p:nvSpPr>
        <p:spPr>
          <a:xfrm>
            <a:off x="1076400" y="1906560"/>
            <a:ext cx="7772400" cy="3657600"/>
          </a:xfrm>
          <a:prstGeom prst="rect">
            <a:avLst/>
          </a:prstGeom>
          <a:noFill/>
          <a:ln w="0">
            <a:noFill/>
          </a:ln>
        </p:spPr>
        <p:txBody>
          <a:bodyPr lIns="0" rIns="0" tIns="0" bIns="0" anchor="t">
            <a:noAutofit/>
          </a:bodyPr>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Applets loaded under </a:t>
            </a:r>
            <a:r>
              <a:rPr b="1" i="1" lang="en-US" sz="2400" spc="-1" strike="noStrike">
                <a:solidFill>
                  <a:srgbClr val="000000"/>
                </a:solidFill>
                <a:latin typeface="Arial"/>
                <a:ea typeface="Arial"/>
              </a:rPr>
              <a:t>Netscape Navigator </a:t>
            </a:r>
            <a:r>
              <a:rPr b="0" lang="en-US" sz="2400" spc="-1" strike="noStrike">
                <a:solidFill>
                  <a:srgbClr val="000000"/>
                </a:solidFill>
                <a:latin typeface="Arial"/>
                <a:ea typeface="Arial"/>
              </a:rPr>
              <a:t>or </a:t>
            </a:r>
            <a:r>
              <a:rPr b="1" i="1" lang="en-US" sz="2400" spc="-1" strike="noStrike">
                <a:solidFill>
                  <a:srgbClr val="000000"/>
                </a:solidFill>
                <a:latin typeface="Arial"/>
                <a:ea typeface="Arial"/>
              </a:rPr>
              <a:t>Internet Explorer </a:t>
            </a:r>
            <a:r>
              <a:rPr b="0" lang="en-US" sz="2400" spc="-1" strike="noStrike">
                <a:solidFill>
                  <a:srgbClr val="000000"/>
                </a:solidFill>
                <a:latin typeface="Arial"/>
                <a:ea typeface="Arial"/>
              </a:rPr>
              <a:t>cannot read or write files local files</a:t>
            </a:r>
            <a:endParaRPr b="0" lang="en-US" sz="2400" spc="-1" strike="noStrike">
              <a:solidFill>
                <a:srgbClr val="000000"/>
              </a:solidFill>
              <a:latin typeface="Arial"/>
            </a:endParaRPr>
          </a:p>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Applets loaded under </a:t>
            </a:r>
            <a:r>
              <a:rPr b="1" i="1" lang="en-US" sz="2400" spc="-1" strike="noStrike">
                <a:solidFill>
                  <a:srgbClr val="000000"/>
                </a:solidFill>
                <a:latin typeface="Arial"/>
                <a:ea typeface="Arial"/>
              </a:rPr>
              <a:t>Sun's appletviewer </a:t>
            </a:r>
            <a:r>
              <a:rPr b="0" lang="en-US" sz="2400" spc="-1" strike="noStrike">
                <a:solidFill>
                  <a:srgbClr val="000000"/>
                </a:solidFill>
                <a:latin typeface="Arial"/>
                <a:ea typeface="Arial"/>
              </a:rPr>
              <a:t>can read and write to files that are named on the access control lists for reading (acl.read) and writing (acl.write)</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000" spc="-1" strike="noStrike">
                <a:solidFill>
                  <a:srgbClr val="000000"/>
                </a:solidFill>
                <a:latin typeface="Arial"/>
                <a:ea typeface="Arial"/>
              </a:rPr>
              <a:t>This provides supervised freedom, not complete freedo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ff0"/>
        </a:solidFill>
      </p:bgPr>
    </p:bg>
    <p:spTree>
      <p:nvGrpSpPr>
        <p:cNvPr id="1" name=""/>
        <p:cNvGrpSpPr/>
        <p:nvPr/>
      </p:nvGrpSpPr>
      <p:grpSpPr>
        <a:xfrm>
          <a:off x="0" y="0"/>
          <a:ext cx="0" cy="0"/>
          <a:chOff x="0" y="0"/>
          <a:chExt cx="0" cy="0"/>
        </a:xfrm>
      </p:grpSpPr>
      <p:sp>
        <p:nvSpPr>
          <p:cNvPr id="144" name=""/>
          <p:cNvSpPr txBox="1"/>
          <p:nvPr/>
        </p:nvSpPr>
        <p:spPr>
          <a:xfrm>
            <a:off x="1076400" y="314280"/>
            <a:ext cx="7772400" cy="701640"/>
          </a:xfrm>
          <a:prstGeom prst="rect">
            <a:avLst/>
          </a:prstGeom>
          <a:noFill/>
          <a:ln w="0">
            <a:noFill/>
          </a:ln>
        </p:spPr>
        <p:txBody>
          <a:bodyPr lIns="0" rIns="0" tIns="0" bIns="0" anchor="t">
            <a:noAutofit/>
          </a:bodyPr>
          <a:p>
            <a:pPr algn="ctr">
              <a:lnSpc>
                <a:spcPct val="100000"/>
              </a:lnSpc>
            </a:pPr>
            <a:r>
              <a:rPr b="1" lang="en-US" sz="3600" spc="-1" strike="noStrike">
                <a:solidFill>
                  <a:srgbClr val="0088fe"/>
                </a:solidFill>
                <a:latin typeface="Arial"/>
                <a:ea typeface="Arial"/>
              </a:rPr>
              <a:t>Running Applets in Web Browser</a:t>
            </a:r>
            <a:endParaRPr b="0" lang="en-US" sz="3600" spc="-1" strike="noStrike">
              <a:solidFill>
                <a:srgbClr val="000000"/>
              </a:solidFill>
              <a:latin typeface="Arial"/>
            </a:endParaRPr>
          </a:p>
        </p:txBody>
      </p:sp>
      <p:sp>
        <p:nvSpPr>
          <p:cNvPr id="145" name=""/>
          <p:cNvSpPr txBox="1"/>
          <p:nvPr/>
        </p:nvSpPr>
        <p:spPr>
          <a:xfrm>
            <a:off x="1076400" y="1906560"/>
            <a:ext cx="7772400" cy="3657600"/>
          </a:xfrm>
          <a:prstGeom prst="rect">
            <a:avLst/>
          </a:prstGeom>
          <a:noFill/>
          <a:ln w="0">
            <a:noFill/>
          </a:ln>
        </p:spPr>
        <p:txBody>
          <a:bodyPr lIns="0" rIns="0" tIns="0" bIns="0" anchor="t">
            <a:noAutofit/>
          </a:bodyPr>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Requirements</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400" spc="-1" strike="noStrike">
                <a:solidFill>
                  <a:srgbClr val="000000"/>
                </a:solidFill>
                <a:latin typeface="Arial"/>
                <a:ea typeface="Arial"/>
              </a:rPr>
              <a:t>Java API to access smartcards</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400" spc="-1" strike="noStrike">
                <a:solidFill>
                  <a:srgbClr val="000000"/>
                </a:solidFill>
                <a:latin typeface="Arial"/>
                <a:ea typeface="Arial"/>
              </a:rPr>
              <a:t>Signed applets</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400" spc="-1" strike="noStrike">
                <a:solidFill>
                  <a:srgbClr val="000000"/>
                </a:solidFill>
                <a:latin typeface="Arial"/>
                <a:ea typeface="Arial"/>
              </a:rPr>
              <a:t>Web browser allowing signed applets to access peripheral devices (like the smartcard rea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ff0"/>
        </a:solidFill>
      </p:bgPr>
    </p:bg>
    <p:spTree>
      <p:nvGrpSpPr>
        <p:cNvPr id="1" name=""/>
        <p:cNvGrpSpPr/>
        <p:nvPr/>
      </p:nvGrpSpPr>
      <p:grpSpPr>
        <a:xfrm>
          <a:off x="0" y="0"/>
          <a:ext cx="0" cy="0"/>
          <a:chOff x="0" y="0"/>
          <a:chExt cx="0" cy="0"/>
        </a:xfrm>
      </p:grpSpPr>
      <p:sp>
        <p:nvSpPr>
          <p:cNvPr id="146" name=""/>
          <p:cNvSpPr txBox="1"/>
          <p:nvPr/>
        </p:nvSpPr>
        <p:spPr>
          <a:xfrm>
            <a:off x="1076400" y="314280"/>
            <a:ext cx="7772400" cy="701640"/>
          </a:xfrm>
          <a:prstGeom prst="rect">
            <a:avLst/>
          </a:prstGeom>
          <a:noFill/>
          <a:ln w="0">
            <a:noFill/>
          </a:ln>
        </p:spPr>
        <p:txBody>
          <a:bodyPr lIns="0" rIns="0" tIns="0" bIns="0" anchor="t">
            <a:noAutofit/>
          </a:bodyPr>
          <a:p>
            <a:pPr algn="ctr">
              <a:lnSpc>
                <a:spcPct val="100000"/>
              </a:lnSpc>
            </a:pPr>
            <a:r>
              <a:rPr b="1" lang="en-US" sz="3600" spc="-1" strike="noStrike">
                <a:solidFill>
                  <a:srgbClr val="0088fe"/>
                </a:solidFill>
                <a:latin typeface="Arial"/>
                <a:ea typeface="Arial"/>
              </a:rPr>
              <a:t>Java APIs to Access Smartcards</a:t>
            </a:r>
            <a:endParaRPr b="0" lang="en-US" sz="3600" spc="-1" strike="noStrike">
              <a:solidFill>
                <a:srgbClr val="000000"/>
              </a:solidFill>
              <a:latin typeface="Arial"/>
            </a:endParaRPr>
          </a:p>
        </p:txBody>
      </p:sp>
      <p:sp>
        <p:nvSpPr>
          <p:cNvPr id="147" name=""/>
          <p:cNvSpPr txBox="1"/>
          <p:nvPr/>
        </p:nvSpPr>
        <p:spPr>
          <a:xfrm>
            <a:off x="1076400" y="1906560"/>
            <a:ext cx="7772400" cy="3830040"/>
          </a:xfrm>
          <a:prstGeom prst="rect">
            <a:avLst/>
          </a:prstGeom>
          <a:noFill/>
          <a:ln w="0">
            <a:noFill/>
          </a:ln>
        </p:spPr>
        <p:txBody>
          <a:bodyPr lIns="0" rIns="0" tIns="0" bIns="0" anchor="t">
            <a:noAutofit/>
          </a:bodyPr>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Gemplus API 1.0</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400" spc="-1" strike="noStrike">
                <a:solidFill>
                  <a:srgbClr val="000000"/>
                </a:solidFill>
                <a:latin typeface="Arial"/>
                <a:ea typeface="Arial"/>
              </a:rPr>
              <a:t>Gemplus proprietary API</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400" spc="-1" strike="noStrike">
                <a:solidFill>
                  <a:srgbClr val="000000"/>
                </a:solidFill>
                <a:latin typeface="Arial"/>
                <a:ea typeface="Arial"/>
              </a:rPr>
              <a:t>Included in the GemXpresso RAD Toolkit</a:t>
            </a:r>
            <a:endParaRPr b="0" lang="en-US" sz="2400" spc="-1" strike="noStrike">
              <a:solidFill>
                <a:srgbClr val="000000"/>
              </a:solidFill>
              <a:latin typeface="Arial"/>
            </a:endParaRPr>
          </a:p>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Framework (OCF)</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400" spc="-1" strike="noStrike">
                <a:solidFill>
                  <a:srgbClr val="000000"/>
                </a:solidFill>
                <a:latin typeface="Arial"/>
                <a:ea typeface="Arial"/>
              </a:rPr>
              <a:t>Initiated and promoted by IBM</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400" spc="-1" strike="noStrike">
                <a:solidFill>
                  <a:srgbClr val="000000"/>
                </a:solidFill>
                <a:latin typeface="Arial"/>
                <a:ea typeface="Arial"/>
              </a:rPr>
              <a:t>Inter-industry standard</a:t>
            </a:r>
            <a:endParaRPr b="0" lang="en-US" sz="2400" spc="-1" strike="noStrike">
              <a:solidFill>
                <a:srgbClr val="000000"/>
              </a:solidFill>
              <a:latin typeface="Arial"/>
            </a:endParaRPr>
          </a:p>
          <a:p>
            <a:pPr lvl="2" marL="1066680" indent="-212760">
              <a:lnSpc>
                <a:spcPct val="120000"/>
              </a:lnSpc>
              <a:spcBef>
                <a:spcPts val="479"/>
              </a:spcBef>
              <a:buClr>
                <a:srgbClr val="fdd900"/>
              </a:buClr>
              <a:buFont typeface="Wingdings"/>
              <a:buChar char=""/>
            </a:pPr>
            <a:r>
              <a:rPr b="0" lang="en-US" sz="2000" spc="-1" strike="noStrike">
                <a:solidFill>
                  <a:srgbClr val="000000"/>
                </a:solidFill>
                <a:latin typeface="Arial"/>
                <a:ea typeface="Arial"/>
              </a:rPr>
              <a:t>Consortium : IBM, Gemplus, Schlumberger, Bull, Sun, Visa, Netscape, Dallas Semiconductor, SCM, N/C, Ubiq, First Access</a:t>
            </a:r>
            <a:endParaRPr b="0" lang="en-US" sz="2000" spc="-1" strike="noStrike">
              <a:solidFill>
                <a:srgbClr val="000000"/>
              </a:solidFill>
              <a:latin typeface="Arial"/>
            </a:endParaRPr>
          </a:p>
        </p:txBody>
      </p:sp>
      <p:pic>
        <p:nvPicPr>
          <p:cNvPr id="148" name="" descr=""/>
          <p:cNvPicPr/>
          <p:nvPr/>
        </p:nvPicPr>
        <p:blipFill>
          <a:blip r:embed="rId1"/>
          <a:stretch/>
        </p:blipFill>
        <p:spPr>
          <a:xfrm>
            <a:off x="1571760" y="3228840"/>
            <a:ext cx="1278000" cy="428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ff0"/>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5400720" y="4592520"/>
            <a:ext cx="1542960" cy="1301760"/>
          </a:xfrm>
          <a:prstGeom prst="rect">
            <a:avLst/>
          </a:prstGeom>
          <a:ln w="0">
            <a:noFill/>
          </a:ln>
        </p:spPr>
      </p:pic>
      <p:sp>
        <p:nvSpPr>
          <p:cNvPr id="150" name=""/>
          <p:cNvSpPr txBox="1"/>
          <p:nvPr/>
        </p:nvSpPr>
        <p:spPr>
          <a:xfrm>
            <a:off x="1076400" y="314280"/>
            <a:ext cx="7772400" cy="701640"/>
          </a:xfrm>
          <a:prstGeom prst="rect">
            <a:avLst/>
          </a:prstGeom>
          <a:noFill/>
          <a:ln w="0">
            <a:noFill/>
          </a:ln>
        </p:spPr>
        <p:txBody>
          <a:bodyPr lIns="0" rIns="0" tIns="0" bIns="0" anchor="t">
            <a:noAutofit/>
          </a:bodyPr>
          <a:p>
            <a:pPr algn="ctr">
              <a:lnSpc>
                <a:spcPct val="100000"/>
              </a:lnSpc>
            </a:pPr>
            <a:r>
              <a:rPr b="1" lang="en-US" sz="3600" spc="-1" strike="noStrike">
                <a:solidFill>
                  <a:srgbClr val="0088fe"/>
                </a:solidFill>
                <a:latin typeface="Arial"/>
                <a:ea typeface="Arial"/>
              </a:rPr>
              <a:t>Applet Signature Scheme </a:t>
            </a:r>
            <a:endParaRPr b="0" lang="en-US" sz="3600" spc="-1" strike="noStrike">
              <a:solidFill>
                <a:srgbClr val="000000"/>
              </a:solidFill>
              <a:latin typeface="Arial"/>
            </a:endParaRPr>
          </a:p>
        </p:txBody>
      </p:sp>
      <p:sp>
        <p:nvSpPr>
          <p:cNvPr id="151" name=""/>
          <p:cNvSpPr/>
          <p:nvPr/>
        </p:nvSpPr>
        <p:spPr>
          <a:xfrm>
            <a:off x="466560" y="1905120"/>
            <a:ext cx="1143000" cy="1523880"/>
          </a:xfrm>
          <a:prstGeom prst="rect">
            <a:avLst/>
          </a:prstGeom>
          <a:solidFill>
            <a:srgbClr val="f39fd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a:off x="2981160" y="1905120"/>
            <a:ext cx="1143000" cy="1523880"/>
          </a:xfrm>
          <a:prstGeom prst="rect">
            <a:avLst/>
          </a:prstGeom>
          <a:solidFill>
            <a:srgbClr val="f39fd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a:off x="5800680" y="1219320"/>
            <a:ext cx="3276720" cy="2590920"/>
          </a:xfrm>
          <a:prstGeom prst="rect">
            <a:avLst/>
          </a:prstGeom>
          <a:solidFill>
            <a:srgbClr val="fcfeb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4" name=""/>
          <p:cNvSpPr txBox="1"/>
          <p:nvPr/>
        </p:nvSpPr>
        <p:spPr>
          <a:xfrm>
            <a:off x="5800680" y="1219320"/>
            <a:ext cx="3276720" cy="304920"/>
          </a:xfrm>
          <a:prstGeom prst="rect">
            <a:avLst/>
          </a:prstGeom>
          <a:solidFill>
            <a:srgbClr val="000000"/>
          </a:solidFill>
          <a:ln w="12600">
            <a:solidFill>
              <a:srgbClr val="000000"/>
            </a:solidFill>
            <a:round/>
          </a:ln>
        </p:spPr>
        <p:txBody>
          <a:bodyPr lIns="0" rIns="0" tIns="0" bIns="0" anchor="t">
            <a:noAutofit/>
          </a:bodyPr>
          <a:p>
            <a:pPr algn="ctr">
              <a:lnSpc>
                <a:spcPct val="100000"/>
              </a:lnSpc>
            </a:pPr>
            <a:r>
              <a:rPr b="0" lang="en-US" sz="1400" spc="-1" strike="noStrike">
                <a:solidFill>
                  <a:srgbClr val="ffffff"/>
                </a:solidFill>
                <a:latin typeface="Arial"/>
                <a:ea typeface="Arial"/>
              </a:rPr>
              <a:t>File  Edit  View  Go  Communicator  Help</a:t>
            </a:r>
            <a:endParaRPr b="0" lang="en-US" sz="1400" spc="-1" strike="noStrike">
              <a:solidFill>
                <a:srgbClr val="ffffff"/>
              </a:solidFill>
              <a:latin typeface="Arial"/>
            </a:endParaRPr>
          </a:p>
        </p:txBody>
      </p:sp>
      <p:grpSp>
        <p:nvGrpSpPr>
          <p:cNvPr id="155" name=""/>
          <p:cNvGrpSpPr/>
          <p:nvPr/>
        </p:nvGrpSpPr>
        <p:grpSpPr>
          <a:xfrm>
            <a:off x="7477200" y="4572000"/>
            <a:ext cx="1143000" cy="1447920"/>
            <a:chOff x="7477200" y="4572000"/>
            <a:chExt cx="1143000" cy="1447920"/>
          </a:xfrm>
        </p:grpSpPr>
        <p:sp>
          <p:nvSpPr>
            <p:cNvPr id="156" name=""/>
            <p:cNvSpPr/>
            <p:nvPr/>
          </p:nvSpPr>
          <p:spPr>
            <a:xfrm>
              <a:off x="7477200" y="5562720"/>
              <a:ext cx="1143000" cy="457200"/>
            </a:xfrm>
            <a:prstGeom prst="ellipse">
              <a:avLst/>
            </a:prstGeom>
            <a:solidFill>
              <a:srgbClr val="87c8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7" name=""/>
            <p:cNvSpPr/>
            <p:nvPr/>
          </p:nvSpPr>
          <p:spPr>
            <a:xfrm>
              <a:off x="7477200" y="4800600"/>
              <a:ext cx="1143000" cy="990720"/>
            </a:xfrm>
            <a:prstGeom prst="rect">
              <a:avLst/>
            </a:prstGeom>
            <a:solidFill>
              <a:srgbClr val="87c8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8" name=""/>
            <p:cNvSpPr/>
            <p:nvPr/>
          </p:nvSpPr>
          <p:spPr>
            <a:xfrm>
              <a:off x="7477200" y="4572000"/>
              <a:ext cx="1143000" cy="457200"/>
            </a:xfrm>
            <a:prstGeom prst="ellipse">
              <a:avLst/>
            </a:prstGeom>
            <a:solidFill>
              <a:srgbClr val="87c8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7477200" y="480060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a:off x="8620200" y="480060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pic>
        <p:nvPicPr>
          <p:cNvPr id="161" name="" descr=""/>
          <p:cNvPicPr/>
          <p:nvPr/>
        </p:nvPicPr>
        <p:blipFill>
          <a:blip r:embed="rId2"/>
          <a:stretch/>
        </p:blipFill>
        <p:spPr>
          <a:xfrm>
            <a:off x="3200400" y="2190600"/>
            <a:ext cx="782640" cy="942840"/>
          </a:xfrm>
          <a:prstGeom prst="rect">
            <a:avLst/>
          </a:prstGeom>
          <a:ln w="0">
            <a:noFill/>
          </a:ln>
        </p:spPr>
      </p:pic>
      <p:pic>
        <p:nvPicPr>
          <p:cNvPr id="162" name="" descr=""/>
          <p:cNvPicPr/>
          <p:nvPr/>
        </p:nvPicPr>
        <p:blipFill>
          <a:blip r:embed="rId3"/>
          <a:stretch/>
        </p:blipFill>
        <p:spPr>
          <a:xfrm>
            <a:off x="685800" y="2190600"/>
            <a:ext cx="782640" cy="942840"/>
          </a:xfrm>
          <a:prstGeom prst="rect">
            <a:avLst/>
          </a:prstGeom>
          <a:ln w="0">
            <a:noFill/>
          </a:ln>
        </p:spPr>
      </p:pic>
      <p:sp>
        <p:nvSpPr>
          <p:cNvPr id="163" name=""/>
          <p:cNvSpPr txBox="1"/>
          <p:nvPr/>
        </p:nvSpPr>
        <p:spPr>
          <a:xfrm>
            <a:off x="2720880" y="2462040"/>
            <a:ext cx="1589040" cy="423720"/>
          </a:xfrm>
          <a:prstGeom prst="rect">
            <a:avLst/>
          </a:prstGeom>
          <a:solidFill>
            <a:srgbClr val="ffffff"/>
          </a:solidFill>
          <a:ln w="25560">
            <a:solidFill>
              <a:srgbClr val="919191"/>
            </a:solidFill>
            <a:round/>
          </a:ln>
        </p:spPr>
        <p:txBody>
          <a:bodyPr lIns="0" rIns="0" tIns="0" bIns="0" anchor="t">
            <a:noAutofit/>
          </a:bodyPr>
          <a:p>
            <a:pPr algn="ctr">
              <a:lnSpc>
                <a:spcPct val="100000"/>
              </a:lnSpc>
            </a:pPr>
            <a:r>
              <a:rPr b="1" lang="en-US" sz="1800" spc="-1" strike="noStrike">
                <a:solidFill>
                  <a:srgbClr val="919191"/>
                </a:solidFill>
                <a:latin typeface="Elephant"/>
                <a:ea typeface="Elephant"/>
              </a:rPr>
              <a:t>TRUSTED</a:t>
            </a:r>
            <a:endParaRPr b="0" lang="en-US" sz="1800" spc="-1" strike="noStrike">
              <a:solidFill>
                <a:srgbClr val="000000"/>
              </a:solidFill>
              <a:latin typeface="Arial"/>
            </a:endParaRPr>
          </a:p>
        </p:txBody>
      </p:sp>
      <p:sp>
        <p:nvSpPr>
          <p:cNvPr id="164" name=""/>
          <p:cNvSpPr/>
          <p:nvPr/>
        </p:nvSpPr>
        <p:spPr>
          <a:xfrm>
            <a:off x="6867360" y="1905120"/>
            <a:ext cx="1143000" cy="1523880"/>
          </a:xfrm>
          <a:prstGeom prst="rect">
            <a:avLst/>
          </a:prstGeom>
          <a:solidFill>
            <a:srgbClr val="f39fd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pic>
        <p:nvPicPr>
          <p:cNvPr id="165" name="" descr=""/>
          <p:cNvPicPr/>
          <p:nvPr/>
        </p:nvPicPr>
        <p:blipFill>
          <a:blip r:embed="rId4"/>
          <a:stretch/>
        </p:blipFill>
        <p:spPr>
          <a:xfrm>
            <a:off x="7086600" y="2190600"/>
            <a:ext cx="782640" cy="942840"/>
          </a:xfrm>
          <a:prstGeom prst="rect">
            <a:avLst/>
          </a:prstGeom>
          <a:ln w="0">
            <a:noFill/>
          </a:ln>
        </p:spPr>
      </p:pic>
      <p:sp>
        <p:nvSpPr>
          <p:cNvPr id="166" name=""/>
          <p:cNvSpPr/>
          <p:nvPr/>
        </p:nvSpPr>
        <p:spPr>
          <a:xfrm>
            <a:off x="1685880" y="2438280"/>
            <a:ext cx="1219680" cy="533880"/>
          </a:xfrm>
          <a:custGeom>
            <a:avLst/>
            <a:gdLst/>
            <a:ahLst/>
            <a:rect l="0" t="0" r="r" b="b"/>
            <a:pathLst>
              <a:path w="3388" h="1483">
                <a:moveTo>
                  <a:pt x="0" y="494"/>
                </a:moveTo>
                <a:lnTo>
                  <a:pt x="0" y="987"/>
                </a:lnTo>
                <a:lnTo>
                  <a:pt x="2371" y="987"/>
                </a:lnTo>
                <a:lnTo>
                  <a:pt x="2371" y="1483"/>
                </a:lnTo>
                <a:lnTo>
                  <a:pt x="3388" y="741"/>
                </a:lnTo>
                <a:lnTo>
                  <a:pt x="2371" y="0"/>
                </a:lnTo>
                <a:lnTo>
                  <a:pt x="2371" y="494"/>
                </a:lnTo>
                <a:lnTo>
                  <a:pt x="0" y="494"/>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7" name=""/>
          <p:cNvSpPr/>
          <p:nvPr/>
        </p:nvSpPr>
        <p:spPr>
          <a:xfrm>
            <a:off x="4276800" y="2438280"/>
            <a:ext cx="1448280" cy="533880"/>
          </a:xfrm>
          <a:custGeom>
            <a:avLst/>
            <a:gdLst/>
            <a:ahLst/>
            <a:rect l="0" t="0" r="r" b="b"/>
            <a:pathLst>
              <a:path w="4023" h="1483">
                <a:moveTo>
                  <a:pt x="0" y="494"/>
                </a:moveTo>
                <a:lnTo>
                  <a:pt x="0" y="987"/>
                </a:lnTo>
                <a:lnTo>
                  <a:pt x="2816" y="987"/>
                </a:lnTo>
                <a:lnTo>
                  <a:pt x="2816" y="1483"/>
                </a:lnTo>
                <a:lnTo>
                  <a:pt x="4023" y="741"/>
                </a:lnTo>
                <a:lnTo>
                  <a:pt x="2816" y="0"/>
                </a:lnTo>
                <a:lnTo>
                  <a:pt x="2816" y="494"/>
                </a:lnTo>
                <a:lnTo>
                  <a:pt x="0" y="494"/>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8" name=""/>
          <p:cNvSpPr/>
          <p:nvPr/>
        </p:nvSpPr>
        <p:spPr>
          <a:xfrm>
            <a:off x="6486480" y="3276720"/>
            <a:ext cx="686160" cy="1752840"/>
          </a:xfrm>
          <a:custGeom>
            <a:avLst/>
            <a:gdLst/>
            <a:ahLst/>
            <a:rect l="0" t="0" r="r" b="b"/>
            <a:pathLst>
              <a:path fill="none" w="1906" h="4869">
                <a:moveTo>
                  <a:pt x="1906" y="0"/>
                </a:moveTo>
                <a:lnTo>
                  <a:pt x="1906" y="0"/>
                </a:lnTo>
                <a:cubicBezTo>
                  <a:pt x="1571" y="0"/>
                  <a:pt x="1243" y="225"/>
                  <a:pt x="953" y="652"/>
                </a:cubicBezTo>
                <a:cubicBezTo>
                  <a:pt x="663" y="1080"/>
                  <a:pt x="423" y="1694"/>
                  <a:pt x="255" y="2435"/>
                </a:cubicBezTo>
                <a:cubicBezTo>
                  <a:pt x="88" y="3175"/>
                  <a:pt x="0" y="4014"/>
                  <a:pt x="0" y="4869"/>
                </a:cubicBezTo>
              </a:path>
            </a:pathLst>
          </a:custGeom>
          <a:ln w="76320">
            <a:solidFill>
              <a:srgbClr val="fc0128"/>
            </a:solidFill>
            <a:round/>
            <a:headEnd len="med" type="triangle" w="med"/>
          </a:ln>
        </p:spPr>
        <p:txBody>
          <a:bodyPr lIns="128160" rIns="128160" tIns="83160" bIns="83160" anchor="t">
            <a:noAutofit/>
          </a:bodyPr>
          <a:p>
            <a:endParaRPr b="0" lang="en-US" sz="1800" spc="-1" strike="noStrike">
              <a:solidFill>
                <a:srgbClr val="000000"/>
              </a:solidFill>
              <a:latin typeface="Arial"/>
            </a:endParaRPr>
          </a:p>
        </p:txBody>
      </p:sp>
      <p:sp>
        <p:nvSpPr>
          <p:cNvPr id="169" name=""/>
          <p:cNvSpPr/>
          <p:nvPr/>
        </p:nvSpPr>
        <p:spPr>
          <a:xfrm>
            <a:off x="7781760" y="3276720"/>
            <a:ext cx="686160" cy="1752840"/>
          </a:xfrm>
          <a:custGeom>
            <a:avLst/>
            <a:gdLst/>
            <a:ahLst/>
            <a:rect l="0" t="0" r="r" b="b"/>
            <a:pathLst>
              <a:path fill="none" w="1906" h="4869">
                <a:moveTo>
                  <a:pt x="1906" y="4869"/>
                </a:moveTo>
                <a:lnTo>
                  <a:pt x="1906" y="4869"/>
                </a:lnTo>
                <a:lnTo>
                  <a:pt x="1906" y="4869"/>
                </a:lnTo>
                <a:cubicBezTo>
                  <a:pt x="1906" y="4014"/>
                  <a:pt x="1818" y="3175"/>
                  <a:pt x="1651" y="2434"/>
                </a:cubicBezTo>
                <a:cubicBezTo>
                  <a:pt x="1483" y="1694"/>
                  <a:pt x="1243" y="1080"/>
                  <a:pt x="953" y="652"/>
                </a:cubicBezTo>
                <a:cubicBezTo>
                  <a:pt x="663" y="225"/>
                  <a:pt x="335" y="0"/>
                  <a:pt x="0" y="0"/>
                </a:cubicBezTo>
              </a:path>
            </a:pathLst>
          </a:custGeom>
          <a:ln w="76320">
            <a:solidFill>
              <a:srgbClr val="fc0128"/>
            </a:solidFill>
            <a:round/>
            <a:tailEnd len="med" type="triangle" w="med"/>
          </a:ln>
        </p:spPr>
        <p:txBody>
          <a:bodyPr lIns="128160" rIns="128160" tIns="83160" bIns="83160" anchor="t">
            <a:noAutofit/>
          </a:bodyPr>
          <a:p>
            <a:endParaRPr b="0" lang="en-US" sz="1800" spc="-1" strike="noStrike">
              <a:solidFill>
                <a:srgbClr val="000000"/>
              </a:solidFill>
              <a:latin typeface="Arial"/>
            </a:endParaRPr>
          </a:p>
        </p:txBody>
      </p:sp>
      <p:sp>
        <p:nvSpPr>
          <p:cNvPr id="170" name=""/>
          <p:cNvSpPr txBox="1"/>
          <p:nvPr/>
        </p:nvSpPr>
        <p:spPr>
          <a:xfrm>
            <a:off x="660240" y="3557520"/>
            <a:ext cx="831960" cy="366840"/>
          </a:xfrm>
          <a:prstGeom prst="rect">
            <a:avLst/>
          </a:prstGeom>
          <a:noFill/>
          <a:ln w="0">
            <a:noFill/>
          </a:ln>
        </p:spPr>
        <p:txBody>
          <a:bodyPr lIns="0" rIns="0" tIns="0" bIns="0" anchor="t">
            <a:noAutofit/>
          </a:bodyPr>
          <a:p>
            <a:pPr algn="ctr">
              <a:lnSpc>
                <a:spcPct val="100000"/>
              </a:lnSpc>
            </a:pPr>
            <a:r>
              <a:rPr b="0" lang="en-US" sz="1800" spc="-1" strike="noStrike" u="sng">
                <a:solidFill>
                  <a:srgbClr val="000000"/>
                </a:solidFill>
                <a:uFillTx/>
                <a:latin typeface="Arial"/>
                <a:ea typeface="Arial"/>
              </a:rPr>
              <a:t>Applet</a:t>
            </a:r>
            <a:endParaRPr b="0" lang="en-US" sz="1800" spc="-1" strike="noStrike">
              <a:solidFill>
                <a:srgbClr val="000000"/>
              </a:solidFill>
              <a:latin typeface="Arial"/>
            </a:endParaRPr>
          </a:p>
        </p:txBody>
      </p:sp>
      <p:sp>
        <p:nvSpPr>
          <p:cNvPr id="171" name=""/>
          <p:cNvSpPr txBox="1"/>
          <p:nvPr/>
        </p:nvSpPr>
        <p:spPr>
          <a:xfrm>
            <a:off x="2711520" y="3557520"/>
            <a:ext cx="1608120" cy="366840"/>
          </a:xfrm>
          <a:prstGeom prst="rect">
            <a:avLst/>
          </a:prstGeom>
          <a:noFill/>
          <a:ln w="0">
            <a:noFill/>
          </a:ln>
        </p:spPr>
        <p:txBody>
          <a:bodyPr lIns="0" rIns="0" tIns="0" bIns="0" anchor="t">
            <a:noAutofit/>
          </a:bodyPr>
          <a:p>
            <a:pPr algn="ctr">
              <a:lnSpc>
                <a:spcPct val="100000"/>
              </a:lnSpc>
            </a:pPr>
            <a:r>
              <a:rPr b="0" lang="en-US" sz="1800" spc="-1" strike="noStrike" u="sng">
                <a:solidFill>
                  <a:srgbClr val="000000"/>
                </a:solidFill>
                <a:uFillTx/>
                <a:latin typeface="Arial"/>
                <a:ea typeface="Arial"/>
              </a:rPr>
              <a:t>Signed Applet</a:t>
            </a:r>
            <a:endParaRPr b="0" lang="en-US" sz="1800" spc="-1" strike="noStrike">
              <a:solidFill>
                <a:srgbClr val="000000"/>
              </a:solidFill>
              <a:latin typeface="Arial"/>
            </a:endParaRPr>
          </a:p>
        </p:txBody>
      </p:sp>
      <p:sp>
        <p:nvSpPr>
          <p:cNvPr id="172" name=""/>
          <p:cNvSpPr txBox="1"/>
          <p:nvPr/>
        </p:nvSpPr>
        <p:spPr>
          <a:xfrm>
            <a:off x="7391520" y="5996160"/>
            <a:ext cx="1238400" cy="366840"/>
          </a:xfrm>
          <a:prstGeom prst="rect">
            <a:avLst/>
          </a:prstGeom>
          <a:noFill/>
          <a:ln w="0">
            <a:noFill/>
          </a:ln>
        </p:spPr>
        <p:txBody>
          <a:bodyPr lIns="0" rIns="0" tIns="0" bIns="0" anchor="t">
            <a:noAutofit/>
          </a:bodyPr>
          <a:p>
            <a:pPr algn="ctr">
              <a:lnSpc>
                <a:spcPct val="100000"/>
              </a:lnSpc>
            </a:pPr>
            <a:r>
              <a:rPr b="0" lang="en-US" sz="1800" spc="-1" strike="noStrike" u="sng">
                <a:solidFill>
                  <a:srgbClr val="000000"/>
                </a:solidFill>
                <a:uFillTx/>
                <a:latin typeface="Arial"/>
                <a:ea typeface="Arial"/>
              </a:rPr>
              <a:t>Local Disk</a:t>
            </a:r>
            <a:endParaRPr b="0" lang="en-US" sz="1800" spc="-1" strike="noStrike">
              <a:solidFill>
                <a:srgbClr val="000000"/>
              </a:solidFill>
              <a:latin typeface="Arial"/>
            </a:endParaRPr>
          </a:p>
        </p:txBody>
      </p:sp>
      <p:sp>
        <p:nvSpPr>
          <p:cNvPr id="173" name=""/>
          <p:cNvSpPr txBox="1"/>
          <p:nvPr/>
        </p:nvSpPr>
        <p:spPr>
          <a:xfrm>
            <a:off x="6607080" y="2462040"/>
            <a:ext cx="1589040" cy="423720"/>
          </a:xfrm>
          <a:prstGeom prst="rect">
            <a:avLst/>
          </a:prstGeom>
          <a:solidFill>
            <a:srgbClr val="ffffff"/>
          </a:solidFill>
          <a:ln w="25560">
            <a:solidFill>
              <a:srgbClr val="919191"/>
            </a:solidFill>
            <a:round/>
          </a:ln>
        </p:spPr>
        <p:txBody>
          <a:bodyPr lIns="0" rIns="0" tIns="0" bIns="0" anchor="t">
            <a:noAutofit/>
          </a:bodyPr>
          <a:p>
            <a:pPr algn="ctr">
              <a:lnSpc>
                <a:spcPct val="100000"/>
              </a:lnSpc>
            </a:pPr>
            <a:r>
              <a:rPr b="1" lang="en-US" sz="1800" spc="-1" strike="noStrike">
                <a:solidFill>
                  <a:srgbClr val="919191"/>
                </a:solidFill>
                <a:latin typeface="Elephant"/>
                <a:ea typeface="Elephant"/>
              </a:rPr>
              <a:t>TRUSTED</a:t>
            </a:r>
            <a:endParaRPr b="0" lang="en-US" sz="1800" spc="-1" strike="noStrike">
              <a:solidFill>
                <a:srgbClr val="000000"/>
              </a:solidFill>
              <a:latin typeface="Arial"/>
            </a:endParaRPr>
          </a:p>
        </p:txBody>
      </p:sp>
      <p:sp>
        <p:nvSpPr>
          <p:cNvPr id="174" name=""/>
          <p:cNvSpPr txBox="1"/>
          <p:nvPr/>
        </p:nvSpPr>
        <p:spPr>
          <a:xfrm>
            <a:off x="5486400" y="5843520"/>
            <a:ext cx="1238400" cy="641520"/>
          </a:xfrm>
          <a:prstGeom prst="rect">
            <a:avLst/>
          </a:prstGeom>
          <a:noFill/>
          <a:ln w="0">
            <a:noFill/>
          </a:ln>
        </p:spPr>
        <p:txBody>
          <a:bodyPr lIns="0" rIns="0" tIns="0" bIns="0" anchor="t">
            <a:noAutofit/>
          </a:bodyPr>
          <a:p>
            <a:pPr algn="ctr">
              <a:lnSpc>
                <a:spcPct val="100000"/>
              </a:lnSpc>
            </a:pPr>
            <a:r>
              <a:rPr b="0" lang="en-US" sz="1800" spc="-1" strike="noStrike" u="sng">
                <a:solidFill>
                  <a:srgbClr val="000000"/>
                </a:solidFill>
                <a:uFillTx/>
                <a:latin typeface="Arial"/>
                <a:ea typeface="Arial"/>
              </a:rPr>
              <a:t>Smartcard</a:t>
            </a:r>
            <a:endParaRPr b="0" lang="en-US" sz="1800" spc="-1" strike="noStrike">
              <a:solidFill>
                <a:srgbClr val="000000"/>
              </a:solidFill>
              <a:latin typeface="Arial"/>
            </a:endParaRPr>
          </a:p>
          <a:p>
            <a:pPr algn="ctr">
              <a:lnSpc>
                <a:spcPct val="100000"/>
              </a:lnSpc>
            </a:pPr>
            <a:r>
              <a:rPr b="0" lang="en-US" sz="1800" spc="-1" strike="noStrike" u="sng">
                <a:solidFill>
                  <a:srgbClr val="000000"/>
                </a:solidFill>
                <a:uFillTx/>
                <a:latin typeface="Arial"/>
                <a:ea typeface="Arial"/>
              </a:rPr>
              <a:t>Reader</a:t>
            </a:r>
            <a:endParaRPr b="0" lang="en-US" sz="1800" spc="-1" strike="noStrike">
              <a:solidFill>
                <a:srgbClr val="000000"/>
              </a:solidFill>
              <a:latin typeface="Arial"/>
            </a:endParaRPr>
          </a:p>
        </p:txBody>
      </p:sp>
      <p:sp>
        <p:nvSpPr>
          <p:cNvPr id="175" name=""/>
          <p:cNvSpPr txBox="1"/>
          <p:nvPr/>
        </p:nvSpPr>
        <p:spPr>
          <a:xfrm>
            <a:off x="5419800" y="3786120"/>
            <a:ext cx="1600200" cy="366840"/>
          </a:xfrm>
          <a:prstGeom prst="rect">
            <a:avLst/>
          </a:prstGeom>
          <a:noFill/>
          <a:ln w="0">
            <a:noFill/>
          </a:ln>
        </p:spPr>
        <p:txBody>
          <a:bodyPr lIns="0" rIns="0" tIns="0" bIns="0" anchor="t">
            <a:noAutofit/>
          </a:bodyPr>
          <a:p>
            <a:pPr algn="ctr">
              <a:lnSpc>
                <a:spcPct val="100000"/>
              </a:lnSpc>
            </a:pPr>
            <a:r>
              <a:rPr b="0" lang="en-US" sz="1800" spc="-1" strike="noStrike" u="sng">
                <a:solidFill>
                  <a:srgbClr val="000000"/>
                </a:solidFill>
                <a:uFillTx/>
                <a:latin typeface="Arial"/>
                <a:ea typeface="Arial"/>
              </a:rPr>
              <a:t>Web Brows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ff0"/>
        </a:solidFill>
      </p:bgPr>
    </p:bg>
    <p:spTree>
      <p:nvGrpSpPr>
        <p:cNvPr id="1" name=""/>
        <p:cNvGrpSpPr/>
        <p:nvPr/>
      </p:nvGrpSpPr>
      <p:grpSpPr>
        <a:xfrm>
          <a:off x="0" y="0"/>
          <a:ext cx="0" cy="0"/>
          <a:chOff x="0" y="0"/>
          <a:chExt cx="0" cy="0"/>
        </a:xfrm>
      </p:grpSpPr>
      <p:sp>
        <p:nvSpPr>
          <p:cNvPr id="93" name=""/>
          <p:cNvSpPr txBox="1"/>
          <p:nvPr/>
        </p:nvSpPr>
        <p:spPr>
          <a:xfrm>
            <a:off x="1076400" y="314280"/>
            <a:ext cx="7772400" cy="701640"/>
          </a:xfrm>
          <a:prstGeom prst="rect">
            <a:avLst/>
          </a:prstGeom>
          <a:noFill/>
          <a:ln w="0">
            <a:noFill/>
          </a:ln>
        </p:spPr>
        <p:txBody>
          <a:bodyPr lIns="0" rIns="0" tIns="0" bIns="0" anchor="t">
            <a:noAutofit/>
          </a:bodyPr>
          <a:p>
            <a:pPr algn="ctr">
              <a:lnSpc>
                <a:spcPct val="100000"/>
              </a:lnSpc>
            </a:pPr>
            <a:r>
              <a:rPr b="1" lang="en-US" sz="3600" spc="-1" strike="noStrike">
                <a:solidFill>
                  <a:srgbClr val="0088fe"/>
                </a:solidFill>
                <a:latin typeface="Arial"/>
                <a:ea typeface="Arial"/>
              </a:rPr>
              <a:t>Overview</a:t>
            </a:r>
            <a:endParaRPr b="0" lang="en-US" sz="3600" spc="-1" strike="noStrike">
              <a:solidFill>
                <a:srgbClr val="000000"/>
              </a:solidFill>
              <a:latin typeface="Arial"/>
            </a:endParaRPr>
          </a:p>
        </p:txBody>
      </p:sp>
      <p:sp>
        <p:nvSpPr>
          <p:cNvPr id="94" name=""/>
          <p:cNvSpPr txBox="1"/>
          <p:nvPr/>
        </p:nvSpPr>
        <p:spPr>
          <a:xfrm>
            <a:off x="1076400" y="1906560"/>
            <a:ext cx="7772400" cy="3657600"/>
          </a:xfrm>
          <a:prstGeom prst="rect">
            <a:avLst/>
          </a:prstGeom>
          <a:noFill/>
          <a:ln w="0">
            <a:noFill/>
          </a:ln>
        </p:spPr>
        <p:txBody>
          <a:bodyPr lIns="0" rIns="0" tIns="0" bIns="0" anchor="t">
            <a:noAutofit/>
          </a:bodyPr>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Introduction</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400" spc="-1" strike="noStrike">
                <a:solidFill>
                  <a:srgbClr val="000000"/>
                </a:solidFill>
                <a:latin typeface="Arial"/>
                <a:ea typeface="Arial"/>
              </a:rPr>
              <a:t>Java Security Model</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400" spc="-1" strike="noStrike">
                <a:solidFill>
                  <a:srgbClr val="000000"/>
                </a:solidFill>
                <a:latin typeface="Arial"/>
                <a:ea typeface="Arial"/>
              </a:rPr>
              <a:t>Applet Security</a:t>
            </a:r>
            <a:endParaRPr b="0" lang="en-US" sz="2400" spc="-1" strike="noStrike">
              <a:solidFill>
                <a:srgbClr val="000000"/>
              </a:solidFill>
              <a:latin typeface="Arial"/>
            </a:endParaRPr>
          </a:p>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Running applets in a Web browser</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400" spc="-1" strike="noStrike">
                <a:solidFill>
                  <a:srgbClr val="000000"/>
                </a:solidFill>
                <a:latin typeface="Arial"/>
                <a:ea typeface="Arial"/>
              </a:rPr>
              <a:t>Java API to access smartcards</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400" spc="-1" strike="noStrike">
                <a:solidFill>
                  <a:srgbClr val="000000"/>
                </a:solidFill>
                <a:latin typeface="Arial"/>
                <a:ea typeface="Arial"/>
              </a:rPr>
              <a:t>Signing tool for applets</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400" spc="-1" strike="noStrike">
                <a:solidFill>
                  <a:srgbClr val="000000"/>
                </a:solidFill>
                <a:latin typeface="Arial"/>
                <a:ea typeface="Arial"/>
              </a:rPr>
              <a:t>Java Plug-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ff0"/>
        </a:solidFill>
      </p:bgPr>
    </p:bg>
    <p:spTree>
      <p:nvGrpSpPr>
        <p:cNvPr id="1" name=""/>
        <p:cNvGrpSpPr/>
        <p:nvPr/>
      </p:nvGrpSpPr>
      <p:grpSpPr>
        <a:xfrm>
          <a:off x="0" y="0"/>
          <a:ext cx="0" cy="0"/>
          <a:chOff x="0" y="0"/>
          <a:chExt cx="0" cy="0"/>
        </a:xfrm>
      </p:grpSpPr>
      <p:sp>
        <p:nvSpPr>
          <p:cNvPr id="176" name=""/>
          <p:cNvSpPr txBox="1"/>
          <p:nvPr/>
        </p:nvSpPr>
        <p:spPr>
          <a:xfrm>
            <a:off x="1076400" y="314280"/>
            <a:ext cx="7772400" cy="852120"/>
          </a:xfrm>
          <a:prstGeom prst="rect">
            <a:avLst/>
          </a:prstGeom>
          <a:noFill/>
          <a:ln w="0">
            <a:noFill/>
          </a:ln>
        </p:spPr>
        <p:txBody>
          <a:bodyPr lIns="0" rIns="0" tIns="0" bIns="0" anchor="t">
            <a:noAutofit/>
          </a:bodyPr>
          <a:p>
            <a:pPr algn="ctr">
              <a:lnSpc>
                <a:spcPct val="100000"/>
              </a:lnSpc>
            </a:pPr>
            <a:r>
              <a:rPr b="1" lang="en-US" sz="3600" spc="-1" strike="noStrike">
                <a:solidFill>
                  <a:srgbClr val="0088fe"/>
                </a:solidFill>
                <a:latin typeface="Arial"/>
                <a:ea typeface="Arial"/>
              </a:rPr>
              <a:t>Java Platform 1.1</a:t>
            </a:r>
            <a:br>
              <a:rPr sz="3600"/>
            </a:br>
            <a:r>
              <a:rPr b="1" lang="en-US" sz="2400" spc="-1" strike="noStrike">
                <a:solidFill>
                  <a:srgbClr val="0088fe"/>
                </a:solidFill>
                <a:latin typeface="Arial"/>
                <a:ea typeface="Arial"/>
              </a:rPr>
              <a:t>Javakey</a:t>
            </a:r>
            <a:endParaRPr b="0" lang="en-US" sz="2400" spc="-1" strike="noStrike">
              <a:solidFill>
                <a:srgbClr val="000000"/>
              </a:solidFill>
              <a:latin typeface="Arial"/>
            </a:endParaRPr>
          </a:p>
        </p:txBody>
      </p:sp>
      <p:sp>
        <p:nvSpPr>
          <p:cNvPr id="177" name=""/>
          <p:cNvSpPr txBox="1"/>
          <p:nvPr/>
        </p:nvSpPr>
        <p:spPr>
          <a:xfrm>
            <a:off x="1076400" y="1906560"/>
            <a:ext cx="7772400" cy="3657600"/>
          </a:xfrm>
          <a:prstGeom prst="rect">
            <a:avLst/>
          </a:prstGeom>
          <a:noFill/>
          <a:ln w="0">
            <a:noFill/>
          </a:ln>
        </p:spPr>
        <p:txBody>
          <a:bodyPr lIns="0" rIns="0" tIns="0" bIns="0" anchor="t">
            <a:noAutofit/>
          </a:bodyPr>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Create a self-signed certificate</a:t>
            </a:r>
            <a:endParaRPr b="0" lang="en-US" sz="2400" spc="-1" strike="noStrike">
              <a:solidFill>
                <a:srgbClr val="000000"/>
              </a:solidFill>
              <a:latin typeface="Arial"/>
            </a:endParaRPr>
          </a:p>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Create a Java Archive (JAR file)</a:t>
            </a:r>
            <a:endParaRPr b="0" lang="en-US" sz="2400" spc="-1" strike="noStrike">
              <a:solidFill>
                <a:srgbClr val="000000"/>
              </a:solidFill>
              <a:latin typeface="Arial"/>
            </a:endParaRPr>
          </a:p>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Sign the Java Archive</a:t>
            </a:r>
            <a:endParaRPr b="0" lang="en-US" sz="2400" spc="-1" strike="noStrike">
              <a:solidFill>
                <a:srgbClr val="000000"/>
              </a:solidFill>
              <a:latin typeface="Arial"/>
            </a:endParaRPr>
          </a:p>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Import the certificate in the local keysto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ff0"/>
        </a:solidFill>
      </p:bgPr>
    </p:bg>
    <p:spTree>
      <p:nvGrpSpPr>
        <p:cNvPr id="1" name=""/>
        <p:cNvGrpSpPr/>
        <p:nvPr/>
      </p:nvGrpSpPr>
      <p:grpSpPr>
        <a:xfrm>
          <a:off x="0" y="0"/>
          <a:ext cx="0" cy="0"/>
          <a:chOff x="0" y="0"/>
          <a:chExt cx="0" cy="0"/>
        </a:xfrm>
      </p:grpSpPr>
      <p:sp>
        <p:nvSpPr>
          <p:cNvPr id="178" name=""/>
          <p:cNvSpPr txBox="1"/>
          <p:nvPr/>
        </p:nvSpPr>
        <p:spPr>
          <a:xfrm>
            <a:off x="1076400" y="314280"/>
            <a:ext cx="7772400" cy="701640"/>
          </a:xfrm>
          <a:prstGeom prst="rect">
            <a:avLst/>
          </a:prstGeom>
          <a:noFill/>
          <a:ln w="0">
            <a:noFill/>
          </a:ln>
        </p:spPr>
        <p:txBody>
          <a:bodyPr lIns="0" rIns="0" tIns="0" bIns="0" anchor="t">
            <a:noAutofit/>
          </a:bodyPr>
          <a:p>
            <a:pPr algn="ctr">
              <a:lnSpc>
                <a:spcPct val="100000"/>
              </a:lnSpc>
            </a:pPr>
            <a:r>
              <a:rPr b="1" lang="en-US" sz="3600" spc="-1" strike="noStrike">
                <a:solidFill>
                  <a:srgbClr val="0088fe"/>
                </a:solidFill>
                <a:latin typeface="Arial"/>
                <a:ea typeface="Arial"/>
              </a:rPr>
              <a:t>Create a self-signed certificate</a:t>
            </a:r>
            <a:endParaRPr b="0" lang="en-US" sz="3600" spc="-1" strike="noStrike">
              <a:solidFill>
                <a:srgbClr val="000000"/>
              </a:solidFill>
              <a:latin typeface="Arial"/>
            </a:endParaRPr>
          </a:p>
        </p:txBody>
      </p:sp>
      <p:sp>
        <p:nvSpPr>
          <p:cNvPr id="179" name=""/>
          <p:cNvSpPr txBox="1"/>
          <p:nvPr/>
        </p:nvSpPr>
        <p:spPr>
          <a:xfrm>
            <a:off x="1076400" y="1906560"/>
            <a:ext cx="7772400" cy="3657600"/>
          </a:xfrm>
          <a:prstGeom prst="rect">
            <a:avLst/>
          </a:prstGeom>
          <a:noFill/>
          <a:ln w="0">
            <a:noFill/>
          </a:ln>
        </p:spPr>
        <p:txBody>
          <a:bodyPr lIns="0" rIns="0" tIns="0" bIns="0" anchor="t">
            <a:noAutofit/>
          </a:bodyPr>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create an identity in the identity database</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1" lang="en-US" sz="2400" spc="-1" strike="noStrike">
                <a:solidFill>
                  <a:srgbClr val="000000"/>
                </a:solidFill>
                <a:latin typeface="Courier New"/>
                <a:ea typeface="Courier New"/>
              </a:rPr>
              <a:t>javakey -cs "Patrick" true</a:t>
            </a:r>
            <a:endParaRPr b="0" lang="en-US" sz="2400" spc="-1" strike="noStrike">
              <a:solidFill>
                <a:srgbClr val="000000"/>
              </a:solidFill>
              <a:latin typeface="Arial"/>
            </a:endParaRPr>
          </a:p>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generate DSA key pair for the identity</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1" lang="en-US" sz="2400" spc="-1" strike="noStrike">
                <a:solidFill>
                  <a:srgbClr val="000000"/>
                </a:solidFill>
                <a:latin typeface="Courier New"/>
                <a:ea typeface="Courier New"/>
              </a:rPr>
              <a:t>javakey -gk "Patrick" DSA 512</a:t>
            </a:r>
            <a:endParaRPr b="0" lang="en-US" sz="2400" spc="-1" strike="noStrike">
              <a:solidFill>
                <a:srgbClr val="000000"/>
              </a:solidFill>
              <a:latin typeface="Arial"/>
            </a:endParaRPr>
          </a:p>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generate a certificate</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1" lang="en-US" sz="2400" spc="-1" strike="noStrike">
                <a:solidFill>
                  <a:srgbClr val="000000"/>
                </a:solidFill>
                <a:latin typeface="Courier New"/>
                <a:ea typeface="Courier New"/>
              </a:rPr>
              <a:t>javakey -gc &lt;certif_directive_file&g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ff0"/>
        </a:solidFill>
      </p:bgPr>
    </p:bg>
    <p:spTree>
      <p:nvGrpSpPr>
        <p:cNvPr id="1" name=""/>
        <p:cNvGrpSpPr/>
        <p:nvPr/>
      </p:nvGrpSpPr>
      <p:grpSpPr>
        <a:xfrm>
          <a:off x="0" y="0"/>
          <a:ext cx="0" cy="0"/>
          <a:chOff x="0" y="0"/>
          <a:chExt cx="0" cy="0"/>
        </a:xfrm>
      </p:grpSpPr>
      <p:sp>
        <p:nvSpPr>
          <p:cNvPr id="180" name=""/>
          <p:cNvSpPr txBox="1"/>
          <p:nvPr/>
        </p:nvSpPr>
        <p:spPr>
          <a:xfrm>
            <a:off x="1076400" y="314280"/>
            <a:ext cx="7772400" cy="701640"/>
          </a:xfrm>
          <a:prstGeom prst="rect">
            <a:avLst/>
          </a:prstGeom>
          <a:noFill/>
          <a:ln w="0">
            <a:noFill/>
          </a:ln>
        </p:spPr>
        <p:txBody>
          <a:bodyPr lIns="0" rIns="0" tIns="0" bIns="0" anchor="t">
            <a:noAutofit/>
          </a:bodyPr>
          <a:p>
            <a:pPr algn="ctr">
              <a:lnSpc>
                <a:spcPct val="100000"/>
              </a:lnSpc>
            </a:pPr>
            <a:r>
              <a:rPr b="1" lang="en-US" sz="3600" spc="-1" strike="noStrike">
                <a:solidFill>
                  <a:srgbClr val="0088fe"/>
                </a:solidFill>
                <a:latin typeface="Arial"/>
                <a:ea typeface="Arial"/>
              </a:rPr>
              <a:t>Create a self-signed certificate</a:t>
            </a:r>
            <a:endParaRPr b="0" lang="en-US" sz="3600" spc="-1" strike="noStrike">
              <a:solidFill>
                <a:srgbClr val="000000"/>
              </a:solidFill>
              <a:latin typeface="Arial"/>
            </a:endParaRPr>
          </a:p>
        </p:txBody>
      </p:sp>
      <p:sp>
        <p:nvSpPr>
          <p:cNvPr id="181" name=""/>
          <p:cNvSpPr txBox="1"/>
          <p:nvPr/>
        </p:nvSpPr>
        <p:spPr>
          <a:xfrm>
            <a:off x="1076400" y="1906560"/>
            <a:ext cx="7772400" cy="3657600"/>
          </a:xfrm>
          <a:prstGeom prst="rect">
            <a:avLst/>
          </a:prstGeom>
          <a:noFill/>
          <a:ln w="0">
            <a:noFill/>
          </a:ln>
        </p:spPr>
        <p:txBody>
          <a:bodyPr lIns="0" rIns="0" tIns="0" bIns="0" anchor="t">
            <a:noAutofit/>
          </a:bodyPr>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create an identity in the identity database</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1" lang="en-US" sz="2400" spc="-1" strike="noStrike">
                <a:solidFill>
                  <a:srgbClr val="000000"/>
                </a:solidFill>
                <a:latin typeface="Courier New"/>
                <a:ea typeface="Courier New"/>
              </a:rPr>
              <a:t>javakey -cs "Patrick" true</a:t>
            </a:r>
            <a:endParaRPr b="0" lang="en-US" sz="2400" spc="-1" strike="noStrike">
              <a:solidFill>
                <a:srgbClr val="000000"/>
              </a:solidFill>
              <a:latin typeface="Arial"/>
            </a:endParaRPr>
          </a:p>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generate DSA key pair for the identity</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1" lang="en-US" sz="2400" spc="-1" strike="noStrike">
                <a:solidFill>
                  <a:srgbClr val="000000"/>
                </a:solidFill>
                <a:latin typeface="Courier New"/>
                <a:ea typeface="Courier New"/>
              </a:rPr>
              <a:t>javakey -gk "Patrick" DSA 512</a:t>
            </a:r>
            <a:endParaRPr b="0" lang="en-US" sz="2400" spc="-1" strike="noStrike">
              <a:solidFill>
                <a:srgbClr val="000000"/>
              </a:solidFill>
              <a:latin typeface="Arial"/>
            </a:endParaRPr>
          </a:p>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generate a certificate</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1" lang="en-US" sz="2400" spc="-1" strike="noStrike">
                <a:solidFill>
                  <a:srgbClr val="000000"/>
                </a:solidFill>
                <a:latin typeface="Courier New"/>
                <a:ea typeface="Courier New"/>
              </a:rPr>
              <a:t>javakey -gc &lt;certif_directive_file&gt;</a:t>
            </a:r>
            <a:endParaRPr b="0" lang="en-US" sz="2400" spc="-1" strike="noStrike">
              <a:solidFill>
                <a:srgbClr val="000000"/>
              </a:solidFill>
              <a:latin typeface="Arial"/>
            </a:endParaRPr>
          </a:p>
        </p:txBody>
      </p:sp>
      <p:sp>
        <p:nvSpPr>
          <p:cNvPr id="182" name=""/>
          <p:cNvSpPr txBox="1"/>
          <p:nvPr/>
        </p:nvSpPr>
        <p:spPr>
          <a:xfrm>
            <a:off x="542880" y="1066680"/>
            <a:ext cx="3962520" cy="3352680"/>
          </a:xfrm>
          <a:prstGeom prst="rect">
            <a:avLst/>
          </a:prstGeom>
          <a:solidFill>
            <a:srgbClr val="fc0128"/>
          </a:solidFill>
          <a:ln w="12600">
            <a:solidFill>
              <a:srgbClr val="000000"/>
            </a:solidFill>
            <a:round/>
          </a:ln>
        </p:spPr>
        <p:txBody>
          <a:bodyPr lIns="0" rIns="0" tIns="0" bIns="0" anchor="t">
            <a:noAutofit/>
          </a:bodyPr>
          <a:p>
            <a:pPr>
              <a:lnSpc>
                <a:spcPct val="100000"/>
              </a:lnSpc>
            </a:pPr>
            <a:r>
              <a:rPr b="0" lang="en-US" sz="1800" spc="-1" strike="noStrike">
                <a:solidFill>
                  <a:srgbClr val="ffffff"/>
                </a:solidFill>
                <a:latin typeface="Arial"/>
                <a:ea typeface="Arial"/>
              </a:rPr>
              <a:t>issuer.name</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1" lang="en-US" sz="1800" spc="-1" strike="noStrike">
                <a:solidFill>
                  <a:srgbClr val="ffffff"/>
                </a:solidFill>
                <a:latin typeface="Arial"/>
                <a:ea typeface="Arial"/>
              </a:rPr>
              <a:t>Patrick</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issuer.cer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1" lang="en-US" sz="1800" spc="-1" strike="noStrike">
                <a:solidFill>
                  <a:srgbClr val="ffffff"/>
                </a:solidFill>
                <a:latin typeface="Arial"/>
                <a:ea typeface="Arial"/>
              </a:rPr>
              <a:t>1</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subject.name</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1" lang="en-US" sz="1800" spc="-1" strike="noStrike">
                <a:solidFill>
                  <a:srgbClr val="ffffff"/>
                </a:solidFill>
                <a:latin typeface="Arial"/>
                <a:ea typeface="Arial"/>
              </a:rPr>
              <a:t>Patrick</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subject.real.name</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1" lang="en-US" sz="1800" spc="-1" strike="noStrike">
                <a:solidFill>
                  <a:srgbClr val="ffffff"/>
                </a:solidFill>
                <a:latin typeface="Arial"/>
                <a:ea typeface="Arial"/>
              </a:rPr>
              <a:t>Patrick Biget</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subject.org.uni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1" lang="en-US" sz="1800" spc="-1" strike="noStrike">
                <a:solidFill>
                  <a:srgbClr val="ffffff"/>
                </a:solidFill>
                <a:latin typeface="Arial"/>
                <a:ea typeface="Arial"/>
              </a:rPr>
              <a:t>ResearchGroup</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subject.org</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1" lang="en-US" sz="1800" spc="-1" strike="noStrike">
                <a:solidFill>
                  <a:srgbClr val="ffffff"/>
                </a:solidFill>
                <a:latin typeface="Arial"/>
                <a:ea typeface="Arial"/>
              </a:rPr>
              <a:t>Gemplus</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subject.country</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1" lang="en-US" sz="1800" spc="-1" strike="noStrike">
                <a:solidFill>
                  <a:srgbClr val="ffffff"/>
                </a:solidFill>
                <a:latin typeface="Arial"/>
                <a:ea typeface="Arial"/>
              </a:rPr>
              <a:t>FR</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start.date</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1" lang="en-US" sz="1800" spc="-1" strike="noStrike">
                <a:solidFill>
                  <a:srgbClr val="ffffff"/>
                </a:solidFill>
                <a:latin typeface="Arial"/>
                <a:ea typeface="Arial"/>
              </a:rPr>
              <a:t>17 Jun 1997</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end.date</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1" lang="en-US" sz="1800" spc="-1" strike="noStrike">
                <a:solidFill>
                  <a:srgbClr val="ffffff"/>
                </a:solidFill>
                <a:latin typeface="Arial"/>
                <a:ea typeface="Arial"/>
              </a:rPr>
              <a:t>15 Sep 1999</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serial.number</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1" lang="en-US" sz="1800" spc="-1" strike="noStrike">
                <a:solidFill>
                  <a:srgbClr val="ffffff"/>
                </a:solidFill>
                <a:latin typeface="Arial"/>
                <a:ea typeface="Arial"/>
              </a:rPr>
              <a:t>1001</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out.file</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1" lang="en-US" sz="1800" spc="-1" strike="noStrike">
                <a:solidFill>
                  <a:srgbClr val="ffffff"/>
                </a:solidFill>
                <a:latin typeface="Arial"/>
                <a:ea typeface="Arial"/>
              </a:rPr>
              <a:t>PatCertif01.cer</a:t>
            </a:r>
            <a:endParaRPr b="0" lang="en-US" sz="1800" spc="-1" strike="noStrike">
              <a:solidFill>
                <a:srgbClr val="000000"/>
              </a:solidFill>
              <a:latin typeface="Arial"/>
            </a:endParaRPr>
          </a:p>
        </p:txBody>
      </p:sp>
      <p:sp>
        <p:nvSpPr>
          <p:cNvPr id="183" name=""/>
          <p:cNvSpPr/>
          <p:nvPr/>
        </p:nvSpPr>
        <p:spPr>
          <a:xfrm>
            <a:off x="4200480" y="4648320"/>
            <a:ext cx="4343400" cy="762120"/>
          </a:xfrm>
          <a:prstGeom prst="ellipse">
            <a:avLst/>
          </a:prstGeom>
          <a:noFill/>
          <a:ln w="38160">
            <a:solidFill>
              <a:srgbClr val="fc0128"/>
            </a:solidFill>
            <a:round/>
          </a:ln>
        </p:spPr>
        <p:txBody>
          <a:bodyPr lIns="109080" rIns="109080" tIns="64080" bIns="64080" anchor="t">
            <a:noAutofit/>
          </a:bodyPr>
          <a:p>
            <a:endParaRPr b="0" lang="en-US" sz="1800" spc="-1" strike="noStrike">
              <a:solidFill>
                <a:srgbClr val="000000"/>
              </a:solidFill>
              <a:latin typeface="Arial"/>
            </a:endParaRPr>
          </a:p>
        </p:txBody>
      </p:sp>
      <p:sp>
        <p:nvSpPr>
          <p:cNvPr id="184" name=""/>
          <p:cNvSpPr/>
          <p:nvPr/>
        </p:nvSpPr>
        <p:spPr>
          <a:xfrm>
            <a:off x="4505400" y="2895480"/>
            <a:ext cx="1905480" cy="1752840"/>
          </a:xfrm>
          <a:custGeom>
            <a:avLst/>
            <a:gdLst/>
            <a:ahLst/>
            <a:rect l="0" t="0" r="r" b="b"/>
            <a:pathLst>
              <a:path fill="none" w="5293" h="4869">
                <a:moveTo>
                  <a:pt x="0" y="0"/>
                </a:moveTo>
                <a:lnTo>
                  <a:pt x="0" y="0"/>
                </a:lnTo>
                <a:cubicBezTo>
                  <a:pt x="0" y="855"/>
                  <a:pt x="245" y="1694"/>
                  <a:pt x="709" y="2435"/>
                </a:cubicBezTo>
                <a:cubicBezTo>
                  <a:pt x="1174" y="3175"/>
                  <a:pt x="1842" y="3789"/>
                  <a:pt x="2647" y="4217"/>
                </a:cubicBezTo>
                <a:cubicBezTo>
                  <a:pt x="3451" y="4644"/>
                  <a:pt x="4364" y="4869"/>
                  <a:pt x="5293" y="4869"/>
                </a:cubicBezTo>
              </a:path>
            </a:pathLst>
          </a:custGeom>
          <a:ln w="38160">
            <a:solidFill>
              <a:srgbClr val="fc0128"/>
            </a:solidFill>
            <a:round/>
          </a:ln>
        </p:spPr>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ff0"/>
        </a:solidFill>
      </p:bgPr>
    </p:bg>
    <p:spTree>
      <p:nvGrpSpPr>
        <p:cNvPr id="1" name=""/>
        <p:cNvGrpSpPr/>
        <p:nvPr/>
      </p:nvGrpSpPr>
      <p:grpSpPr>
        <a:xfrm>
          <a:off x="0" y="0"/>
          <a:ext cx="0" cy="0"/>
          <a:chOff x="0" y="0"/>
          <a:chExt cx="0" cy="0"/>
        </a:xfrm>
      </p:grpSpPr>
      <p:sp>
        <p:nvSpPr>
          <p:cNvPr id="185" name=""/>
          <p:cNvSpPr txBox="1"/>
          <p:nvPr/>
        </p:nvSpPr>
        <p:spPr>
          <a:xfrm>
            <a:off x="1076400" y="314280"/>
            <a:ext cx="7772400" cy="701640"/>
          </a:xfrm>
          <a:prstGeom prst="rect">
            <a:avLst/>
          </a:prstGeom>
          <a:noFill/>
          <a:ln w="0">
            <a:noFill/>
          </a:ln>
        </p:spPr>
        <p:txBody>
          <a:bodyPr lIns="0" rIns="0" tIns="0" bIns="0" anchor="t">
            <a:noAutofit/>
          </a:bodyPr>
          <a:p>
            <a:pPr algn="ctr">
              <a:lnSpc>
                <a:spcPct val="100000"/>
              </a:lnSpc>
            </a:pPr>
            <a:r>
              <a:rPr b="1" lang="en-US" sz="3600" spc="-1" strike="noStrike">
                <a:solidFill>
                  <a:srgbClr val="0088fe"/>
                </a:solidFill>
                <a:latin typeface="Arial"/>
                <a:ea typeface="Arial"/>
              </a:rPr>
              <a:t>Create and Sign a Java Archive</a:t>
            </a:r>
            <a:endParaRPr b="0" lang="en-US" sz="3600" spc="-1" strike="noStrike">
              <a:solidFill>
                <a:srgbClr val="000000"/>
              </a:solidFill>
              <a:latin typeface="Arial"/>
            </a:endParaRPr>
          </a:p>
        </p:txBody>
      </p:sp>
      <p:sp>
        <p:nvSpPr>
          <p:cNvPr id="186" name=""/>
          <p:cNvSpPr txBox="1"/>
          <p:nvPr/>
        </p:nvSpPr>
        <p:spPr>
          <a:xfrm>
            <a:off x="1076400" y="1906560"/>
            <a:ext cx="7772400" cy="3657600"/>
          </a:xfrm>
          <a:prstGeom prst="rect">
            <a:avLst/>
          </a:prstGeom>
          <a:noFill/>
          <a:ln w="0">
            <a:noFill/>
          </a:ln>
        </p:spPr>
        <p:txBody>
          <a:bodyPr lIns="0" rIns="0" tIns="0" bIns="0" anchor="t">
            <a:noAutofit/>
          </a:bodyPr>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Create the archive</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1" lang="en-US" sz="2400" spc="-1" strike="noStrike">
                <a:solidFill>
                  <a:srgbClr val="000000"/>
                </a:solidFill>
                <a:latin typeface="Courier New"/>
                <a:ea typeface="Courier New"/>
              </a:rPr>
              <a:t>jar cf MyApplet.jar class_1.class class_2.class ... class_n.class</a:t>
            </a:r>
            <a:endParaRPr b="0" lang="en-US" sz="2400" spc="-1" strike="noStrike">
              <a:solidFill>
                <a:srgbClr val="000000"/>
              </a:solidFill>
              <a:latin typeface="Arial"/>
            </a:endParaRPr>
          </a:p>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Sign the archive</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1" lang="en-US" sz="2400" spc="-1" strike="noStrike">
                <a:solidFill>
                  <a:srgbClr val="000000"/>
                </a:solidFill>
                <a:latin typeface="Courier New"/>
                <a:ea typeface="Courier New"/>
              </a:rPr>
              <a:t>javakey -gs &lt;signature_directive&gt; MyApplet.j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ff0"/>
        </a:solidFill>
      </p:bgPr>
    </p:bg>
    <p:spTree>
      <p:nvGrpSpPr>
        <p:cNvPr id="1" name=""/>
        <p:cNvGrpSpPr/>
        <p:nvPr/>
      </p:nvGrpSpPr>
      <p:grpSpPr>
        <a:xfrm>
          <a:off x="0" y="0"/>
          <a:ext cx="0" cy="0"/>
          <a:chOff x="0" y="0"/>
          <a:chExt cx="0" cy="0"/>
        </a:xfrm>
      </p:grpSpPr>
      <p:sp>
        <p:nvSpPr>
          <p:cNvPr id="187" name=""/>
          <p:cNvSpPr txBox="1"/>
          <p:nvPr/>
        </p:nvSpPr>
        <p:spPr>
          <a:xfrm>
            <a:off x="1076400" y="314280"/>
            <a:ext cx="7772400" cy="701640"/>
          </a:xfrm>
          <a:prstGeom prst="rect">
            <a:avLst/>
          </a:prstGeom>
          <a:noFill/>
          <a:ln w="0">
            <a:noFill/>
          </a:ln>
        </p:spPr>
        <p:txBody>
          <a:bodyPr lIns="0" rIns="0" tIns="0" bIns="0" anchor="t">
            <a:noAutofit/>
          </a:bodyPr>
          <a:p>
            <a:pPr algn="ctr">
              <a:lnSpc>
                <a:spcPct val="100000"/>
              </a:lnSpc>
            </a:pPr>
            <a:r>
              <a:rPr b="1" lang="en-US" sz="3600" spc="-1" strike="noStrike">
                <a:solidFill>
                  <a:srgbClr val="0088fe"/>
                </a:solidFill>
                <a:latin typeface="Arial"/>
                <a:ea typeface="Arial"/>
              </a:rPr>
              <a:t>Create and Sign a Java Archive</a:t>
            </a:r>
            <a:endParaRPr b="0" lang="en-US" sz="3600" spc="-1" strike="noStrike">
              <a:solidFill>
                <a:srgbClr val="000000"/>
              </a:solidFill>
              <a:latin typeface="Arial"/>
            </a:endParaRPr>
          </a:p>
        </p:txBody>
      </p:sp>
      <p:sp>
        <p:nvSpPr>
          <p:cNvPr id="188" name=""/>
          <p:cNvSpPr txBox="1"/>
          <p:nvPr/>
        </p:nvSpPr>
        <p:spPr>
          <a:xfrm>
            <a:off x="1076400" y="1906560"/>
            <a:ext cx="7772400" cy="3657600"/>
          </a:xfrm>
          <a:prstGeom prst="rect">
            <a:avLst/>
          </a:prstGeom>
          <a:noFill/>
          <a:ln w="0">
            <a:noFill/>
          </a:ln>
        </p:spPr>
        <p:txBody>
          <a:bodyPr lIns="0" rIns="0" tIns="0" bIns="0" anchor="t">
            <a:noAutofit/>
          </a:bodyPr>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Create the archive</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1" lang="en-US" sz="2400" spc="-1" strike="noStrike">
                <a:solidFill>
                  <a:srgbClr val="000000"/>
                </a:solidFill>
                <a:latin typeface="Courier New"/>
                <a:ea typeface="Courier New"/>
              </a:rPr>
              <a:t>jar cf MyApplet.jar class_1.class class_2.class ... class_n.class</a:t>
            </a:r>
            <a:endParaRPr b="0" lang="en-US" sz="2400" spc="-1" strike="noStrike">
              <a:solidFill>
                <a:srgbClr val="000000"/>
              </a:solidFill>
              <a:latin typeface="Arial"/>
            </a:endParaRPr>
          </a:p>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Sign the archive</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1" lang="en-US" sz="2400" spc="-1" strike="noStrike">
                <a:solidFill>
                  <a:srgbClr val="000000"/>
                </a:solidFill>
                <a:latin typeface="Courier New"/>
                <a:ea typeface="Courier New"/>
              </a:rPr>
              <a:t>javakey -gs &lt;signature_directive&gt; MyApplet.jar</a:t>
            </a:r>
            <a:endParaRPr b="0" lang="en-US" sz="2400" spc="-1" strike="noStrike">
              <a:solidFill>
                <a:srgbClr val="000000"/>
              </a:solidFill>
              <a:latin typeface="Arial"/>
            </a:endParaRPr>
          </a:p>
        </p:txBody>
      </p:sp>
      <p:sp>
        <p:nvSpPr>
          <p:cNvPr id="189" name=""/>
          <p:cNvSpPr txBox="1"/>
          <p:nvPr/>
        </p:nvSpPr>
        <p:spPr>
          <a:xfrm>
            <a:off x="542880" y="1523880"/>
            <a:ext cx="4343400" cy="1752480"/>
          </a:xfrm>
          <a:prstGeom prst="rect">
            <a:avLst/>
          </a:prstGeom>
          <a:solidFill>
            <a:srgbClr val="fc0128"/>
          </a:solidFill>
          <a:ln w="12600">
            <a:solidFill>
              <a:srgbClr val="000000"/>
            </a:solidFill>
            <a:round/>
          </a:ln>
        </p:spPr>
        <p:txBody>
          <a:bodyPr lIns="0" rIns="0" tIns="0" bIns="0" anchor="t">
            <a:noAutofit/>
          </a:bodyPr>
          <a:p>
            <a:pPr>
              <a:lnSpc>
                <a:spcPct val="100000"/>
              </a:lnSpc>
            </a:pPr>
            <a:r>
              <a:rPr b="0" lang="en-US" sz="1800" spc="-1" strike="noStrike">
                <a:solidFill>
                  <a:srgbClr val="ffffff"/>
                </a:solidFill>
                <a:latin typeface="Arial"/>
                <a:ea typeface="Arial"/>
              </a:rPr>
              <a:t>signer</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1" lang="en-US" sz="1800" spc="-1" strike="noStrike">
                <a:solidFill>
                  <a:srgbClr val="ffffff"/>
                </a:solidFill>
                <a:latin typeface="Arial"/>
                <a:ea typeface="Arial"/>
              </a:rPr>
              <a:t>Patrick</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cer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1" lang="en-US" sz="1800" spc="-1" strike="noStrike">
                <a:solidFill>
                  <a:srgbClr val="ffffff"/>
                </a:solidFill>
                <a:latin typeface="Arial"/>
                <a:ea typeface="Arial"/>
              </a:rPr>
              <a:t>1</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chain</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1" lang="en-US" sz="1800" spc="-1" strike="noStrike">
                <a:solidFill>
                  <a:srgbClr val="ffffff"/>
                </a:solidFill>
                <a:latin typeface="Arial"/>
                <a:ea typeface="Arial"/>
              </a:rPr>
              <a:t>0</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signature.file</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1" lang="en-US" sz="1800" spc="-1" strike="noStrike">
                <a:solidFill>
                  <a:srgbClr val="ffffff"/>
                </a:solidFill>
                <a:latin typeface="Arial"/>
                <a:ea typeface="Arial"/>
              </a:rPr>
              <a:t>PATSIGN</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out.file</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1" lang="en-US" sz="1800" spc="-1" strike="noStrike">
                <a:solidFill>
                  <a:srgbClr val="ffffff"/>
                </a:solidFill>
                <a:latin typeface="Arial"/>
                <a:ea typeface="Arial"/>
              </a:rPr>
              <a:t>MySignedApplet.jar</a:t>
            </a:r>
            <a:endParaRPr b="0" lang="en-US" sz="1800" spc="-1" strike="noStrike">
              <a:solidFill>
                <a:srgbClr val="000000"/>
              </a:solidFill>
              <a:latin typeface="Arial"/>
            </a:endParaRPr>
          </a:p>
        </p:txBody>
      </p:sp>
      <p:sp>
        <p:nvSpPr>
          <p:cNvPr id="190" name=""/>
          <p:cNvSpPr/>
          <p:nvPr/>
        </p:nvSpPr>
        <p:spPr>
          <a:xfrm>
            <a:off x="4352760" y="4114800"/>
            <a:ext cx="4114800" cy="838080"/>
          </a:xfrm>
          <a:prstGeom prst="ellipse">
            <a:avLst/>
          </a:prstGeom>
          <a:noFill/>
          <a:ln w="38160">
            <a:solidFill>
              <a:srgbClr val="fc0128"/>
            </a:solidFill>
            <a:round/>
          </a:ln>
        </p:spPr>
        <p:txBody>
          <a:bodyPr lIns="109080" rIns="109080" tIns="64080" bIns="64080" anchor="t">
            <a:noAutofit/>
          </a:bodyPr>
          <a:p>
            <a:endParaRPr b="0" lang="en-US" sz="1800" spc="-1" strike="noStrike">
              <a:solidFill>
                <a:srgbClr val="000000"/>
              </a:solidFill>
              <a:latin typeface="Arial"/>
            </a:endParaRPr>
          </a:p>
        </p:txBody>
      </p:sp>
      <p:sp>
        <p:nvSpPr>
          <p:cNvPr id="191" name=""/>
          <p:cNvSpPr/>
          <p:nvPr/>
        </p:nvSpPr>
        <p:spPr>
          <a:xfrm>
            <a:off x="4848120" y="2362320"/>
            <a:ext cx="1492560" cy="1752840"/>
          </a:xfrm>
          <a:custGeom>
            <a:avLst/>
            <a:gdLst/>
            <a:ahLst/>
            <a:rect l="0" t="0" r="r" b="b"/>
            <a:pathLst>
              <a:path fill="none" w="4146" h="4869">
                <a:moveTo>
                  <a:pt x="0" y="0"/>
                </a:moveTo>
                <a:lnTo>
                  <a:pt x="0" y="0"/>
                </a:lnTo>
                <a:cubicBezTo>
                  <a:pt x="0" y="855"/>
                  <a:pt x="192" y="1694"/>
                  <a:pt x="555" y="2435"/>
                </a:cubicBezTo>
                <a:cubicBezTo>
                  <a:pt x="919" y="3175"/>
                  <a:pt x="1443" y="3789"/>
                  <a:pt x="2073" y="4217"/>
                </a:cubicBezTo>
                <a:cubicBezTo>
                  <a:pt x="2703" y="4644"/>
                  <a:pt x="3418" y="4869"/>
                  <a:pt x="4146" y="4869"/>
                </a:cubicBezTo>
              </a:path>
            </a:pathLst>
          </a:custGeom>
          <a:ln w="38160">
            <a:solidFill>
              <a:srgbClr val="fc0128"/>
            </a:solidFill>
            <a:round/>
          </a:ln>
        </p:spPr>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ff0"/>
        </a:solidFill>
      </p:bgPr>
    </p:bg>
    <p:spTree>
      <p:nvGrpSpPr>
        <p:cNvPr id="1" name=""/>
        <p:cNvGrpSpPr/>
        <p:nvPr/>
      </p:nvGrpSpPr>
      <p:grpSpPr>
        <a:xfrm>
          <a:off x="0" y="0"/>
          <a:ext cx="0" cy="0"/>
          <a:chOff x="0" y="0"/>
          <a:chExt cx="0" cy="0"/>
        </a:xfrm>
      </p:grpSpPr>
      <p:sp>
        <p:nvSpPr>
          <p:cNvPr id="192" name=""/>
          <p:cNvSpPr txBox="1"/>
          <p:nvPr/>
        </p:nvSpPr>
        <p:spPr>
          <a:xfrm>
            <a:off x="1076400" y="314280"/>
            <a:ext cx="7772400" cy="701640"/>
          </a:xfrm>
          <a:prstGeom prst="rect">
            <a:avLst/>
          </a:prstGeom>
          <a:noFill/>
          <a:ln w="0">
            <a:noFill/>
          </a:ln>
        </p:spPr>
        <p:txBody>
          <a:bodyPr lIns="0" rIns="0" tIns="0" bIns="0" anchor="t">
            <a:noAutofit/>
          </a:bodyPr>
          <a:p>
            <a:pPr algn="ctr">
              <a:lnSpc>
                <a:spcPct val="100000"/>
              </a:lnSpc>
            </a:pPr>
            <a:r>
              <a:rPr b="1" lang="en-US" sz="3600" spc="-1" strike="noStrike">
                <a:solidFill>
                  <a:srgbClr val="0088fe"/>
                </a:solidFill>
                <a:latin typeface="Arial"/>
                <a:ea typeface="Arial"/>
              </a:rPr>
              <a:t>Import the certificate</a:t>
            </a:r>
            <a:endParaRPr b="0" lang="en-US" sz="3600" spc="-1" strike="noStrike">
              <a:solidFill>
                <a:srgbClr val="000000"/>
              </a:solidFill>
              <a:latin typeface="Arial"/>
            </a:endParaRPr>
          </a:p>
        </p:txBody>
      </p:sp>
      <p:sp>
        <p:nvSpPr>
          <p:cNvPr id="193" name=""/>
          <p:cNvSpPr txBox="1"/>
          <p:nvPr/>
        </p:nvSpPr>
        <p:spPr>
          <a:xfrm>
            <a:off x="771480" y="1906560"/>
            <a:ext cx="8458200" cy="4210560"/>
          </a:xfrm>
          <a:prstGeom prst="rect">
            <a:avLst/>
          </a:prstGeom>
          <a:noFill/>
          <a:ln w="0">
            <a:noFill/>
          </a:ln>
        </p:spPr>
        <p:txBody>
          <a:bodyPr lIns="0" rIns="0" tIns="0" bIns="0" anchor="t">
            <a:noAutofit/>
          </a:bodyPr>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Import the certificate in the local keystore</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1" lang="en-US" sz="2400" spc="-1" strike="noStrike">
                <a:solidFill>
                  <a:srgbClr val="000000"/>
                </a:solidFill>
                <a:latin typeface="Courier New"/>
                <a:ea typeface="Courier New"/>
              </a:rPr>
              <a:t>javakey -i "Patrick" PatCertif01.cer</a:t>
            </a:r>
            <a:endParaRPr b="0" lang="en-US" sz="2400" spc="-1" strike="noStrike">
              <a:solidFill>
                <a:srgbClr val="000000"/>
              </a:solidFill>
              <a:latin typeface="Arial"/>
            </a:endParaRPr>
          </a:p>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What is the local keystore?</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400" spc="-1" strike="noStrike">
                <a:solidFill>
                  <a:srgbClr val="000000"/>
                </a:solidFill>
                <a:latin typeface="Arial"/>
                <a:ea typeface="Arial"/>
              </a:rPr>
              <a:t>a file which default location is</a:t>
            </a:r>
            <a:endParaRPr b="0" lang="en-US" sz="2400" spc="-1" strike="noStrike">
              <a:solidFill>
                <a:srgbClr val="000000"/>
              </a:solidFill>
              <a:latin typeface="Arial"/>
            </a:endParaRPr>
          </a:p>
          <a:p>
            <a:pPr lvl="2" marL="1066680" indent="-212760">
              <a:lnSpc>
                <a:spcPct val="120000"/>
              </a:lnSpc>
              <a:spcBef>
                <a:spcPts val="479"/>
              </a:spcBef>
              <a:buClr>
                <a:srgbClr val="fdd900"/>
              </a:buClr>
              <a:buFont typeface="Wingdings"/>
              <a:buChar char=""/>
            </a:pPr>
            <a:r>
              <a:rPr b="1" lang="en-US" sz="2400" spc="-1" strike="noStrike">
                <a:solidFill>
                  <a:srgbClr val="000000"/>
                </a:solidFill>
                <a:latin typeface="Courier New"/>
                <a:ea typeface="Courier New"/>
              </a:rPr>
              <a:t>/Users/Default/identitydb.obj</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400" spc="-1" strike="noStrike">
                <a:solidFill>
                  <a:srgbClr val="000000"/>
                </a:solidFill>
                <a:latin typeface="Arial"/>
                <a:ea typeface="Arial"/>
              </a:rPr>
              <a:t>location configurable in</a:t>
            </a:r>
            <a:endParaRPr b="0" lang="en-US" sz="2400" spc="-1" strike="noStrike">
              <a:solidFill>
                <a:srgbClr val="000000"/>
              </a:solidFill>
              <a:latin typeface="Arial"/>
            </a:endParaRPr>
          </a:p>
          <a:p>
            <a:pPr lvl="2" marL="1066680" indent="-212760">
              <a:lnSpc>
                <a:spcPct val="120000"/>
              </a:lnSpc>
              <a:spcBef>
                <a:spcPts val="479"/>
              </a:spcBef>
              <a:buClr>
                <a:srgbClr val="fdd900"/>
              </a:buClr>
              <a:buFont typeface="Wingdings"/>
              <a:buChar char=""/>
            </a:pPr>
            <a:r>
              <a:rPr b="0" lang="en-US" sz="2400" spc="-1" strike="noStrike">
                <a:solidFill>
                  <a:srgbClr val="000000"/>
                </a:solidFill>
                <a:latin typeface="Arial"/>
                <a:ea typeface="Arial"/>
              </a:rPr>
              <a:t>/</a:t>
            </a:r>
            <a:r>
              <a:rPr b="1" lang="en-US" sz="2400" spc="-1" strike="noStrike">
                <a:solidFill>
                  <a:srgbClr val="000000"/>
                </a:solidFill>
                <a:latin typeface="Courier New"/>
                <a:ea typeface="Courier New"/>
              </a:rPr>
              <a:t>&lt;jdk_path&gt;/lib/security/java.security</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400" spc="-1" strike="noStrike">
                <a:solidFill>
                  <a:srgbClr val="000000"/>
                </a:solidFill>
                <a:latin typeface="Arial"/>
                <a:ea typeface="Arial"/>
              </a:rPr>
              <a:t>add the line</a:t>
            </a:r>
            <a:endParaRPr b="0" lang="en-US" sz="2400" spc="-1" strike="noStrike">
              <a:solidFill>
                <a:srgbClr val="000000"/>
              </a:solidFill>
              <a:latin typeface="Arial"/>
            </a:endParaRPr>
          </a:p>
          <a:p>
            <a:pPr lvl="2" marL="1066680" indent="-212760">
              <a:lnSpc>
                <a:spcPct val="120000"/>
              </a:lnSpc>
              <a:spcBef>
                <a:spcPts val="479"/>
              </a:spcBef>
              <a:buClr>
                <a:srgbClr val="fdd900"/>
              </a:buClr>
              <a:buFont typeface="Wingdings"/>
              <a:buChar char=""/>
            </a:pPr>
            <a:r>
              <a:rPr b="1" lang="en-US" sz="2400" spc="-1" strike="noStrike">
                <a:solidFill>
                  <a:srgbClr val="000000"/>
                </a:solidFill>
                <a:latin typeface="Courier New"/>
                <a:ea typeface="Courier New"/>
              </a:rPr>
              <a:t>identity.database=&lt;filename&gt;</a:t>
            </a:r>
            <a:endParaRPr b="0" lang="en-US" sz="2400" spc="-1" strike="noStrike">
              <a:solidFill>
                <a:srgbClr val="000000"/>
              </a:solidFill>
              <a:latin typeface="Arial"/>
            </a:endParaRPr>
          </a:p>
        </p:txBody>
      </p:sp>
      <p:pic>
        <p:nvPicPr>
          <p:cNvPr id="194" name="" descr=""/>
          <p:cNvPicPr/>
          <p:nvPr/>
        </p:nvPicPr>
        <p:blipFill>
          <a:blip r:embed="rId1"/>
          <a:stretch/>
        </p:blipFill>
        <p:spPr>
          <a:xfrm>
            <a:off x="7781760" y="127080"/>
            <a:ext cx="1573200" cy="1851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ff0"/>
        </a:solidFill>
      </p:bgPr>
    </p:bg>
    <p:spTree>
      <p:nvGrpSpPr>
        <p:cNvPr id="1" name=""/>
        <p:cNvGrpSpPr/>
        <p:nvPr/>
      </p:nvGrpSpPr>
      <p:grpSpPr>
        <a:xfrm>
          <a:off x="0" y="0"/>
          <a:ext cx="0" cy="0"/>
          <a:chOff x="0" y="0"/>
          <a:chExt cx="0" cy="0"/>
        </a:xfrm>
      </p:grpSpPr>
      <p:sp>
        <p:nvSpPr>
          <p:cNvPr id="195" name=""/>
          <p:cNvSpPr txBox="1"/>
          <p:nvPr/>
        </p:nvSpPr>
        <p:spPr>
          <a:xfrm>
            <a:off x="1076400" y="314280"/>
            <a:ext cx="7772400" cy="701640"/>
          </a:xfrm>
          <a:prstGeom prst="rect">
            <a:avLst/>
          </a:prstGeom>
          <a:noFill/>
          <a:ln w="0">
            <a:noFill/>
          </a:ln>
        </p:spPr>
        <p:txBody>
          <a:bodyPr lIns="0" rIns="0" tIns="0" bIns="0" anchor="t">
            <a:noAutofit/>
          </a:bodyPr>
          <a:p>
            <a:pPr algn="ctr">
              <a:lnSpc>
                <a:spcPct val="100000"/>
              </a:lnSpc>
            </a:pPr>
            <a:r>
              <a:rPr b="1" lang="en-US" sz="3600" spc="-1" strike="noStrike">
                <a:solidFill>
                  <a:srgbClr val="0088fe"/>
                </a:solidFill>
                <a:latin typeface="Arial"/>
                <a:ea typeface="Arial"/>
              </a:rPr>
              <a:t>The Java Plug-in</a:t>
            </a:r>
            <a:endParaRPr b="0" lang="en-US" sz="3600" spc="-1" strike="noStrike">
              <a:solidFill>
                <a:srgbClr val="000000"/>
              </a:solidFill>
              <a:latin typeface="Arial"/>
            </a:endParaRPr>
          </a:p>
        </p:txBody>
      </p:sp>
      <p:sp>
        <p:nvSpPr>
          <p:cNvPr id="196" name=""/>
          <p:cNvSpPr txBox="1"/>
          <p:nvPr/>
        </p:nvSpPr>
        <p:spPr>
          <a:xfrm>
            <a:off x="1076400" y="1906560"/>
            <a:ext cx="7772400" cy="3850560"/>
          </a:xfrm>
          <a:prstGeom prst="rect">
            <a:avLst/>
          </a:prstGeom>
          <a:noFill/>
          <a:ln w="0">
            <a:noFill/>
          </a:ln>
        </p:spPr>
        <p:txBody>
          <a:bodyPr lIns="0" rIns="0" tIns="0" bIns="0" anchor="t">
            <a:noAutofit/>
          </a:bodyPr>
          <a:p>
            <a:pPr marL="320760" indent="-320760">
              <a:lnSpc>
                <a:spcPct val="120000"/>
              </a:lnSpc>
              <a:spcBef>
                <a:spcPts val="479"/>
              </a:spcBef>
              <a:buClr>
                <a:srgbClr val="fc0128"/>
              </a:buClr>
              <a:buFont typeface="Wingdings"/>
              <a:buChar char=""/>
            </a:pPr>
            <a:r>
              <a:rPr b="0" i="1" lang="en-US" sz="2400" spc="-1" strike="noStrike">
                <a:solidFill>
                  <a:srgbClr val="000000"/>
                </a:solidFill>
                <a:latin typeface="Arial"/>
                <a:ea typeface="Arial"/>
              </a:rPr>
              <a:t>Java Plug-in </a:t>
            </a:r>
            <a:r>
              <a:rPr b="0" lang="en-US" sz="2400" spc="-1" strike="noStrike">
                <a:solidFill>
                  <a:srgbClr val="000000"/>
                </a:solidFill>
                <a:latin typeface="Arial"/>
                <a:ea typeface="Arial"/>
              </a:rPr>
              <a:t>is a software product from </a:t>
            </a:r>
            <a:r>
              <a:rPr b="1" lang="en-US" sz="2400" spc="-1" strike="noStrike">
                <a:solidFill>
                  <a:srgbClr val="000000"/>
                </a:solidFill>
                <a:latin typeface="Arial"/>
                <a:ea typeface="Arial"/>
              </a:rPr>
              <a:t>Sun Microsystems Inc. </a:t>
            </a:r>
            <a:r>
              <a:rPr b="0" lang="en-US" sz="2400" spc="-1" strike="noStrike">
                <a:solidFill>
                  <a:srgbClr val="000000"/>
                </a:solidFill>
                <a:latin typeface="Arial"/>
                <a:ea typeface="Arial"/>
              </a:rPr>
              <a:t>("Activator" project)</a:t>
            </a:r>
            <a:endParaRPr b="0" lang="en-US" sz="2400" spc="-1" strike="noStrike">
              <a:solidFill>
                <a:srgbClr val="000000"/>
              </a:solidFill>
              <a:latin typeface="Arial"/>
            </a:endParaRPr>
          </a:p>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It enables web page authors to specify the use of </a:t>
            </a:r>
            <a:r>
              <a:rPr b="1" lang="en-US" sz="2400" spc="-1" strike="noStrike">
                <a:solidFill>
                  <a:srgbClr val="000000"/>
                </a:solidFill>
                <a:latin typeface="Arial"/>
                <a:ea typeface="Arial"/>
              </a:rPr>
              <a:t>Sun's JRE </a:t>
            </a:r>
            <a:r>
              <a:rPr b="0" lang="en-US" sz="2400" spc="-1" strike="noStrike">
                <a:solidFill>
                  <a:srgbClr val="000000"/>
                </a:solidFill>
                <a:latin typeface="Arial"/>
                <a:ea typeface="Arial"/>
              </a:rPr>
              <a:t>instead of the default Java runtime environment for a given web page</a:t>
            </a:r>
            <a:endParaRPr b="0" lang="en-US" sz="2400" spc="-1" strike="noStrike">
              <a:solidFill>
                <a:srgbClr val="000000"/>
              </a:solidFill>
              <a:latin typeface="Arial"/>
            </a:endParaRPr>
          </a:p>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This ensures a </a:t>
            </a:r>
            <a:r>
              <a:rPr b="1" lang="en-US" sz="2400" spc="-1" strike="noStrike">
                <a:solidFill>
                  <a:srgbClr val="000000"/>
                </a:solidFill>
                <a:latin typeface="Arial"/>
                <a:ea typeface="Arial"/>
              </a:rPr>
              <a:t>full JDK1.1 compatibility </a:t>
            </a:r>
            <a:r>
              <a:rPr b="0" lang="en-US" sz="2400" spc="-1" strike="noStrike">
                <a:solidFill>
                  <a:srgbClr val="000000"/>
                </a:solidFill>
                <a:latin typeface="Arial"/>
                <a:ea typeface="Arial"/>
              </a:rPr>
              <a:t>(for example support for JNI)</a:t>
            </a:r>
            <a:endParaRPr b="0" lang="en-US" sz="2400" spc="-1" strike="noStrike">
              <a:solidFill>
                <a:srgbClr val="000000"/>
              </a:solidFill>
              <a:latin typeface="Arial"/>
            </a:endParaRPr>
          </a:p>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It works either in </a:t>
            </a:r>
            <a:r>
              <a:rPr b="1" lang="en-US" sz="2400" spc="-1" strike="noStrike">
                <a:solidFill>
                  <a:srgbClr val="000000"/>
                </a:solidFill>
                <a:latin typeface="Arial"/>
                <a:ea typeface="Arial"/>
              </a:rPr>
              <a:t>Netscape Navigator </a:t>
            </a:r>
            <a:r>
              <a:rPr b="0" lang="en-US" sz="2400" spc="-1" strike="noStrike">
                <a:solidFill>
                  <a:srgbClr val="000000"/>
                </a:solidFill>
                <a:latin typeface="Arial"/>
                <a:ea typeface="Arial"/>
              </a:rPr>
              <a:t>or in </a:t>
            </a:r>
            <a:r>
              <a:rPr b="1" lang="en-US" sz="2400" spc="-1" strike="noStrike">
                <a:solidFill>
                  <a:srgbClr val="000000"/>
                </a:solidFill>
                <a:latin typeface="Arial"/>
                <a:ea typeface="Arial"/>
              </a:rPr>
              <a:t>Internet Explor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ff0"/>
        </a:solidFill>
      </p:bgPr>
    </p:bg>
    <p:spTree>
      <p:nvGrpSpPr>
        <p:cNvPr id="1" name=""/>
        <p:cNvGrpSpPr/>
        <p:nvPr/>
      </p:nvGrpSpPr>
      <p:grpSpPr>
        <a:xfrm>
          <a:off x="0" y="0"/>
          <a:ext cx="0" cy="0"/>
          <a:chOff x="0" y="0"/>
          <a:chExt cx="0" cy="0"/>
        </a:xfrm>
      </p:grpSpPr>
      <p:sp>
        <p:nvSpPr>
          <p:cNvPr id="197" name=""/>
          <p:cNvSpPr txBox="1"/>
          <p:nvPr/>
        </p:nvSpPr>
        <p:spPr>
          <a:xfrm>
            <a:off x="1076400" y="314280"/>
            <a:ext cx="7772400" cy="701640"/>
          </a:xfrm>
          <a:prstGeom prst="rect">
            <a:avLst/>
          </a:prstGeom>
          <a:noFill/>
          <a:ln w="0">
            <a:noFill/>
          </a:ln>
        </p:spPr>
        <p:txBody>
          <a:bodyPr lIns="0" rIns="0" tIns="0" bIns="0" anchor="t">
            <a:noAutofit/>
          </a:bodyPr>
          <a:p>
            <a:pPr algn="ctr">
              <a:lnSpc>
                <a:spcPct val="100000"/>
              </a:lnSpc>
            </a:pPr>
            <a:r>
              <a:rPr b="1" lang="en-US" sz="3600" spc="-1" strike="noStrike">
                <a:solidFill>
                  <a:srgbClr val="0088fe"/>
                </a:solidFill>
                <a:latin typeface="Arial"/>
                <a:ea typeface="Arial"/>
              </a:rPr>
              <a:t>How does it work?</a:t>
            </a:r>
            <a:endParaRPr b="0" lang="en-US" sz="3600" spc="-1" strike="noStrike">
              <a:solidFill>
                <a:srgbClr val="000000"/>
              </a:solidFill>
              <a:latin typeface="Arial"/>
            </a:endParaRPr>
          </a:p>
        </p:txBody>
      </p:sp>
      <p:sp>
        <p:nvSpPr>
          <p:cNvPr id="198" name=""/>
          <p:cNvSpPr txBox="1"/>
          <p:nvPr/>
        </p:nvSpPr>
        <p:spPr>
          <a:xfrm>
            <a:off x="1076400" y="1906560"/>
            <a:ext cx="7772400" cy="3972240"/>
          </a:xfrm>
          <a:prstGeom prst="rect">
            <a:avLst/>
          </a:prstGeom>
          <a:noFill/>
          <a:ln w="0">
            <a:noFill/>
          </a:ln>
        </p:spPr>
        <p:txBody>
          <a:bodyPr lIns="0" rIns="0" tIns="0" bIns="0" anchor="t">
            <a:noAutofit/>
          </a:bodyPr>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When the browser first encounters a web page specifying the </a:t>
            </a:r>
            <a:r>
              <a:rPr b="0" i="1" lang="en-US" sz="2400" spc="-1" strike="noStrike">
                <a:solidFill>
                  <a:srgbClr val="000000"/>
                </a:solidFill>
                <a:latin typeface="Arial"/>
                <a:ea typeface="Arial"/>
              </a:rPr>
              <a:t>Java Plug-in</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400" spc="-1" strike="noStrike">
                <a:solidFill>
                  <a:srgbClr val="000000"/>
                </a:solidFill>
                <a:latin typeface="Arial"/>
                <a:ea typeface="Arial"/>
              </a:rPr>
              <a:t>ask if the user agrees to automatically download the software</a:t>
            </a:r>
            <a:endParaRPr b="0" lang="en-US" sz="2400" spc="-1" strike="noStrike">
              <a:solidFill>
                <a:srgbClr val="000000"/>
              </a:solidFill>
              <a:latin typeface="Arial"/>
            </a:endParaRPr>
          </a:p>
          <a:p>
            <a:pPr lvl="2" marL="1066680" indent="-212760">
              <a:lnSpc>
                <a:spcPct val="120000"/>
              </a:lnSpc>
              <a:spcBef>
                <a:spcPts val="479"/>
              </a:spcBef>
              <a:buClr>
                <a:srgbClr val="fdd900"/>
              </a:buClr>
              <a:buFont typeface="Wingdings"/>
              <a:buChar char=""/>
            </a:pPr>
            <a:r>
              <a:rPr b="0" lang="en-US" sz="2400" spc="-1" strike="noStrike">
                <a:solidFill>
                  <a:srgbClr val="000000"/>
                </a:solidFill>
                <a:latin typeface="Arial"/>
                <a:ea typeface="Arial"/>
              </a:rPr>
              <a:t>standard plug-in for </a:t>
            </a:r>
            <a:r>
              <a:rPr b="1" lang="en-US" sz="2400" spc="-1" strike="noStrike">
                <a:solidFill>
                  <a:srgbClr val="000000"/>
                </a:solidFill>
                <a:latin typeface="Arial"/>
                <a:ea typeface="Arial"/>
              </a:rPr>
              <a:t>Netscape Navigator</a:t>
            </a:r>
            <a:endParaRPr b="0" lang="en-US" sz="2400" spc="-1" strike="noStrike">
              <a:solidFill>
                <a:srgbClr val="000000"/>
              </a:solidFill>
              <a:latin typeface="Arial"/>
            </a:endParaRPr>
          </a:p>
          <a:p>
            <a:pPr lvl="2" marL="1066680" indent="-212760">
              <a:lnSpc>
                <a:spcPct val="120000"/>
              </a:lnSpc>
              <a:spcBef>
                <a:spcPts val="479"/>
              </a:spcBef>
              <a:buClr>
                <a:srgbClr val="fdd900"/>
              </a:buClr>
              <a:buFont typeface="Wingdings"/>
              <a:buChar char=""/>
            </a:pPr>
            <a:r>
              <a:rPr b="0" lang="en-US" sz="2400" spc="-1" strike="noStrike">
                <a:solidFill>
                  <a:srgbClr val="000000"/>
                </a:solidFill>
                <a:latin typeface="Arial"/>
                <a:ea typeface="Arial"/>
              </a:rPr>
              <a:t>ActiveX control for </a:t>
            </a:r>
            <a:r>
              <a:rPr b="1" lang="en-US" sz="2400" spc="-1" strike="noStrike">
                <a:solidFill>
                  <a:srgbClr val="000000"/>
                </a:solidFill>
                <a:latin typeface="Arial"/>
                <a:ea typeface="Arial"/>
              </a:rPr>
              <a:t>Internet Explorer</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400" spc="-1" strike="noStrike">
                <a:solidFill>
                  <a:srgbClr val="000000"/>
                </a:solidFill>
                <a:latin typeface="Arial"/>
                <a:ea typeface="Arial"/>
              </a:rPr>
              <a:t>install the software</a:t>
            </a:r>
            <a:endParaRPr b="0" lang="en-US" sz="2400" spc="-1" strike="noStrike">
              <a:solidFill>
                <a:srgbClr val="000000"/>
              </a:solidFill>
              <a:latin typeface="Arial"/>
            </a:endParaRPr>
          </a:p>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Then the user can start the </a:t>
            </a:r>
            <a:r>
              <a:rPr b="0" i="1" lang="en-US" sz="2400" spc="-1" strike="noStrike">
                <a:solidFill>
                  <a:srgbClr val="000000"/>
                </a:solidFill>
                <a:latin typeface="Arial"/>
                <a:ea typeface="Arial"/>
              </a:rPr>
              <a:t>Java Plug-in </a:t>
            </a:r>
            <a:r>
              <a:rPr b="0" lang="en-US" sz="2400" spc="-1" strike="noStrike">
                <a:solidFill>
                  <a:srgbClr val="000000"/>
                </a:solidFill>
                <a:latin typeface="Arial"/>
                <a:ea typeface="Arial"/>
              </a:rPr>
              <a:t>control panel to select the desired locally installed J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ff0"/>
        </a:solidFill>
      </p:bgPr>
    </p:bg>
    <p:spTree>
      <p:nvGrpSpPr>
        <p:cNvPr id="1" name=""/>
        <p:cNvGrpSpPr/>
        <p:nvPr/>
      </p:nvGrpSpPr>
      <p:grpSpPr>
        <a:xfrm>
          <a:off x="0" y="0"/>
          <a:ext cx="0" cy="0"/>
          <a:chOff x="0" y="0"/>
          <a:chExt cx="0" cy="0"/>
        </a:xfrm>
      </p:grpSpPr>
      <p:sp>
        <p:nvSpPr>
          <p:cNvPr id="199" name=""/>
          <p:cNvSpPr txBox="1"/>
          <p:nvPr/>
        </p:nvSpPr>
        <p:spPr>
          <a:xfrm>
            <a:off x="1076400" y="314280"/>
            <a:ext cx="7772400" cy="1024200"/>
          </a:xfrm>
          <a:prstGeom prst="rect">
            <a:avLst/>
          </a:prstGeom>
          <a:noFill/>
          <a:ln w="0">
            <a:noFill/>
          </a:ln>
        </p:spPr>
        <p:txBody>
          <a:bodyPr lIns="0" rIns="0" tIns="0" bIns="0" anchor="t">
            <a:noAutofit/>
          </a:bodyPr>
          <a:p>
            <a:pPr algn="ctr">
              <a:lnSpc>
                <a:spcPct val="100000"/>
              </a:lnSpc>
            </a:pPr>
            <a:r>
              <a:rPr b="1" lang="en-US" sz="3600" spc="-1" strike="noStrike">
                <a:solidFill>
                  <a:srgbClr val="0088fe"/>
                </a:solidFill>
                <a:latin typeface="Arial"/>
                <a:ea typeface="Arial"/>
              </a:rPr>
              <a:t>How to specify the use of the</a:t>
            </a:r>
            <a:br>
              <a:rPr sz="3600"/>
            </a:br>
            <a:r>
              <a:rPr b="1" i="1" lang="en-US" sz="3600" spc="-1" strike="noStrike">
                <a:solidFill>
                  <a:srgbClr val="0088fe"/>
                </a:solidFill>
                <a:latin typeface="Arial"/>
                <a:ea typeface="Arial"/>
              </a:rPr>
              <a:t>Java Plug-in </a:t>
            </a:r>
            <a:r>
              <a:rPr b="1" lang="en-US" sz="3600" spc="-1" strike="noStrike">
                <a:solidFill>
                  <a:srgbClr val="0088fe"/>
                </a:solidFill>
                <a:latin typeface="Arial"/>
                <a:ea typeface="Arial"/>
              </a:rPr>
              <a:t>in a web page?</a:t>
            </a:r>
            <a:endParaRPr b="0" lang="en-US" sz="3600" spc="-1" strike="noStrike">
              <a:solidFill>
                <a:srgbClr val="000000"/>
              </a:solidFill>
              <a:latin typeface="Arial"/>
            </a:endParaRPr>
          </a:p>
        </p:txBody>
      </p:sp>
      <p:sp>
        <p:nvSpPr>
          <p:cNvPr id="200" name=""/>
          <p:cNvSpPr txBox="1"/>
          <p:nvPr/>
        </p:nvSpPr>
        <p:spPr>
          <a:xfrm>
            <a:off x="1076400" y="1906560"/>
            <a:ext cx="7772400" cy="3657600"/>
          </a:xfrm>
          <a:prstGeom prst="rect">
            <a:avLst/>
          </a:prstGeom>
          <a:noFill/>
          <a:ln w="0">
            <a:noFill/>
          </a:ln>
        </p:spPr>
        <p:txBody>
          <a:bodyPr lIns="0" rIns="0" tIns="0" bIns="0" anchor="t">
            <a:noAutofit/>
          </a:bodyPr>
          <a:p>
            <a:pPr marL="320760" indent="-320760">
              <a:lnSpc>
                <a:spcPct val="120000"/>
              </a:lnSpc>
              <a:spcBef>
                <a:spcPts val="479"/>
              </a:spcBef>
              <a:buClr>
                <a:srgbClr val="fc0128"/>
              </a:buClr>
              <a:buFont typeface="Wingdings"/>
              <a:buChar char=""/>
            </a:pPr>
            <a:r>
              <a:rPr b="1" lang="en-US" sz="2400" spc="-1" strike="noStrike">
                <a:solidFill>
                  <a:srgbClr val="000000"/>
                </a:solidFill>
                <a:latin typeface="Arial"/>
                <a:ea typeface="Arial"/>
              </a:rPr>
              <a:t>Internet Explorer</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400" spc="-1" strike="noStrike">
                <a:solidFill>
                  <a:srgbClr val="000000"/>
                </a:solidFill>
                <a:latin typeface="Arial"/>
                <a:ea typeface="Arial"/>
              </a:rPr>
              <a:t>using the </a:t>
            </a:r>
            <a:r>
              <a:rPr b="1" lang="en-US" sz="2400" spc="-1" strike="noStrike">
                <a:solidFill>
                  <a:srgbClr val="000000"/>
                </a:solidFill>
                <a:latin typeface="Courier New"/>
                <a:ea typeface="Courier New"/>
              </a:rPr>
              <a:t>&lt;OBJECT&gt; </a:t>
            </a:r>
            <a:r>
              <a:rPr b="0" lang="en-US" sz="2400" spc="-1" strike="noStrike">
                <a:solidFill>
                  <a:srgbClr val="000000"/>
                </a:solidFill>
                <a:latin typeface="Arial"/>
                <a:ea typeface="Arial"/>
              </a:rPr>
              <a:t>tag</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20760" indent="-320760">
              <a:lnSpc>
                <a:spcPct val="120000"/>
              </a:lnSpc>
              <a:spcBef>
                <a:spcPts val="479"/>
              </a:spcBef>
            </a:pPr>
            <a:r>
              <a:rPr b="1" lang="en-US" sz="1600" spc="-1" strike="noStrike">
                <a:solidFill>
                  <a:srgbClr val="000000"/>
                </a:solidFill>
                <a:latin typeface="Arial"/>
                <a:ea typeface="Arial"/>
              </a:rPr>
              <a:t>&lt;OBJECT classid="clsid:8AD9C840-044E-11D1-B3E9-00805F499D93"</a:t>
            </a:r>
            <a:endParaRPr b="0" lang="en-US" sz="1600" spc="-1" strike="noStrike">
              <a:solidFill>
                <a:srgbClr val="000000"/>
              </a:solidFill>
              <a:latin typeface="Arial"/>
            </a:endParaRPr>
          </a:p>
          <a:p>
            <a:pPr marL="320760" indent="-320760">
              <a:lnSpc>
                <a:spcPct val="120000"/>
              </a:lnSpc>
              <a:spcBef>
                <a:spcPts val="479"/>
              </a:spcBef>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width="650" height="700" align="center"</a:t>
            </a:r>
            <a:endParaRPr b="0" lang="en-US" sz="1600" spc="-1" strike="noStrike">
              <a:solidFill>
                <a:srgbClr val="000000"/>
              </a:solidFill>
              <a:latin typeface="Arial"/>
            </a:endParaRPr>
          </a:p>
          <a:p>
            <a:pPr marL="320760" indent="-320760">
              <a:lnSpc>
                <a:spcPct val="120000"/>
              </a:lnSpc>
              <a:spcBef>
                <a:spcPts val="479"/>
              </a:spcBef>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lt;PARAM NAME="type" VALUE="application/x-java-applet;version=1.1"&gt;</a:t>
            </a:r>
            <a:endParaRPr b="0" lang="en-US" sz="1600" spc="-1" strike="noStrike">
              <a:solidFill>
                <a:srgbClr val="000000"/>
              </a:solidFill>
              <a:latin typeface="Arial"/>
            </a:endParaRPr>
          </a:p>
          <a:p>
            <a:pPr marL="320760" indent="-320760">
              <a:lnSpc>
                <a:spcPct val="120000"/>
              </a:lnSpc>
              <a:spcBef>
                <a:spcPts val="479"/>
              </a:spcBef>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lt;PARAM NAME="code" VALUE="toto.class"&gt;</a:t>
            </a:r>
            <a:endParaRPr b="0" lang="en-US" sz="1600" spc="-1" strike="noStrike">
              <a:solidFill>
                <a:srgbClr val="000000"/>
              </a:solidFill>
              <a:latin typeface="Arial"/>
            </a:endParaRPr>
          </a:p>
          <a:p>
            <a:pPr marL="320760" indent="-320760">
              <a:lnSpc>
                <a:spcPct val="120000"/>
              </a:lnSpc>
              <a:spcBef>
                <a:spcPts val="479"/>
              </a:spcBef>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lt;PARAM NAME="archive" VALUE="MySignedApplet.jar"&gt;</a:t>
            </a:r>
            <a:endParaRPr b="0" lang="en-US" sz="1600" spc="-1" strike="noStrike">
              <a:solidFill>
                <a:srgbClr val="000000"/>
              </a:solidFill>
              <a:latin typeface="Arial"/>
            </a:endParaRPr>
          </a:p>
          <a:p>
            <a:pPr marL="320760" indent="-320760">
              <a:lnSpc>
                <a:spcPct val="120000"/>
              </a:lnSpc>
              <a:spcBef>
                <a:spcPts val="479"/>
              </a:spcBef>
            </a:pPr>
            <a:r>
              <a:rPr b="1" lang="en-US" sz="1600" spc="-1" strike="noStrike">
                <a:solidFill>
                  <a:srgbClr val="000000"/>
                </a:solidFill>
                <a:latin typeface="Arial"/>
                <a:ea typeface="Arial"/>
              </a:rPr>
              <a:t>&lt;/OBJECT&g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ff0"/>
        </a:solidFill>
      </p:bgPr>
    </p:bg>
    <p:spTree>
      <p:nvGrpSpPr>
        <p:cNvPr id="1" name=""/>
        <p:cNvGrpSpPr/>
        <p:nvPr/>
      </p:nvGrpSpPr>
      <p:grpSpPr>
        <a:xfrm>
          <a:off x="0" y="0"/>
          <a:ext cx="0" cy="0"/>
          <a:chOff x="0" y="0"/>
          <a:chExt cx="0" cy="0"/>
        </a:xfrm>
      </p:grpSpPr>
      <p:sp>
        <p:nvSpPr>
          <p:cNvPr id="201" name=""/>
          <p:cNvSpPr txBox="1"/>
          <p:nvPr/>
        </p:nvSpPr>
        <p:spPr>
          <a:xfrm>
            <a:off x="1076400" y="314280"/>
            <a:ext cx="7772400" cy="1024200"/>
          </a:xfrm>
          <a:prstGeom prst="rect">
            <a:avLst/>
          </a:prstGeom>
          <a:noFill/>
          <a:ln w="0">
            <a:noFill/>
          </a:ln>
        </p:spPr>
        <p:txBody>
          <a:bodyPr lIns="0" rIns="0" tIns="0" bIns="0" anchor="t">
            <a:noAutofit/>
          </a:bodyPr>
          <a:p>
            <a:pPr algn="ctr">
              <a:lnSpc>
                <a:spcPct val="100000"/>
              </a:lnSpc>
            </a:pPr>
            <a:r>
              <a:rPr b="1" lang="en-US" sz="3600" spc="-1" strike="noStrike">
                <a:solidFill>
                  <a:srgbClr val="0088fe"/>
                </a:solidFill>
                <a:latin typeface="Arial"/>
                <a:ea typeface="Arial"/>
              </a:rPr>
              <a:t>How to specify the use of the</a:t>
            </a:r>
            <a:br>
              <a:rPr sz="3600"/>
            </a:br>
            <a:r>
              <a:rPr b="1" i="1" lang="en-US" sz="3600" spc="-1" strike="noStrike">
                <a:solidFill>
                  <a:srgbClr val="0088fe"/>
                </a:solidFill>
                <a:latin typeface="Arial"/>
                <a:ea typeface="Arial"/>
              </a:rPr>
              <a:t>Java Plug-in </a:t>
            </a:r>
            <a:r>
              <a:rPr b="1" lang="en-US" sz="3600" spc="-1" strike="noStrike">
                <a:solidFill>
                  <a:srgbClr val="0088fe"/>
                </a:solidFill>
                <a:latin typeface="Arial"/>
                <a:ea typeface="Arial"/>
              </a:rPr>
              <a:t>in a web page?</a:t>
            </a:r>
            <a:endParaRPr b="0" lang="en-US" sz="3600" spc="-1" strike="noStrike">
              <a:solidFill>
                <a:srgbClr val="000000"/>
              </a:solidFill>
              <a:latin typeface="Arial"/>
            </a:endParaRPr>
          </a:p>
        </p:txBody>
      </p:sp>
      <p:sp>
        <p:nvSpPr>
          <p:cNvPr id="202" name=""/>
          <p:cNvSpPr txBox="1"/>
          <p:nvPr/>
        </p:nvSpPr>
        <p:spPr>
          <a:xfrm>
            <a:off x="771480" y="1906560"/>
            <a:ext cx="8381880" cy="3657600"/>
          </a:xfrm>
          <a:prstGeom prst="rect">
            <a:avLst/>
          </a:prstGeom>
          <a:noFill/>
          <a:ln w="0">
            <a:noFill/>
          </a:ln>
        </p:spPr>
        <p:txBody>
          <a:bodyPr lIns="0" rIns="0" tIns="0" bIns="0" anchor="t">
            <a:noAutofit/>
          </a:bodyPr>
          <a:p>
            <a:pPr marL="320760" indent="-320760">
              <a:lnSpc>
                <a:spcPct val="120000"/>
              </a:lnSpc>
              <a:spcBef>
                <a:spcPts val="479"/>
              </a:spcBef>
              <a:buClr>
                <a:srgbClr val="fc0128"/>
              </a:buClr>
              <a:buFont typeface="Wingdings"/>
              <a:buChar char=""/>
            </a:pPr>
            <a:r>
              <a:rPr b="1" lang="en-US" sz="2400" spc="-1" strike="noStrike">
                <a:solidFill>
                  <a:srgbClr val="000000"/>
                </a:solidFill>
                <a:latin typeface="Arial"/>
                <a:ea typeface="Arial"/>
              </a:rPr>
              <a:t>Netscape Navigator</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400" spc="-1" strike="noStrike">
                <a:solidFill>
                  <a:srgbClr val="000000"/>
                </a:solidFill>
                <a:latin typeface="Arial"/>
                <a:ea typeface="Arial"/>
              </a:rPr>
              <a:t>using the </a:t>
            </a:r>
            <a:r>
              <a:rPr b="1" lang="en-US" sz="2400" spc="-1" strike="noStrike">
                <a:solidFill>
                  <a:srgbClr val="000000"/>
                </a:solidFill>
                <a:latin typeface="Courier New"/>
                <a:ea typeface="Courier New"/>
              </a:rPr>
              <a:t>&lt;EMBED&gt; </a:t>
            </a:r>
            <a:r>
              <a:rPr b="0" lang="en-US" sz="2400" spc="-1" strike="noStrike">
                <a:solidFill>
                  <a:srgbClr val="000000"/>
                </a:solidFill>
                <a:latin typeface="Arial"/>
                <a:ea typeface="Arial"/>
              </a:rPr>
              <a:t>tag</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20760" indent="-320760">
              <a:lnSpc>
                <a:spcPct val="100000"/>
              </a:lnSpc>
              <a:spcBef>
                <a:spcPts val="479"/>
              </a:spcBef>
            </a:pPr>
            <a:r>
              <a:rPr b="1" lang="en-US" sz="1600" spc="-1" strike="noStrike">
                <a:solidFill>
                  <a:srgbClr val="000000"/>
                </a:solidFill>
                <a:latin typeface="Arial"/>
                <a:ea typeface="Arial"/>
              </a:rPr>
              <a:t>&lt;EMBED type="application/x-java-applet;version=1.1"</a:t>
            </a:r>
            <a:endParaRPr b="0" lang="en-US" sz="1600" spc="-1" strike="noStrike">
              <a:solidFill>
                <a:srgbClr val="000000"/>
              </a:solidFill>
              <a:latin typeface="Arial"/>
            </a:endParaRPr>
          </a:p>
          <a:p>
            <a:pPr marL="320760" indent="-320760">
              <a:lnSpc>
                <a:spcPct val="100000"/>
              </a:lnSpc>
              <a:spcBef>
                <a:spcPts val="479"/>
              </a:spcBef>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width="650" height="700"</a:t>
            </a:r>
            <a:endParaRPr b="0" lang="en-US" sz="1600" spc="-1" strike="noStrike">
              <a:solidFill>
                <a:srgbClr val="000000"/>
              </a:solidFill>
              <a:latin typeface="Arial"/>
            </a:endParaRPr>
          </a:p>
          <a:p>
            <a:pPr marL="320760" indent="-320760">
              <a:lnSpc>
                <a:spcPct val="100000"/>
              </a:lnSpc>
              <a:spcBef>
                <a:spcPts val="479"/>
              </a:spcBef>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align="center" code="toto.class"</a:t>
            </a:r>
            <a:endParaRPr b="0" lang="en-US" sz="1600" spc="-1" strike="noStrike">
              <a:solidFill>
                <a:srgbClr val="000000"/>
              </a:solidFill>
              <a:latin typeface="Arial"/>
            </a:endParaRPr>
          </a:p>
          <a:p>
            <a:pPr marL="320760" indent="-320760">
              <a:lnSpc>
                <a:spcPct val="100000"/>
              </a:lnSpc>
              <a:spcBef>
                <a:spcPts val="479"/>
              </a:spcBef>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archive="MySignedApplet.jar "</a:t>
            </a:r>
            <a:endParaRPr b="0" lang="en-US" sz="1600" spc="-1" strike="noStrike">
              <a:solidFill>
                <a:srgbClr val="000000"/>
              </a:solidFill>
              <a:latin typeface="Arial"/>
            </a:endParaRPr>
          </a:p>
          <a:p>
            <a:pPr marL="320760" indent="-320760">
              <a:lnSpc>
                <a:spcPct val="100000"/>
              </a:lnSpc>
              <a:spcBef>
                <a:spcPts val="479"/>
              </a:spcBef>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pluginspage="http://java.sun.com/products/plugin/1.1/plugin-install.html"&gt;</a:t>
            </a:r>
            <a:endParaRPr b="0" lang="en-US" sz="1600" spc="-1" strike="noStrike">
              <a:solidFill>
                <a:srgbClr val="000000"/>
              </a:solidFill>
              <a:latin typeface="Arial"/>
            </a:endParaRPr>
          </a:p>
          <a:p>
            <a:pPr marL="320760" indent="-320760">
              <a:lnSpc>
                <a:spcPct val="100000"/>
              </a:lnSpc>
              <a:spcBef>
                <a:spcPts val="479"/>
              </a:spcBef>
            </a:pPr>
            <a:r>
              <a:rPr b="1" lang="en-US" sz="1600" spc="-1" strike="noStrike">
                <a:solidFill>
                  <a:srgbClr val="000000"/>
                </a:solidFill>
                <a:latin typeface="Arial"/>
                <a:ea typeface="Arial"/>
              </a:rPr>
              <a:t>&lt;/EMBED&g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ff0"/>
        </a:solidFill>
      </p:bgPr>
    </p:bg>
    <p:spTree>
      <p:nvGrpSpPr>
        <p:cNvPr id="1" name=""/>
        <p:cNvGrpSpPr/>
        <p:nvPr/>
      </p:nvGrpSpPr>
      <p:grpSpPr>
        <a:xfrm>
          <a:off x="0" y="0"/>
          <a:ext cx="0" cy="0"/>
          <a:chOff x="0" y="0"/>
          <a:chExt cx="0" cy="0"/>
        </a:xfrm>
      </p:grpSpPr>
      <p:sp>
        <p:nvSpPr>
          <p:cNvPr id="95" name=""/>
          <p:cNvSpPr txBox="1"/>
          <p:nvPr/>
        </p:nvSpPr>
        <p:spPr>
          <a:xfrm>
            <a:off x="1076400" y="314280"/>
            <a:ext cx="7772400" cy="701640"/>
          </a:xfrm>
          <a:prstGeom prst="rect">
            <a:avLst/>
          </a:prstGeom>
          <a:noFill/>
          <a:ln w="0">
            <a:noFill/>
          </a:ln>
        </p:spPr>
        <p:txBody>
          <a:bodyPr lIns="0" rIns="0" tIns="0" bIns="0" anchor="t">
            <a:noAutofit/>
          </a:bodyPr>
          <a:p>
            <a:pPr algn="ctr">
              <a:lnSpc>
                <a:spcPct val="100000"/>
              </a:lnSpc>
            </a:pPr>
            <a:r>
              <a:rPr b="1" lang="en-US" sz="3600" spc="-1" strike="noStrike">
                <a:solidFill>
                  <a:srgbClr val="0088fe"/>
                </a:solidFill>
                <a:latin typeface="Arial"/>
                <a:ea typeface="Arial"/>
              </a:rPr>
              <a:t>Java Security Model</a:t>
            </a:r>
            <a:endParaRPr b="0" lang="en-US" sz="3600" spc="-1" strike="noStrike">
              <a:solidFill>
                <a:srgbClr val="000000"/>
              </a:solidFill>
              <a:latin typeface="Arial"/>
            </a:endParaRPr>
          </a:p>
        </p:txBody>
      </p:sp>
      <p:sp>
        <p:nvSpPr>
          <p:cNvPr id="96" name=""/>
          <p:cNvSpPr txBox="1"/>
          <p:nvPr/>
        </p:nvSpPr>
        <p:spPr>
          <a:xfrm>
            <a:off x="1076400" y="1906560"/>
            <a:ext cx="4267080" cy="3657600"/>
          </a:xfrm>
          <a:prstGeom prst="rect">
            <a:avLst/>
          </a:prstGeom>
          <a:noFill/>
          <a:ln w="0">
            <a:noFill/>
          </a:ln>
        </p:spPr>
        <p:txBody>
          <a:bodyPr lIns="0" rIns="0" tIns="0" bIns="0" anchor="t">
            <a:noAutofit/>
          </a:bodyPr>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Low-level features</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400" spc="-1" strike="noStrike">
                <a:solidFill>
                  <a:srgbClr val="000000"/>
                </a:solidFill>
                <a:latin typeface="Arial"/>
                <a:ea typeface="Arial"/>
              </a:rPr>
              <a:t>Language</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400" spc="-1" strike="noStrike">
                <a:solidFill>
                  <a:srgbClr val="000000"/>
                </a:solidFill>
                <a:latin typeface="Arial"/>
                <a:ea typeface="Arial"/>
              </a:rPr>
              <a:t>Verifier</a:t>
            </a:r>
            <a:endParaRPr b="0" lang="en-US" sz="2400" spc="-1" strike="noStrike">
              <a:solidFill>
                <a:srgbClr val="000000"/>
              </a:solidFill>
              <a:latin typeface="Arial"/>
            </a:endParaRPr>
          </a:p>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High-level features</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400" spc="-1" strike="noStrike">
                <a:solidFill>
                  <a:srgbClr val="000000"/>
                </a:solidFill>
                <a:latin typeface="Arial"/>
                <a:ea typeface="Arial"/>
              </a:rPr>
              <a:t>Class Loader</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400" spc="-1" strike="noStrike">
                <a:solidFill>
                  <a:srgbClr val="000000"/>
                </a:solidFill>
                <a:latin typeface="Arial"/>
                <a:ea typeface="Arial"/>
              </a:rPr>
              <a:t>Security Manager</a:t>
            </a:r>
            <a:endParaRPr b="0" lang="en-US" sz="2400" spc="-1" strike="noStrike">
              <a:solidFill>
                <a:srgbClr val="000000"/>
              </a:solidFill>
              <a:latin typeface="Arial"/>
            </a:endParaRPr>
          </a:p>
        </p:txBody>
      </p:sp>
      <p:sp>
        <p:nvSpPr>
          <p:cNvPr id="97" name=""/>
          <p:cNvSpPr txBox="1"/>
          <p:nvPr/>
        </p:nvSpPr>
        <p:spPr>
          <a:xfrm>
            <a:off x="6181560" y="2666880"/>
            <a:ext cx="2362320" cy="609480"/>
          </a:xfrm>
          <a:prstGeom prst="rect">
            <a:avLst/>
          </a:prstGeom>
          <a:solidFill>
            <a:srgbClr val="f39fd1"/>
          </a:solidFill>
          <a:ln w="12600">
            <a:solidFill>
              <a:srgbClr val="000000"/>
            </a:solidFill>
            <a:round/>
          </a:ln>
        </p:spPr>
        <p:txBody>
          <a:bodyPr lIns="0" rIns="0" tIns="0" bIns="0" anchor="t">
            <a:noAutofit/>
          </a:bodyPr>
          <a:p>
            <a:pPr algn="ctr">
              <a:lnSpc>
                <a:spcPct val="100000"/>
              </a:lnSpc>
            </a:pPr>
            <a:r>
              <a:rPr b="0" lang="en-US" sz="1800" spc="-1" strike="noStrike">
                <a:solidFill>
                  <a:srgbClr val="000000"/>
                </a:solidFill>
                <a:latin typeface="Arial"/>
                <a:ea typeface="Arial"/>
              </a:rPr>
              <a:t>Verifier</a:t>
            </a:r>
            <a:endParaRPr b="0" lang="en-US" sz="1800" spc="-1" strike="noStrike">
              <a:solidFill>
                <a:srgbClr val="000000"/>
              </a:solidFill>
              <a:latin typeface="Arial"/>
            </a:endParaRPr>
          </a:p>
        </p:txBody>
      </p:sp>
      <p:sp>
        <p:nvSpPr>
          <p:cNvPr id="98" name=""/>
          <p:cNvSpPr txBox="1"/>
          <p:nvPr/>
        </p:nvSpPr>
        <p:spPr>
          <a:xfrm>
            <a:off x="6181560" y="3505320"/>
            <a:ext cx="2362320" cy="609480"/>
          </a:xfrm>
          <a:prstGeom prst="rect">
            <a:avLst/>
          </a:prstGeom>
          <a:solidFill>
            <a:srgbClr val="f6bf69"/>
          </a:solidFill>
          <a:ln w="12600">
            <a:solidFill>
              <a:srgbClr val="000000"/>
            </a:solidFill>
            <a:round/>
          </a:ln>
        </p:spPr>
        <p:txBody>
          <a:bodyPr lIns="0" rIns="0" tIns="0" bIns="0" anchor="t">
            <a:noAutofit/>
          </a:bodyPr>
          <a:p>
            <a:pPr algn="ctr">
              <a:lnSpc>
                <a:spcPct val="100000"/>
              </a:lnSpc>
            </a:pPr>
            <a:r>
              <a:rPr b="0" lang="en-US" sz="1800" spc="-1" strike="noStrike">
                <a:solidFill>
                  <a:srgbClr val="000000"/>
                </a:solidFill>
                <a:latin typeface="Arial"/>
                <a:ea typeface="Arial"/>
              </a:rPr>
              <a:t>Class Loader</a:t>
            </a:r>
            <a:endParaRPr b="0" lang="en-US" sz="1800" spc="-1" strike="noStrike">
              <a:solidFill>
                <a:srgbClr val="000000"/>
              </a:solidFill>
              <a:latin typeface="Arial"/>
            </a:endParaRPr>
          </a:p>
        </p:txBody>
      </p:sp>
      <p:sp>
        <p:nvSpPr>
          <p:cNvPr id="99" name=""/>
          <p:cNvSpPr txBox="1"/>
          <p:nvPr/>
        </p:nvSpPr>
        <p:spPr>
          <a:xfrm>
            <a:off x="6181560" y="4343400"/>
            <a:ext cx="2362320" cy="609480"/>
          </a:xfrm>
          <a:prstGeom prst="rect">
            <a:avLst/>
          </a:prstGeom>
          <a:solidFill>
            <a:srgbClr val="d49fff"/>
          </a:solidFill>
          <a:ln w="12600">
            <a:solidFill>
              <a:srgbClr val="000000"/>
            </a:solidFill>
            <a:round/>
          </a:ln>
        </p:spPr>
        <p:txBody>
          <a:bodyPr lIns="0" rIns="0" tIns="0" bIns="0" anchor="t">
            <a:noAutofit/>
          </a:bodyPr>
          <a:p>
            <a:pPr algn="ctr">
              <a:lnSpc>
                <a:spcPct val="100000"/>
              </a:lnSpc>
            </a:pPr>
            <a:r>
              <a:rPr b="0" lang="en-US" sz="1800" spc="-1" strike="noStrike">
                <a:solidFill>
                  <a:srgbClr val="000000"/>
                </a:solidFill>
                <a:latin typeface="Arial"/>
                <a:ea typeface="Arial"/>
              </a:rPr>
              <a:t>Security Manag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ff0"/>
        </a:solidFill>
      </p:bgPr>
    </p:bg>
    <p:spTree>
      <p:nvGrpSpPr>
        <p:cNvPr id="1" name=""/>
        <p:cNvGrpSpPr/>
        <p:nvPr/>
      </p:nvGrpSpPr>
      <p:grpSpPr>
        <a:xfrm>
          <a:off x="0" y="0"/>
          <a:ext cx="0" cy="0"/>
          <a:chOff x="0" y="0"/>
          <a:chExt cx="0" cy="0"/>
        </a:xfrm>
      </p:grpSpPr>
      <p:sp>
        <p:nvSpPr>
          <p:cNvPr id="203" name=""/>
          <p:cNvSpPr txBox="1"/>
          <p:nvPr/>
        </p:nvSpPr>
        <p:spPr>
          <a:xfrm>
            <a:off x="1076400" y="314280"/>
            <a:ext cx="7772400" cy="1024200"/>
          </a:xfrm>
          <a:prstGeom prst="rect">
            <a:avLst/>
          </a:prstGeom>
          <a:noFill/>
          <a:ln w="0">
            <a:noFill/>
          </a:ln>
        </p:spPr>
        <p:txBody>
          <a:bodyPr lIns="0" rIns="0" tIns="0" bIns="0" anchor="t">
            <a:noAutofit/>
          </a:bodyPr>
          <a:p>
            <a:pPr algn="ctr">
              <a:lnSpc>
                <a:spcPct val="100000"/>
              </a:lnSpc>
            </a:pPr>
            <a:r>
              <a:rPr b="1" lang="en-US" sz="3600" spc="-1" strike="noStrike">
                <a:solidFill>
                  <a:srgbClr val="0088fe"/>
                </a:solidFill>
                <a:latin typeface="Arial"/>
                <a:ea typeface="Arial"/>
              </a:rPr>
              <a:t>How to specify the use of the</a:t>
            </a:r>
            <a:br>
              <a:rPr sz="3600"/>
            </a:br>
            <a:r>
              <a:rPr b="1" i="1" lang="en-US" sz="3600" spc="-1" strike="noStrike">
                <a:solidFill>
                  <a:srgbClr val="0088fe"/>
                </a:solidFill>
                <a:latin typeface="Arial"/>
                <a:ea typeface="Arial"/>
              </a:rPr>
              <a:t>Java Plug-in </a:t>
            </a:r>
            <a:r>
              <a:rPr b="1" lang="en-US" sz="3600" spc="-1" strike="noStrike">
                <a:solidFill>
                  <a:srgbClr val="0088fe"/>
                </a:solidFill>
                <a:latin typeface="Arial"/>
                <a:ea typeface="Arial"/>
              </a:rPr>
              <a:t>in a web page?</a:t>
            </a:r>
            <a:endParaRPr b="0" lang="en-US" sz="3600" spc="-1" strike="noStrike">
              <a:solidFill>
                <a:srgbClr val="000000"/>
              </a:solidFill>
              <a:latin typeface="Arial"/>
            </a:endParaRPr>
          </a:p>
        </p:txBody>
      </p:sp>
      <p:sp>
        <p:nvSpPr>
          <p:cNvPr id="204" name=""/>
          <p:cNvSpPr txBox="1"/>
          <p:nvPr/>
        </p:nvSpPr>
        <p:spPr>
          <a:xfrm>
            <a:off x="390600" y="1906560"/>
            <a:ext cx="8991720" cy="3951360"/>
          </a:xfrm>
          <a:prstGeom prst="rect">
            <a:avLst/>
          </a:prstGeom>
          <a:noFill/>
          <a:ln w="0">
            <a:noFill/>
          </a:ln>
        </p:spPr>
        <p:txBody>
          <a:bodyPr lIns="0" rIns="0" tIns="0" bIns="0" anchor="t">
            <a:noAutofit/>
          </a:bodyPr>
          <a:p>
            <a:pPr marL="320760" indent="-320760">
              <a:lnSpc>
                <a:spcPct val="100000"/>
              </a:lnSpc>
              <a:spcBef>
                <a:spcPts val="479"/>
              </a:spcBef>
            </a:pPr>
            <a:r>
              <a:rPr b="1" lang="en-US" sz="1600" spc="-1" strike="noStrike">
                <a:solidFill>
                  <a:srgbClr val="000000"/>
                </a:solidFill>
                <a:latin typeface="Arial"/>
                <a:ea typeface="Arial"/>
              </a:rPr>
              <a:t>&lt;OBJECT classid="clsid:8AD9C840-044E-11D1-B3E9-00805F499D93"</a:t>
            </a:r>
            <a:endParaRPr b="0" lang="en-US" sz="1600" spc="-1" strike="noStrike">
              <a:solidFill>
                <a:srgbClr val="000000"/>
              </a:solidFill>
              <a:latin typeface="Arial"/>
            </a:endParaRPr>
          </a:p>
          <a:p>
            <a:pPr marL="320760" indent="-320760">
              <a:lnSpc>
                <a:spcPct val="100000"/>
              </a:lnSpc>
              <a:spcBef>
                <a:spcPts val="479"/>
              </a:spcBef>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width="650" height="700" align="center"</a:t>
            </a:r>
            <a:endParaRPr b="0" lang="en-US" sz="1600" spc="-1" strike="noStrike">
              <a:solidFill>
                <a:srgbClr val="000000"/>
              </a:solidFill>
              <a:latin typeface="Arial"/>
            </a:endParaRPr>
          </a:p>
          <a:p>
            <a:pPr marL="320760" indent="-320760">
              <a:lnSpc>
                <a:spcPct val="100000"/>
              </a:lnSpc>
              <a:spcBef>
                <a:spcPts val="479"/>
              </a:spcBef>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lt;PARAM NAME="type" VALUE="application/x-java-applet;version=1.1"&gt;</a:t>
            </a:r>
            <a:endParaRPr b="0" lang="en-US" sz="1600" spc="-1" strike="noStrike">
              <a:solidFill>
                <a:srgbClr val="000000"/>
              </a:solidFill>
              <a:latin typeface="Arial"/>
            </a:endParaRPr>
          </a:p>
          <a:p>
            <a:pPr marL="320760" indent="-320760">
              <a:lnSpc>
                <a:spcPct val="100000"/>
              </a:lnSpc>
              <a:spcBef>
                <a:spcPts val="479"/>
              </a:spcBef>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lt;PARAM NAME="code" VALUE="toto.class"&gt;</a:t>
            </a:r>
            <a:endParaRPr b="0" lang="en-US" sz="1600" spc="-1" strike="noStrike">
              <a:solidFill>
                <a:srgbClr val="000000"/>
              </a:solidFill>
              <a:latin typeface="Arial"/>
            </a:endParaRPr>
          </a:p>
          <a:p>
            <a:pPr marL="320760" indent="-320760">
              <a:lnSpc>
                <a:spcPct val="100000"/>
              </a:lnSpc>
              <a:spcBef>
                <a:spcPts val="479"/>
              </a:spcBef>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lt;PARAM NAME="archive" VALUE="MySignedApplet.jar"&gt;</a:t>
            </a:r>
            <a:endParaRPr b="0" lang="en-US" sz="1600" spc="-1" strike="noStrike">
              <a:solidFill>
                <a:srgbClr val="000000"/>
              </a:solidFill>
              <a:latin typeface="Arial"/>
            </a:endParaRPr>
          </a:p>
          <a:p>
            <a:pPr marL="320760" indent="-320760">
              <a:lnSpc>
                <a:spcPct val="100000"/>
              </a:lnSpc>
              <a:spcBef>
                <a:spcPts val="479"/>
              </a:spcBef>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lt;COMMENT&gt;</a:t>
            </a:r>
            <a:endParaRPr b="0" lang="en-US" sz="1600" spc="-1" strike="noStrike">
              <a:solidFill>
                <a:srgbClr val="000000"/>
              </a:solidFill>
              <a:latin typeface="Arial"/>
            </a:endParaRPr>
          </a:p>
          <a:p>
            <a:pPr marL="320760" indent="-320760">
              <a:lnSpc>
                <a:spcPct val="100000"/>
              </a:lnSpc>
              <a:spcBef>
                <a:spcPts val="479"/>
              </a:spcBef>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lt;EMBED type="application/x-java-applet;version=1.1" width="650" height="700"</a:t>
            </a:r>
            <a:endParaRPr b="0" lang="en-US" sz="1600" spc="-1" strike="noStrike">
              <a:solidFill>
                <a:srgbClr val="000000"/>
              </a:solidFill>
              <a:latin typeface="Arial"/>
            </a:endParaRPr>
          </a:p>
          <a:p>
            <a:pPr marL="320760" indent="-320760">
              <a:lnSpc>
                <a:spcPct val="100000"/>
              </a:lnSpc>
              <a:spcBef>
                <a:spcPts val="479"/>
              </a:spcBef>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align="center" code="AdminFile.class" archive="MySignedApplet.jar "</a:t>
            </a:r>
            <a:endParaRPr b="0" lang="en-US" sz="1600" spc="-1" strike="noStrike">
              <a:solidFill>
                <a:srgbClr val="000000"/>
              </a:solidFill>
              <a:latin typeface="Arial"/>
            </a:endParaRPr>
          </a:p>
          <a:p>
            <a:pPr marL="320760" indent="-320760">
              <a:lnSpc>
                <a:spcPct val="100000"/>
              </a:lnSpc>
              <a:spcBef>
                <a:spcPts val="479"/>
              </a:spcBef>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pluginspage="http://java.sun.com/products/plugin/1.1/plugin-install.html"&gt;</a:t>
            </a:r>
            <a:endParaRPr b="0" lang="en-US" sz="1600" spc="-1" strike="noStrike">
              <a:solidFill>
                <a:srgbClr val="000000"/>
              </a:solidFill>
              <a:latin typeface="Arial"/>
            </a:endParaRPr>
          </a:p>
          <a:p>
            <a:pPr marL="320760" indent="-320760">
              <a:lnSpc>
                <a:spcPct val="100000"/>
              </a:lnSpc>
              <a:spcBef>
                <a:spcPts val="479"/>
              </a:spcBef>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lt;NOEMBED&gt;</a:t>
            </a:r>
            <a:endParaRPr b="0" lang="en-US" sz="1600" spc="-1" strike="noStrike">
              <a:solidFill>
                <a:srgbClr val="000000"/>
              </a:solidFill>
              <a:latin typeface="Arial"/>
            </a:endParaRPr>
          </a:p>
          <a:p>
            <a:pPr marL="320760" indent="-320760">
              <a:lnSpc>
                <a:spcPct val="100000"/>
              </a:lnSpc>
              <a:spcBef>
                <a:spcPts val="479"/>
              </a:spcBef>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lt;/COMMENT&gt;</a:t>
            </a:r>
            <a:endParaRPr b="0" lang="en-US" sz="1600" spc="-1" strike="noStrike">
              <a:solidFill>
                <a:srgbClr val="000000"/>
              </a:solidFill>
              <a:latin typeface="Arial"/>
            </a:endParaRPr>
          </a:p>
          <a:p>
            <a:pPr marL="320760" indent="-320760">
              <a:lnSpc>
                <a:spcPct val="100000"/>
              </a:lnSpc>
              <a:spcBef>
                <a:spcPts val="479"/>
              </a:spcBef>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No JDK 1.1 support for APPLET!!</a:t>
            </a:r>
            <a:endParaRPr b="0" lang="en-US" sz="1600" spc="-1" strike="noStrike">
              <a:solidFill>
                <a:srgbClr val="000000"/>
              </a:solidFill>
              <a:latin typeface="Arial"/>
            </a:endParaRPr>
          </a:p>
          <a:p>
            <a:pPr marL="320760" indent="-320760">
              <a:lnSpc>
                <a:spcPct val="100000"/>
              </a:lnSpc>
              <a:spcBef>
                <a:spcPts val="479"/>
              </a:spcBef>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lt;/NOEMBED&gt;&lt;/EMBED&gt;</a:t>
            </a:r>
            <a:endParaRPr b="0" lang="en-US" sz="1600" spc="-1" strike="noStrike">
              <a:solidFill>
                <a:srgbClr val="000000"/>
              </a:solidFill>
              <a:latin typeface="Arial"/>
            </a:endParaRPr>
          </a:p>
          <a:p>
            <a:pPr marL="320760" indent="-320760">
              <a:lnSpc>
                <a:spcPct val="100000"/>
              </a:lnSpc>
              <a:spcBef>
                <a:spcPts val="479"/>
              </a:spcBef>
            </a:pPr>
            <a:r>
              <a:rPr b="1" lang="en-US" sz="1600" spc="-1" strike="noStrike">
                <a:solidFill>
                  <a:srgbClr val="000000"/>
                </a:solidFill>
                <a:latin typeface="Arial"/>
                <a:ea typeface="Arial"/>
              </a:rPr>
              <a:t>&lt;/OBJECT&g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ff0"/>
        </a:solidFill>
      </p:bgPr>
    </p:bg>
    <p:spTree>
      <p:nvGrpSpPr>
        <p:cNvPr id="1" name=""/>
        <p:cNvGrpSpPr/>
        <p:nvPr/>
      </p:nvGrpSpPr>
      <p:grpSpPr>
        <a:xfrm>
          <a:off x="0" y="0"/>
          <a:ext cx="0" cy="0"/>
          <a:chOff x="0" y="0"/>
          <a:chExt cx="0" cy="0"/>
        </a:xfrm>
      </p:grpSpPr>
      <p:sp>
        <p:nvSpPr>
          <p:cNvPr id="205" name=""/>
          <p:cNvSpPr txBox="1"/>
          <p:nvPr/>
        </p:nvSpPr>
        <p:spPr>
          <a:xfrm>
            <a:off x="1076400" y="314280"/>
            <a:ext cx="7772400" cy="1024200"/>
          </a:xfrm>
          <a:prstGeom prst="rect">
            <a:avLst/>
          </a:prstGeom>
          <a:noFill/>
          <a:ln w="0">
            <a:noFill/>
          </a:ln>
        </p:spPr>
        <p:txBody>
          <a:bodyPr lIns="0" rIns="0" tIns="0" bIns="0" anchor="t">
            <a:noAutofit/>
          </a:bodyPr>
          <a:p>
            <a:pPr algn="ctr">
              <a:lnSpc>
                <a:spcPct val="100000"/>
              </a:lnSpc>
            </a:pPr>
            <a:r>
              <a:rPr b="1" lang="en-US" sz="3600" spc="-1" strike="noStrike">
                <a:solidFill>
                  <a:srgbClr val="0088fe"/>
                </a:solidFill>
                <a:latin typeface="Arial"/>
                <a:ea typeface="Arial"/>
              </a:rPr>
              <a:t>How to specify the use of the</a:t>
            </a:r>
            <a:br>
              <a:rPr sz="3600"/>
            </a:br>
            <a:r>
              <a:rPr b="1" i="1" lang="en-US" sz="3600" spc="-1" strike="noStrike">
                <a:solidFill>
                  <a:srgbClr val="0088fe"/>
                </a:solidFill>
                <a:latin typeface="Arial"/>
                <a:ea typeface="Arial"/>
              </a:rPr>
              <a:t>Java Plug-in </a:t>
            </a:r>
            <a:r>
              <a:rPr b="1" lang="en-US" sz="3600" spc="-1" strike="noStrike">
                <a:solidFill>
                  <a:srgbClr val="0088fe"/>
                </a:solidFill>
                <a:latin typeface="Arial"/>
                <a:ea typeface="Arial"/>
              </a:rPr>
              <a:t>in a web page?</a:t>
            </a:r>
            <a:endParaRPr b="0" lang="en-US" sz="3600" spc="-1" strike="noStrike">
              <a:solidFill>
                <a:srgbClr val="000000"/>
              </a:solidFill>
              <a:latin typeface="Arial"/>
            </a:endParaRPr>
          </a:p>
        </p:txBody>
      </p:sp>
      <p:sp>
        <p:nvSpPr>
          <p:cNvPr id="206" name=""/>
          <p:cNvSpPr txBox="1"/>
          <p:nvPr/>
        </p:nvSpPr>
        <p:spPr>
          <a:xfrm>
            <a:off x="1076400" y="1906560"/>
            <a:ext cx="7772400" cy="3657600"/>
          </a:xfrm>
          <a:prstGeom prst="rect">
            <a:avLst/>
          </a:prstGeom>
          <a:noFill/>
          <a:ln w="0">
            <a:noFill/>
          </a:ln>
        </p:spPr>
        <p:txBody>
          <a:bodyPr lIns="0" rIns="0" tIns="0" bIns="0" anchor="t">
            <a:noAutofit/>
          </a:bodyPr>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Sun provides a tool that automatically generates this page according to a page containing a simple </a:t>
            </a:r>
            <a:r>
              <a:rPr b="1" lang="en-US" sz="2400" spc="-1" strike="noStrike">
                <a:solidFill>
                  <a:srgbClr val="000000"/>
                </a:solidFill>
                <a:latin typeface="Courier New"/>
                <a:ea typeface="Courier New"/>
              </a:rPr>
              <a:t>&lt;APPLET&gt; </a:t>
            </a:r>
            <a:r>
              <a:rPr b="0" lang="en-US" sz="2400" spc="-1" strike="noStrike">
                <a:solidFill>
                  <a:srgbClr val="000000"/>
                </a:solidFill>
                <a:latin typeface="Arial"/>
                <a:ea typeface="Arial"/>
              </a:rPr>
              <a:t>tag</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400" spc="-1" strike="noStrike">
                <a:solidFill>
                  <a:srgbClr val="000000"/>
                </a:solidFill>
                <a:latin typeface="Arial"/>
                <a:ea typeface="Arial"/>
              </a:rPr>
              <a:t>HTML Converter</a:t>
            </a:r>
            <a:endParaRPr b="0" lang="en-US" sz="2400" spc="-1" strike="noStrike">
              <a:solidFill>
                <a:srgbClr val="000000"/>
              </a:solidFill>
              <a:latin typeface="Arial"/>
            </a:endParaRPr>
          </a:p>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Everything (</a:t>
            </a:r>
            <a:r>
              <a:rPr b="0" i="1" lang="en-US" sz="2400" spc="-1" strike="noStrike">
                <a:solidFill>
                  <a:srgbClr val="000000"/>
                </a:solidFill>
                <a:latin typeface="Arial"/>
                <a:ea typeface="Arial"/>
              </a:rPr>
              <a:t>Java Plug-in</a:t>
            </a:r>
            <a:r>
              <a:rPr b="0" lang="en-US" sz="2400" spc="-1" strike="noStrike">
                <a:solidFill>
                  <a:srgbClr val="000000"/>
                </a:solidFill>
                <a:latin typeface="Arial"/>
                <a:ea typeface="Arial"/>
              </a:rPr>
              <a:t>, HTML Converter, documentation...) is available at</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400" spc="-1" strike="noStrike">
                <a:solidFill>
                  <a:srgbClr val="000000"/>
                </a:solidFill>
                <a:latin typeface="Arial"/>
                <a:ea typeface="Arial"/>
              </a:rPr>
              <a:t>http://java.sun.com/products/plug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ff0"/>
        </a:solidFill>
      </p:bgPr>
    </p:bg>
    <p:spTree>
      <p:nvGrpSpPr>
        <p:cNvPr id="1" name=""/>
        <p:cNvGrpSpPr/>
        <p:nvPr/>
      </p:nvGrpSpPr>
      <p:grpSpPr>
        <a:xfrm>
          <a:off x="0" y="0"/>
          <a:ext cx="0" cy="0"/>
          <a:chOff x="0" y="0"/>
          <a:chExt cx="0" cy="0"/>
        </a:xfrm>
      </p:grpSpPr>
      <p:sp>
        <p:nvSpPr>
          <p:cNvPr id="100" name=""/>
          <p:cNvSpPr txBox="1"/>
          <p:nvPr/>
        </p:nvSpPr>
        <p:spPr>
          <a:xfrm>
            <a:off x="1076400" y="314280"/>
            <a:ext cx="7772400" cy="701640"/>
          </a:xfrm>
          <a:prstGeom prst="rect">
            <a:avLst/>
          </a:prstGeom>
          <a:noFill/>
          <a:ln w="0">
            <a:noFill/>
          </a:ln>
        </p:spPr>
        <p:txBody>
          <a:bodyPr lIns="0" rIns="0" tIns="0" bIns="0" anchor="t">
            <a:noAutofit/>
          </a:bodyPr>
          <a:p>
            <a:pPr algn="ctr">
              <a:lnSpc>
                <a:spcPct val="100000"/>
              </a:lnSpc>
            </a:pPr>
            <a:r>
              <a:rPr b="1" lang="en-US" sz="3600" spc="-1" strike="noStrike">
                <a:solidFill>
                  <a:srgbClr val="0088fe"/>
                </a:solidFill>
                <a:latin typeface="Arial"/>
                <a:ea typeface="Arial"/>
              </a:rPr>
              <a:t>Language Security Features (1/2)</a:t>
            </a:r>
            <a:endParaRPr b="0" lang="en-US" sz="3600" spc="-1" strike="noStrike">
              <a:solidFill>
                <a:srgbClr val="000000"/>
              </a:solidFill>
              <a:latin typeface="Arial"/>
            </a:endParaRPr>
          </a:p>
        </p:txBody>
      </p:sp>
      <p:sp>
        <p:nvSpPr>
          <p:cNvPr id="101" name=""/>
          <p:cNvSpPr txBox="1"/>
          <p:nvPr/>
        </p:nvSpPr>
        <p:spPr>
          <a:xfrm>
            <a:off x="1076400" y="1906560"/>
            <a:ext cx="7772400" cy="4244400"/>
          </a:xfrm>
          <a:prstGeom prst="rect">
            <a:avLst/>
          </a:prstGeom>
          <a:noFill/>
          <a:ln w="0">
            <a:noFill/>
          </a:ln>
        </p:spPr>
        <p:txBody>
          <a:bodyPr lIns="0" rIns="0" tIns="0" bIns="0" anchor="t">
            <a:noAutofit/>
          </a:bodyPr>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Java programs do not explicitly use </a:t>
            </a:r>
            <a:r>
              <a:rPr b="1" lang="en-US" sz="2400" spc="-1" strike="noStrike">
                <a:solidFill>
                  <a:srgbClr val="000000"/>
                </a:solidFill>
                <a:latin typeface="Arial"/>
                <a:ea typeface="Arial"/>
              </a:rPr>
              <a:t>pointers</a:t>
            </a:r>
            <a:r>
              <a:rPr b="0" lang="en-US" sz="2400" spc="-1" strike="noStrike">
                <a:solidFill>
                  <a:srgbClr val="000000"/>
                </a:solidFill>
                <a:latin typeface="Arial"/>
                <a:ea typeface="Arial"/>
              </a:rPr>
              <a:t> (only references) </a:t>
            </a:r>
            <a:endParaRPr b="0" lang="en-US" sz="2400" spc="-1" strike="noStrike">
              <a:solidFill>
                <a:srgbClr val="000000"/>
              </a:solidFill>
              <a:latin typeface="Arial"/>
            </a:endParaRPr>
          </a:p>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High-level support for strings and arrays, so programmers do not need to use </a:t>
            </a:r>
            <a:r>
              <a:rPr b="1" lang="en-US" sz="2400" spc="-1" strike="noStrike">
                <a:solidFill>
                  <a:srgbClr val="000000"/>
                </a:solidFill>
                <a:latin typeface="Arial"/>
                <a:ea typeface="Arial"/>
              </a:rPr>
              <a:t>pointer arithmetic</a:t>
            </a:r>
            <a:endParaRPr b="0" lang="en-US" sz="2400" spc="-1" strike="noStrike">
              <a:solidFill>
                <a:srgbClr val="000000"/>
              </a:solidFill>
              <a:latin typeface="Arial"/>
            </a:endParaRPr>
          </a:p>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Arrays are bound-checked at runtime</a:t>
            </a:r>
            <a:endParaRPr b="0" lang="en-US" sz="2400" spc="-1" strike="noStrike">
              <a:solidFill>
                <a:srgbClr val="000000"/>
              </a:solidFill>
              <a:latin typeface="Arial"/>
            </a:endParaRPr>
          </a:p>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Strings in Java are immutable </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000" spc="-1" strike="noStrike">
                <a:solidFill>
                  <a:srgbClr val="000000"/>
                </a:solidFill>
                <a:latin typeface="Arial"/>
                <a:ea typeface="Arial"/>
              </a:rPr>
              <a:t>This can help prevent common runtime errors that can be exploited by hostile applets. </a:t>
            </a:r>
            <a:endParaRPr b="0" lang="en-US" sz="2000" spc="-1" strike="noStrike">
              <a:solidFill>
                <a:srgbClr val="000000"/>
              </a:solidFill>
              <a:latin typeface="Arial"/>
            </a:endParaRPr>
          </a:p>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Java compilers check to ensure that all type casts are leg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ff0"/>
        </a:solidFill>
      </p:bgPr>
    </p:bg>
    <p:spTree>
      <p:nvGrpSpPr>
        <p:cNvPr id="1" name=""/>
        <p:cNvGrpSpPr/>
        <p:nvPr/>
      </p:nvGrpSpPr>
      <p:grpSpPr>
        <a:xfrm>
          <a:off x="0" y="0"/>
          <a:ext cx="0" cy="0"/>
          <a:chOff x="0" y="0"/>
          <a:chExt cx="0" cy="0"/>
        </a:xfrm>
      </p:grpSpPr>
      <p:sp>
        <p:nvSpPr>
          <p:cNvPr id="102" name=""/>
          <p:cNvSpPr txBox="1"/>
          <p:nvPr/>
        </p:nvSpPr>
        <p:spPr>
          <a:xfrm>
            <a:off x="1076400" y="314280"/>
            <a:ext cx="7772400" cy="701640"/>
          </a:xfrm>
          <a:prstGeom prst="rect">
            <a:avLst/>
          </a:prstGeom>
          <a:noFill/>
          <a:ln w="0">
            <a:noFill/>
          </a:ln>
        </p:spPr>
        <p:txBody>
          <a:bodyPr lIns="0" rIns="0" tIns="0" bIns="0" anchor="t">
            <a:noAutofit/>
          </a:bodyPr>
          <a:p>
            <a:pPr algn="ctr">
              <a:lnSpc>
                <a:spcPct val="100000"/>
              </a:lnSpc>
            </a:pPr>
            <a:r>
              <a:rPr b="1" lang="en-US" sz="3600" spc="-1" strike="noStrike">
                <a:solidFill>
                  <a:srgbClr val="0088fe"/>
                </a:solidFill>
                <a:latin typeface="Arial"/>
                <a:ea typeface="Arial"/>
              </a:rPr>
              <a:t>Language Security Features (2/2)</a:t>
            </a:r>
            <a:endParaRPr b="0" lang="en-US" sz="3600" spc="-1" strike="noStrike">
              <a:solidFill>
                <a:srgbClr val="000000"/>
              </a:solidFill>
              <a:latin typeface="Arial"/>
            </a:endParaRPr>
          </a:p>
        </p:txBody>
      </p:sp>
      <p:sp>
        <p:nvSpPr>
          <p:cNvPr id="103" name=""/>
          <p:cNvSpPr txBox="1"/>
          <p:nvPr/>
        </p:nvSpPr>
        <p:spPr>
          <a:xfrm>
            <a:off x="1076400" y="1906560"/>
            <a:ext cx="7772400" cy="4782240"/>
          </a:xfrm>
          <a:prstGeom prst="rect">
            <a:avLst/>
          </a:prstGeom>
          <a:noFill/>
          <a:ln w="0">
            <a:noFill/>
          </a:ln>
        </p:spPr>
        <p:txBody>
          <a:bodyPr lIns="0" rIns="0" tIns="0" bIns="0" anchor="t">
            <a:noAutofit/>
          </a:bodyPr>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The </a:t>
            </a:r>
            <a:r>
              <a:rPr b="1" lang="en-US" sz="2400" spc="-1" strike="noStrike">
                <a:solidFill>
                  <a:srgbClr val="000000"/>
                </a:solidFill>
                <a:latin typeface="Courier New"/>
                <a:ea typeface="Courier New"/>
              </a:rPr>
              <a:t>final</a:t>
            </a:r>
            <a:r>
              <a:rPr b="0" lang="en-US" sz="2400" spc="-1" strike="noStrike">
                <a:solidFill>
                  <a:srgbClr val="000000"/>
                </a:solidFill>
                <a:latin typeface="Arial"/>
                <a:ea typeface="Arial"/>
              </a:rPr>
              <a:t> modifier can be used when initializing a variable </a:t>
            </a:r>
            <a:endParaRPr b="0" lang="en-US" sz="2400" spc="-1" strike="noStrike">
              <a:solidFill>
                <a:srgbClr val="000000"/>
              </a:solidFill>
              <a:latin typeface="Arial"/>
            </a:endParaRPr>
          </a:p>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This prevents runtime modification of variables</a:t>
            </a:r>
            <a:endParaRPr b="0" lang="en-US" sz="2400" spc="-1" strike="noStrike">
              <a:solidFill>
                <a:srgbClr val="000000"/>
              </a:solidFill>
              <a:latin typeface="Arial"/>
            </a:endParaRPr>
          </a:p>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Java compilers verify that objects are of the correct type before invoking a method on that object</a:t>
            </a:r>
            <a:endParaRPr b="0" lang="en-US" sz="2400" spc="-1" strike="noStrike">
              <a:solidFill>
                <a:srgbClr val="000000"/>
              </a:solidFill>
              <a:latin typeface="Arial"/>
            </a:endParaRPr>
          </a:p>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Java provides four access modifiers for methods and variables</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1" lang="en-US" sz="2000" spc="-1" strike="noStrike">
                <a:solidFill>
                  <a:srgbClr val="000000"/>
                </a:solidFill>
                <a:latin typeface="Courier New"/>
                <a:ea typeface="Courier New"/>
              </a:rPr>
              <a:t>Public</a:t>
            </a:r>
            <a:r>
              <a:rPr b="0" lang="en-US" sz="2000" spc="-1" strike="noStrike">
                <a:solidFill>
                  <a:srgbClr val="000000"/>
                </a:solidFill>
                <a:latin typeface="Arial"/>
                <a:ea typeface="Arial"/>
              </a:rPr>
              <a:t> : accessed anywhere the class name is accessible. </a:t>
            </a:r>
            <a:endParaRPr b="0" lang="en-US" sz="20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1" lang="en-US" sz="2000" spc="-1" strike="noStrike">
                <a:solidFill>
                  <a:srgbClr val="000000"/>
                </a:solidFill>
                <a:latin typeface="Courier New"/>
                <a:ea typeface="Courier New"/>
              </a:rPr>
              <a:t>Protected</a:t>
            </a:r>
            <a:r>
              <a:rPr b="1" lang="en-US" sz="2000" spc="-1" strike="noStrike">
                <a:solidFill>
                  <a:srgbClr val="000000"/>
                </a:solidFill>
                <a:latin typeface="Arial"/>
                <a:ea typeface="Arial"/>
              </a:rPr>
              <a:t> </a:t>
            </a:r>
            <a:r>
              <a:rPr b="0" lang="en-US" sz="2000" spc="-1" strike="noStrike">
                <a:solidFill>
                  <a:srgbClr val="000000"/>
                </a:solidFill>
                <a:latin typeface="Arial"/>
                <a:ea typeface="Arial"/>
              </a:rPr>
              <a:t>: child class access only</a:t>
            </a:r>
            <a:endParaRPr b="0" lang="en-US" sz="20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1" lang="en-US" sz="2000" spc="-1" strike="noStrike">
                <a:solidFill>
                  <a:srgbClr val="000000"/>
                </a:solidFill>
                <a:latin typeface="Courier New"/>
                <a:ea typeface="Courier New"/>
              </a:rPr>
              <a:t>Private</a:t>
            </a:r>
            <a:r>
              <a:rPr b="1" lang="en-US" sz="2000" spc="-1" strike="noStrike">
                <a:solidFill>
                  <a:srgbClr val="000000"/>
                </a:solidFill>
                <a:latin typeface="Arial"/>
                <a:ea typeface="Arial"/>
              </a:rPr>
              <a:t> </a:t>
            </a:r>
            <a:r>
              <a:rPr b="0" lang="en-US" sz="2000" spc="-1" strike="noStrike">
                <a:solidFill>
                  <a:srgbClr val="000000"/>
                </a:solidFill>
                <a:latin typeface="Arial"/>
                <a:ea typeface="Arial"/>
              </a:rPr>
              <a:t>: accessed only within the current class. </a:t>
            </a:r>
            <a:endParaRPr b="0" lang="en-US" sz="20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1" lang="en-US" sz="2000" spc="-1" strike="noStrike">
                <a:solidFill>
                  <a:srgbClr val="000000"/>
                </a:solidFill>
                <a:latin typeface="Courier New"/>
                <a:ea typeface="Courier New"/>
              </a:rPr>
              <a:t>Package</a:t>
            </a:r>
            <a:r>
              <a:rPr b="0" lang="en-US" sz="2000" spc="-1" strike="noStrike">
                <a:solidFill>
                  <a:srgbClr val="000000"/>
                </a:solidFill>
                <a:latin typeface="Arial"/>
                <a:ea typeface="Arial"/>
              </a:rPr>
              <a:t> : accessible only within the defining packag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ff0"/>
        </a:solidFill>
      </p:bgPr>
    </p:bg>
    <p:spTree>
      <p:nvGrpSpPr>
        <p:cNvPr id="1" name=""/>
        <p:cNvGrpSpPr/>
        <p:nvPr/>
      </p:nvGrpSpPr>
      <p:grpSpPr>
        <a:xfrm>
          <a:off x="0" y="0"/>
          <a:ext cx="0" cy="0"/>
          <a:chOff x="0" y="0"/>
          <a:chExt cx="0" cy="0"/>
        </a:xfrm>
      </p:grpSpPr>
      <p:sp>
        <p:nvSpPr>
          <p:cNvPr id="104" name=""/>
          <p:cNvSpPr txBox="1"/>
          <p:nvPr/>
        </p:nvSpPr>
        <p:spPr>
          <a:xfrm>
            <a:off x="1076400" y="314280"/>
            <a:ext cx="7772400" cy="701640"/>
          </a:xfrm>
          <a:prstGeom prst="rect">
            <a:avLst/>
          </a:prstGeom>
          <a:noFill/>
          <a:ln w="0">
            <a:noFill/>
          </a:ln>
        </p:spPr>
        <p:txBody>
          <a:bodyPr lIns="0" rIns="0" tIns="0" bIns="0" anchor="t">
            <a:noAutofit/>
          </a:bodyPr>
          <a:p>
            <a:pPr algn="ctr">
              <a:lnSpc>
                <a:spcPct val="100000"/>
              </a:lnSpc>
            </a:pPr>
            <a:r>
              <a:rPr b="1" lang="en-US" sz="3600" spc="-1" strike="noStrike">
                <a:solidFill>
                  <a:srgbClr val="0088fe"/>
                </a:solidFill>
                <a:latin typeface="Arial"/>
                <a:ea typeface="Arial"/>
              </a:rPr>
              <a:t>The Verifier Principle</a:t>
            </a:r>
            <a:endParaRPr b="0" lang="en-US" sz="3600" spc="-1" strike="noStrike">
              <a:solidFill>
                <a:srgbClr val="000000"/>
              </a:solidFill>
              <a:latin typeface="Arial"/>
            </a:endParaRPr>
          </a:p>
        </p:txBody>
      </p:sp>
      <p:sp>
        <p:nvSpPr>
          <p:cNvPr id="105" name=""/>
          <p:cNvSpPr txBox="1"/>
          <p:nvPr/>
        </p:nvSpPr>
        <p:spPr>
          <a:xfrm>
            <a:off x="3895560" y="1981080"/>
            <a:ext cx="2133720" cy="533520"/>
          </a:xfrm>
          <a:prstGeom prst="rect">
            <a:avLst/>
          </a:prstGeom>
          <a:solidFill>
            <a:srgbClr val="f39fd1"/>
          </a:solidFill>
          <a:ln w="12600">
            <a:solidFill>
              <a:srgbClr val="000000"/>
            </a:solidFill>
            <a:round/>
          </a:ln>
        </p:spPr>
        <p:txBody>
          <a:bodyPr lIns="0" rIns="0" tIns="0" bIns="0" anchor="t">
            <a:noAutofit/>
          </a:bodyPr>
          <a:p>
            <a:pPr algn="ctr">
              <a:lnSpc>
                <a:spcPct val="100000"/>
              </a:lnSpc>
            </a:pPr>
            <a:r>
              <a:rPr b="0" lang="en-US" sz="1800" spc="-1" strike="noStrike">
                <a:solidFill>
                  <a:srgbClr val="000000"/>
                </a:solidFill>
                <a:latin typeface="Arial"/>
                <a:ea typeface="Arial"/>
              </a:rPr>
              <a:t>Compiler</a:t>
            </a:r>
            <a:endParaRPr b="0" lang="en-US" sz="1800" spc="-1" strike="noStrike">
              <a:solidFill>
                <a:srgbClr val="000000"/>
              </a:solidFill>
              <a:latin typeface="Arial"/>
            </a:endParaRPr>
          </a:p>
        </p:txBody>
      </p:sp>
      <p:sp>
        <p:nvSpPr>
          <p:cNvPr id="106" name=""/>
          <p:cNvSpPr txBox="1"/>
          <p:nvPr/>
        </p:nvSpPr>
        <p:spPr>
          <a:xfrm>
            <a:off x="3895560" y="2514600"/>
            <a:ext cx="2133720" cy="533520"/>
          </a:xfrm>
          <a:prstGeom prst="rect">
            <a:avLst/>
          </a:prstGeom>
          <a:solidFill>
            <a:srgbClr val="d49fff"/>
          </a:solidFill>
          <a:ln w="12600">
            <a:solidFill>
              <a:srgbClr val="000000"/>
            </a:solidFill>
            <a:round/>
          </a:ln>
        </p:spPr>
        <p:txBody>
          <a:bodyPr lIns="0" rIns="0" tIns="0" bIns="0" anchor="t">
            <a:noAutofit/>
          </a:bodyPr>
          <a:p>
            <a:pPr algn="ctr">
              <a:lnSpc>
                <a:spcPct val="100000"/>
              </a:lnSpc>
            </a:pPr>
            <a:r>
              <a:rPr b="0" lang="en-US" sz="1800" spc="-1" strike="noStrike">
                <a:solidFill>
                  <a:srgbClr val="000000"/>
                </a:solidFill>
                <a:latin typeface="Arial"/>
                <a:ea typeface="Arial"/>
              </a:rPr>
              <a:t>Code checker</a:t>
            </a:r>
            <a:endParaRPr b="0" lang="en-US" sz="1800" spc="-1" strike="noStrike">
              <a:solidFill>
                <a:srgbClr val="000000"/>
              </a:solidFill>
              <a:latin typeface="Arial"/>
            </a:endParaRPr>
          </a:p>
        </p:txBody>
      </p:sp>
      <p:sp>
        <p:nvSpPr>
          <p:cNvPr id="107" name=""/>
          <p:cNvSpPr txBox="1"/>
          <p:nvPr/>
        </p:nvSpPr>
        <p:spPr>
          <a:xfrm>
            <a:off x="3895560" y="3505320"/>
            <a:ext cx="2133720" cy="762120"/>
          </a:xfrm>
          <a:prstGeom prst="rect">
            <a:avLst/>
          </a:prstGeom>
          <a:solidFill>
            <a:srgbClr val="fafd00"/>
          </a:solidFill>
          <a:ln w="12600">
            <a:solidFill>
              <a:srgbClr val="000000"/>
            </a:solidFill>
            <a:round/>
          </a:ln>
        </p:spPr>
        <p:txBody>
          <a:bodyPr lIns="0" rIns="0" tIns="0" bIns="0" anchor="t">
            <a:noAutofit/>
          </a:bodyPr>
          <a:p>
            <a:pPr algn="ctr">
              <a:lnSpc>
                <a:spcPct val="100000"/>
              </a:lnSpc>
            </a:pPr>
            <a:r>
              <a:rPr b="0" lang="en-US" sz="1800" spc="-1" strike="noStrike">
                <a:solidFill>
                  <a:srgbClr val="000000"/>
                </a:solidFill>
                <a:latin typeface="Arial"/>
                <a:ea typeface="Arial"/>
              </a:rPr>
              <a:t>The Net</a:t>
            </a:r>
            <a:endParaRPr b="0" lang="en-US" sz="1800" spc="-1" strike="noStrike">
              <a:solidFill>
                <a:srgbClr val="000000"/>
              </a:solidFill>
              <a:latin typeface="Arial"/>
            </a:endParaRPr>
          </a:p>
        </p:txBody>
      </p:sp>
      <p:sp>
        <p:nvSpPr>
          <p:cNvPr id="108" name=""/>
          <p:cNvSpPr txBox="1"/>
          <p:nvPr/>
        </p:nvSpPr>
        <p:spPr>
          <a:xfrm>
            <a:off x="3895560" y="4724280"/>
            <a:ext cx="2133720" cy="533520"/>
          </a:xfrm>
          <a:prstGeom prst="rect">
            <a:avLst/>
          </a:prstGeom>
          <a:solidFill>
            <a:srgbClr val="00dfca"/>
          </a:solidFill>
          <a:ln w="12600">
            <a:solidFill>
              <a:srgbClr val="000000"/>
            </a:solidFill>
            <a:round/>
          </a:ln>
        </p:spPr>
        <p:txBody>
          <a:bodyPr lIns="0" rIns="0" tIns="0" bIns="0" anchor="t">
            <a:noAutofit/>
          </a:bodyPr>
          <a:p>
            <a:pPr algn="ctr">
              <a:lnSpc>
                <a:spcPct val="100000"/>
              </a:lnSpc>
            </a:pPr>
            <a:r>
              <a:rPr b="0" lang="en-US" sz="1800" spc="-1" strike="noStrike">
                <a:solidFill>
                  <a:srgbClr val="000000"/>
                </a:solidFill>
                <a:latin typeface="Arial"/>
                <a:ea typeface="Arial"/>
              </a:rPr>
              <a:t>Verifier</a:t>
            </a:r>
            <a:endParaRPr b="0" lang="en-US" sz="1800" spc="-1" strike="noStrike">
              <a:solidFill>
                <a:srgbClr val="000000"/>
              </a:solidFill>
              <a:latin typeface="Arial"/>
            </a:endParaRPr>
          </a:p>
        </p:txBody>
      </p:sp>
      <p:sp>
        <p:nvSpPr>
          <p:cNvPr id="109" name=""/>
          <p:cNvSpPr/>
          <p:nvPr/>
        </p:nvSpPr>
        <p:spPr>
          <a:xfrm>
            <a:off x="4962600" y="152388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 name=""/>
          <p:cNvSpPr/>
          <p:nvPr/>
        </p:nvSpPr>
        <p:spPr>
          <a:xfrm>
            <a:off x="4962600" y="30481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 name=""/>
          <p:cNvSpPr/>
          <p:nvPr/>
        </p:nvSpPr>
        <p:spPr>
          <a:xfrm>
            <a:off x="4962600" y="426708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 name=""/>
          <p:cNvSpPr/>
          <p:nvPr/>
        </p:nvSpPr>
        <p:spPr>
          <a:xfrm>
            <a:off x="4962600" y="52578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 name=""/>
          <p:cNvSpPr txBox="1"/>
          <p:nvPr/>
        </p:nvSpPr>
        <p:spPr>
          <a:xfrm>
            <a:off x="5067360" y="1500120"/>
            <a:ext cx="70488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class</a:t>
            </a:r>
            <a:endParaRPr b="0" lang="en-US" sz="1800" spc="-1" strike="noStrike">
              <a:solidFill>
                <a:srgbClr val="000000"/>
              </a:solidFill>
              <a:latin typeface="Arial"/>
            </a:endParaRPr>
          </a:p>
        </p:txBody>
      </p:sp>
      <p:sp>
        <p:nvSpPr>
          <p:cNvPr id="114" name=""/>
          <p:cNvSpPr txBox="1"/>
          <p:nvPr/>
        </p:nvSpPr>
        <p:spPr>
          <a:xfrm>
            <a:off x="5092560" y="3100320"/>
            <a:ext cx="111132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bytecode</a:t>
            </a:r>
            <a:endParaRPr b="0" lang="en-US" sz="1800" spc="-1" strike="noStrike">
              <a:solidFill>
                <a:srgbClr val="000000"/>
              </a:solidFill>
              <a:latin typeface="Arial"/>
            </a:endParaRPr>
          </a:p>
        </p:txBody>
      </p:sp>
      <p:sp>
        <p:nvSpPr>
          <p:cNvPr id="115" name=""/>
          <p:cNvSpPr txBox="1"/>
          <p:nvPr/>
        </p:nvSpPr>
        <p:spPr>
          <a:xfrm>
            <a:off x="5073480" y="4319640"/>
            <a:ext cx="130320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bytecode ?</a:t>
            </a:r>
            <a:endParaRPr b="0" lang="en-US" sz="1800" spc="-1" strike="noStrike">
              <a:solidFill>
                <a:srgbClr val="000000"/>
              </a:solidFill>
              <a:latin typeface="Arial"/>
            </a:endParaRPr>
          </a:p>
        </p:txBody>
      </p:sp>
      <p:sp>
        <p:nvSpPr>
          <p:cNvPr id="116" name=""/>
          <p:cNvSpPr txBox="1"/>
          <p:nvPr/>
        </p:nvSpPr>
        <p:spPr>
          <a:xfrm>
            <a:off x="5092560" y="5386320"/>
            <a:ext cx="111132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Arial"/>
                <a:ea typeface="Arial"/>
              </a:rPr>
              <a:t>byteco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ff0"/>
        </a:solidFill>
      </p:bgPr>
    </p:bg>
    <p:spTree>
      <p:nvGrpSpPr>
        <p:cNvPr id="1" name=""/>
        <p:cNvGrpSpPr/>
        <p:nvPr/>
      </p:nvGrpSpPr>
      <p:grpSpPr>
        <a:xfrm>
          <a:off x="0" y="0"/>
          <a:ext cx="0" cy="0"/>
          <a:chOff x="0" y="0"/>
          <a:chExt cx="0" cy="0"/>
        </a:xfrm>
      </p:grpSpPr>
      <p:sp>
        <p:nvSpPr>
          <p:cNvPr id="117" name=""/>
          <p:cNvSpPr txBox="1"/>
          <p:nvPr/>
        </p:nvSpPr>
        <p:spPr>
          <a:xfrm>
            <a:off x="1076400" y="314280"/>
            <a:ext cx="7772400" cy="701640"/>
          </a:xfrm>
          <a:prstGeom prst="rect">
            <a:avLst/>
          </a:prstGeom>
          <a:noFill/>
          <a:ln w="0">
            <a:noFill/>
          </a:ln>
        </p:spPr>
        <p:txBody>
          <a:bodyPr lIns="0" rIns="0" tIns="0" bIns="0" anchor="t">
            <a:noAutofit/>
          </a:bodyPr>
          <a:p>
            <a:pPr algn="ctr">
              <a:lnSpc>
                <a:spcPct val="100000"/>
              </a:lnSpc>
            </a:pPr>
            <a:r>
              <a:rPr b="1" lang="en-US" sz="3600" spc="-1" strike="noStrike">
                <a:solidFill>
                  <a:srgbClr val="0088fe"/>
                </a:solidFill>
                <a:latin typeface="Arial"/>
                <a:ea typeface="Arial"/>
              </a:rPr>
              <a:t>The Verifier (1/3)</a:t>
            </a:r>
            <a:endParaRPr b="0" lang="en-US" sz="3600" spc="-1" strike="noStrike">
              <a:solidFill>
                <a:srgbClr val="000000"/>
              </a:solidFill>
              <a:latin typeface="Arial"/>
            </a:endParaRPr>
          </a:p>
        </p:txBody>
      </p:sp>
      <p:sp>
        <p:nvSpPr>
          <p:cNvPr id="118" name=""/>
          <p:cNvSpPr txBox="1"/>
          <p:nvPr/>
        </p:nvSpPr>
        <p:spPr>
          <a:xfrm>
            <a:off x="1076400" y="1906560"/>
            <a:ext cx="7772400" cy="3657600"/>
          </a:xfrm>
          <a:prstGeom prst="rect">
            <a:avLst/>
          </a:prstGeom>
          <a:noFill/>
          <a:ln w="0">
            <a:noFill/>
          </a:ln>
        </p:spPr>
        <p:txBody>
          <a:bodyPr lIns="0" rIns="0" tIns="0" bIns="0" anchor="t">
            <a:noAutofit/>
          </a:bodyPr>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Low-level security is in-part provided by the Verifier which protects against</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000" spc="-1" strike="noStrike">
                <a:solidFill>
                  <a:srgbClr val="000000"/>
                </a:solidFill>
                <a:latin typeface="Arial"/>
                <a:ea typeface="Arial"/>
              </a:rPr>
              <a:t>Hostile or broken compilers</a:t>
            </a:r>
            <a:endParaRPr b="0" lang="en-US" sz="20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000" spc="-1" strike="noStrike">
                <a:solidFill>
                  <a:srgbClr val="000000"/>
                </a:solidFill>
                <a:latin typeface="Arial"/>
                <a:ea typeface="Arial"/>
              </a:rPr>
              <a:t>Changing APIs</a:t>
            </a:r>
            <a:endParaRPr b="0" lang="en-US" sz="20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000" spc="-1" strike="noStrike">
                <a:solidFill>
                  <a:srgbClr val="000000"/>
                </a:solidFill>
                <a:latin typeface="Arial"/>
                <a:ea typeface="Arial"/>
              </a:rPr>
              <a:t>Stack overflow, underflow, etc.</a:t>
            </a:r>
            <a:endParaRPr b="0" lang="en-US" sz="20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000" spc="-1" strike="noStrike">
                <a:solidFill>
                  <a:srgbClr val="000000"/>
                </a:solidFill>
                <a:latin typeface="Arial"/>
                <a:ea typeface="Arial"/>
              </a:rPr>
              <a:t>Improves the speed of the interpret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ff0"/>
        </a:solidFill>
      </p:bgPr>
    </p:bg>
    <p:spTree>
      <p:nvGrpSpPr>
        <p:cNvPr id="1" name=""/>
        <p:cNvGrpSpPr/>
        <p:nvPr/>
      </p:nvGrpSpPr>
      <p:grpSpPr>
        <a:xfrm>
          <a:off x="0" y="0"/>
          <a:ext cx="0" cy="0"/>
          <a:chOff x="0" y="0"/>
          <a:chExt cx="0" cy="0"/>
        </a:xfrm>
      </p:grpSpPr>
      <p:sp>
        <p:nvSpPr>
          <p:cNvPr id="119" name=""/>
          <p:cNvSpPr txBox="1"/>
          <p:nvPr/>
        </p:nvSpPr>
        <p:spPr>
          <a:xfrm>
            <a:off x="1076400" y="314280"/>
            <a:ext cx="7772400" cy="701640"/>
          </a:xfrm>
          <a:prstGeom prst="rect">
            <a:avLst/>
          </a:prstGeom>
          <a:noFill/>
          <a:ln w="0">
            <a:noFill/>
          </a:ln>
        </p:spPr>
        <p:txBody>
          <a:bodyPr lIns="0" rIns="0" tIns="0" bIns="0" anchor="t">
            <a:noAutofit/>
          </a:bodyPr>
          <a:p>
            <a:pPr algn="ctr">
              <a:lnSpc>
                <a:spcPct val="100000"/>
              </a:lnSpc>
            </a:pPr>
            <a:r>
              <a:rPr b="1" lang="en-US" sz="3600" spc="-1" strike="noStrike">
                <a:solidFill>
                  <a:srgbClr val="0088fe"/>
                </a:solidFill>
                <a:latin typeface="Arial"/>
                <a:ea typeface="Arial"/>
              </a:rPr>
              <a:t>The Verifier (2/3)</a:t>
            </a:r>
            <a:endParaRPr b="0" lang="en-US" sz="3600" spc="-1" strike="noStrike">
              <a:solidFill>
                <a:srgbClr val="000000"/>
              </a:solidFill>
              <a:latin typeface="Arial"/>
            </a:endParaRPr>
          </a:p>
        </p:txBody>
      </p:sp>
      <p:sp>
        <p:nvSpPr>
          <p:cNvPr id="120" name=""/>
          <p:cNvSpPr txBox="1"/>
          <p:nvPr/>
        </p:nvSpPr>
        <p:spPr>
          <a:xfrm>
            <a:off x="1076400" y="1906560"/>
            <a:ext cx="7772400" cy="3701520"/>
          </a:xfrm>
          <a:prstGeom prst="rect">
            <a:avLst/>
          </a:prstGeom>
          <a:noFill/>
          <a:ln w="0">
            <a:noFill/>
          </a:ln>
        </p:spPr>
        <p:txBody>
          <a:bodyPr lIns="0" rIns="0" tIns="0" bIns="0" anchor="t">
            <a:noAutofit/>
          </a:bodyPr>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The Verifier is run on any .class files that come from untrusted sources and not on .class files that are loaded from the local hard-drive. </a:t>
            </a:r>
            <a:endParaRPr b="0" lang="en-US" sz="2400" spc="-1" strike="noStrike">
              <a:solidFill>
                <a:srgbClr val="000000"/>
              </a:solidFill>
              <a:latin typeface="Arial"/>
            </a:endParaRPr>
          </a:p>
          <a:p>
            <a:pPr marL="320760" indent="-320760">
              <a:lnSpc>
                <a:spcPct val="120000"/>
              </a:lnSpc>
              <a:spcBef>
                <a:spcPts val="479"/>
              </a:spcBef>
              <a:buClr>
                <a:srgbClr val="fc0128"/>
              </a:buClr>
              <a:buFont typeface="Wingdings"/>
              <a:buChar char=""/>
            </a:pPr>
            <a:r>
              <a:rPr b="0" lang="en-US" sz="2400" spc="-1" strike="noStrike">
                <a:solidFill>
                  <a:srgbClr val="000000"/>
                </a:solidFill>
                <a:latin typeface="Arial"/>
                <a:ea typeface="Arial"/>
              </a:rPr>
              <a:t>The Verifier makes several passes through incoming code: </a:t>
            </a:r>
            <a:endParaRPr b="0" lang="en-US" sz="24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000" spc="-1" strike="noStrike">
                <a:solidFill>
                  <a:srgbClr val="000000"/>
                </a:solidFill>
                <a:latin typeface="Arial"/>
                <a:ea typeface="Arial"/>
              </a:rPr>
              <a:t>Checks the .class files syntactically</a:t>
            </a:r>
            <a:endParaRPr b="0" lang="en-US" sz="20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000" spc="-1" strike="noStrike">
                <a:solidFill>
                  <a:srgbClr val="000000"/>
                </a:solidFill>
                <a:latin typeface="Arial"/>
                <a:ea typeface="Arial"/>
              </a:rPr>
              <a:t>Checks the .class files semantically</a:t>
            </a:r>
            <a:endParaRPr b="0" lang="en-US" sz="20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000" spc="-1" strike="noStrike">
                <a:solidFill>
                  <a:srgbClr val="000000"/>
                </a:solidFill>
                <a:latin typeface="Arial"/>
                <a:ea typeface="Arial"/>
              </a:rPr>
              <a:t>Checks the bytecodes</a:t>
            </a:r>
            <a:endParaRPr b="0" lang="en-US" sz="2000" spc="-1" strike="noStrike">
              <a:solidFill>
                <a:srgbClr val="000000"/>
              </a:solidFill>
              <a:latin typeface="Arial"/>
            </a:endParaRPr>
          </a:p>
          <a:p>
            <a:pPr lvl="1" marL="693720" indent="-266760">
              <a:lnSpc>
                <a:spcPct val="120000"/>
              </a:lnSpc>
              <a:spcBef>
                <a:spcPts val="479"/>
              </a:spcBef>
              <a:buClr>
                <a:srgbClr val="2259ff"/>
              </a:buClr>
              <a:buSzPct val="75000"/>
              <a:buFont typeface="Wingdings"/>
              <a:buChar char=""/>
            </a:pPr>
            <a:r>
              <a:rPr b="0" lang="en-US" sz="2000" spc="-1" strike="noStrike">
                <a:solidFill>
                  <a:srgbClr val="000000"/>
                </a:solidFill>
                <a:latin typeface="Arial"/>
                <a:ea typeface="Arial"/>
              </a:rPr>
              <a:t>Performs runtime checks [optimiz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ff0"/>
        </a:solidFill>
      </p:bgPr>
    </p:bg>
    <p:spTree>
      <p:nvGrpSpPr>
        <p:cNvPr id="1" name=""/>
        <p:cNvGrpSpPr/>
        <p:nvPr/>
      </p:nvGrpSpPr>
      <p:grpSpPr>
        <a:xfrm>
          <a:off x="0" y="0"/>
          <a:ext cx="0" cy="0"/>
          <a:chOff x="0" y="0"/>
          <a:chExt cx="0" cy="0"/>
        </a:xfrm>
      </p:grpSpPr>
      <p:sp>
        <p:nvSpPr>
          <p:cNvPr id="121" name=""/>
          <p:cNvSpPr txBox="1"/>
          <p:nvPr/>
        </p:nvSpPr>
        <p:spPr>
          <a:xfrm>
            <a:off x="1076400" y="314280"/>
            <a:ext cx="7772400" cy="701640"/>
          </a:xfrm>
          <a:prstGeom prst="rect">
            <a:avLst/>
          </a:prstGeom>
          <a:noFill/>
          <a:ln w="0">
            <a:noFill/>
          </a:ln>
        </p:spPr>
        <p:txBody>
          <a:bodyPr lIns="0" rIns="0" tIns="0" bIns="0" anchor="t">
            <a:noAutofit/>
          </a:bodyPr>
          <a:p>
            <a:pPr algn="ctr">
              <a:lnSpc>
                <a:spcPct val="100000"/>
              </a:lnSpc>
            </a:pPr>
            <a:r>
              <a:rPr b="1" lang="en-US" sz="3600" spc="-1" strike="noStrike">
                <a:solidFill>
                  <a:srgbClr val="0088fe"/>
                </a:solidFill>
                <a:latin typeface="Arial"/>
                <a:ea typeface="Arial"/>
              </a:rPr>
              <a:t>The Verifier (3/3)</a:t>
            </a:r>
            <a:endParaRPr b="0" lang="en-US" sz="3600" spc="-1" strike="noStrike">
              <a:solidFill>
                <a:srgbClr val="000000"/>
              </a:solidFill>
              <a:latin typeface="Arial"/>
            </a:endParaRPr>
          </a:p>
        </p:txBody>
      </p:sp>
      <p:sp>
        <p:nvSpPr>
          <p:cNvPr id="122" name=""/>
          <p:cNvSpPr txBox="1"/>
          <p:nvPr/>
        </p:nvSpPr>
        <p:spPr>
          <a:xfrm>
            <a:off x="1076400" y="1906560"/>
            <a:ext cx="7772400" cy="3657600"/>
          </a:xfrm>
          <a:prstGeom prst="rect">
            <a:avLst/>
          </a:prstGeom>
          <a:noFill/>
          <a:ln w="0">
            <a:noFill/>
          </a:ln>
        </p:spPr>
        <p:txBody>
          <a:bodyPr lIns="0" rIns="0" tIns="0" bIns="0" anchor="t">
            <a:noAutofit/>
          </a:bodyPr>
          <a:p>
            <a:pPr marL="320760" indent="-320760">
              <a:lnSpc>
                <a:spcPct val="120000"/>
              </a:lnSpc>
              <a:spcBef>
                <a:spcPts val="479"/>
              </a:spcBef>
              <a:buClr>
                <a:srgbClr val="fc0128"/>
              </a:buClr>
              <a:buFont typeface="Wingdings"/>
              <a:buChar char=""/>
            </a:pPr>
            <a:r>
              <a:rPr b="0" lang="en-US" sz="2000" spc="-1" strike="noStrike">
                <a:solidFill>
                  <a:srgbClr val="000000"/>
                </a:solidFill>
                <a:latin typeface="Arial"/>
                <a:ea typeface="Arial"/>
              </a:rPr>
              <a:t>The Java compiler verifies bytecode generated by other Java compilers and the bytecode created by other programming languages</a:t>
            </a:r>
            <a:endParaRPr b="0" lang="en-US" sz="2000" spc="-1" strike="noStrike">
              <a:solidFill>
                <a:srgbClr val="000000"/>
              </a:solidFill>
              <a:latin typeface="Arial"/>
            </a:endParaRPr>
          </a:p>
          <a:p>
            <a:pPr marL="320760" indent="-320760">
              <a:lnSpc>
                <a:spcPct val="120000"/>
              </a:lnSpc>
              <a:spcBef>
                <a:spcPts val="479"/>
              </a:spcBef>
              <a:buClr>
                <a:srgbClr val="fc0128"/>
              </a:buClr>
              <a:buFont typeface="Wingdings"/>
              <a:buChar char=""/>
            </a:pPr>
            <a:r>
              <a:rPr b="0" lang="en-US" sz="2000" spc="-1" strike="noStrike">
                <a:solidFill>
                  <a:srgbClr val="000000"/>
                </a:solidFill>
                <a:latin typeface="Arial"/>
                <a:ea typeface="Arial"/>
              </a:rPr>
              <a:t>Other languages compiled to Java bytecode are required to conform to the strict typing, the object signatures, the .class file formats, and the predictability of the runtime stack that are all defined by the Java language implementation</a:t>
            </a:r>
            <a:endParaRPr b="0" lang="en-US" sz="2000" spc="-1" strike="noStrike">
              <a:solidFill>
                <a:srgbClr val="000000"/>
              </a:solidFill>
              <a:latin typeface="Arial"/>
            </a:endParaRPr>
          </a:p>
          <a:p>
            <a:pPr marL="320760" indent="-320760">
              <a:lnSpc>
                <a:spcPct val="120000"/>
              </a:lnSpc>
              <a:spcBef>
                <a:spcPts val="479"/>
              </a:spcBef>
              <a:buClr>
                <a:srgbClr val="fc0128"/>
              </a:buClr>
              <a:buFont typeface="Wingdings"/>
              <a:buChar char=""/>
            </a:pPr>
            <a:r>
              <a:rPr b="0" lang="en-US" sz="2000" spc="-1" strike="noStrike">
                <a:solidFill>
                  <a:srgbClr val="000000"/>
                </a:solidFill>
                <a:latin typeface="Arial"/>
                <a:ea typeface="Arial"/>
              </a:rPr>
              <a:t>When classes are loaded into memory, each class is loaded into an isolated namespace, so the memory regions for applets loaded from different network sources are partitioned from each oth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Biget Patrick</dc:creator>
  <dc:description/>
  <dc:language>en-US</dc:language>
  <cp:lastModifiedBy>Biget Patrick</cp:lastModifiedBy>
  <cp:revision>0</cp:revision>
  <dc:subject>Course</dc:subject>
  <dc:title>How to use Java applets making native invocations in Web browsers</dc:title>
</cp:coreProperties>
</file>